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650D-B6B5-4A01-842D-C179CCEA1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6841-604B-42A7-BCFE-9033F2130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90F7-DF89-4E5C-B94C-A97881478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D81B-41FF-4EC4-A8A4-FAD7D5FA5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FE62-A813-417E-8639-AB512B99F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08BF-ED1E-4B53-9E0C-0503B7F95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BF4F-A14A-4F0B-A133-43B599751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A459-AB30-473D-9588-99DCDBE1E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1D3D-225E-42F9-BF63-6041A3CF5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A0E0-D7C8-48EC-9942-8260DEA42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2F6A-2658-432F-9ACD-CD510F657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29CB-B777-4D26-85F5-9DAF3569E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D46E-733C-45A2-B1F8-9BBC5DBE6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28C8-EED7-443A-B20B-FA260F90F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4C88-7D90-4420-B552-06D969088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C24E-6B05-4272-A83F-03A60CD74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EC36-85A1-4789-B745-E201E67D3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4F93-9251-4366-8F1F-A7594FF38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3A19-E8D8-4D65-BF96-44760C963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B6A0-EF72-44C5-BBEF-9290FE435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E89A-179A-457D-87C9-6A0758AD5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4565-6C35-4D52-8435-FD7CECDB5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DF3D-4732-4520-BF54-C862A15DF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TER FEATURES DOES FLORIDA HAVE MORE OF THAN ANY OTHER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52600" y="762120"/>
            <a:ext cx="8038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GRICULTURAL PRODUCT WAS PICTURED ON THE BACK OF THE LINCOLN PENNY FROM 1909 TO 195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62120" y="68580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PERIDOT, THE BIRTHSTONE FOR THE MONTH OF AUGU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QU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MINATING THE T" IS A WINNING STRATEGY IN WHAT SPORT PLAYED ON AN INDOOR COURT AND NAMED FOR ITS SOFT RUBBER 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33520" y="76212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ITICALLY ACCLAIMED RESTAURANT IS LOCATED RIGHT ACROSS THE STREET, AT 103 W. INDIANA  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501480" y="4876920"/>
            <a:ext cx="8153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THAT BEGINS WITH "P" IS ALSO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COMMON LAST NAME IN KOREA, AFTER KIM AND L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S MAGAZINE HAS THE WORLD'S LARGEST WEEKLY CIRCULA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YM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INIEST PLACE IN THE CONTINENTAL U.S. IS FOUND IN THE NATIONAL PARK NAMED FOR WHAT WASHINGTON STATE MOUNTAIN RAN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GRICULTURAL PRODUCT WAS PICTURED ON THE BACK OF THE LINCOLN PENNY FROM 1909 TO 195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ND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04880" y="762120"/>
            <a:ext cx="7734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UNDERGROUND COUNTRY, RULED BY THE QUEEN OF HEARTS, CAN BE ENTERED VIA  A RABBIT HO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762120"/>
            <a:ext cx="79250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TER FEATURES DOES FLORIDA HAVE MORE OF THAN ANY OTHER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28600" y="48769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WINT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PERIDOT, THE BIRTHSTONE FOR THE MONTH OF AUGU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MINATING THE T" IS A WINNING STRATEGY IN WHAT SPORT PLAYED ON AN INDOOR COURT AND NAMED FOR ITS SOFT RUBBER 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ITICALLY ACCLAIMED RESTAURANT IS LOCATED RIGHT ACROSS THE STREET, AT 103 W. INDIANA  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THAT BEGINS WITH "P" IS ALSO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COMMON LAST NAME IN KOREA, AFTER KIM AND LE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S MAGAZINE HAS THE WORLD'S LARGEST WEEKLY CIRCULATI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INIEST PLACE IN THE CONTINENTAL U.S. IS FOUND IN THE NATIONAL PARK NAMED FOR WHAT WASHINGTON STATE MOUNTAIN RAN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UNDERGROUND COUNTRY, RULED BY THE QUEEN OF HEARTS, CAN BE ENTERED VIA A RABBIT HO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0-25T17:47:51Z</dcterms:modified>
  <cp:revision>361</cp:revision>
  <dc:subject/>
  <dc:title>Slide 1</dc:title>
</cp:coreProperties>
</file>