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A0C14-248C-4DAC-A30E-3388D2C1EC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5323B-427F-43C7-91B8-237E0BA9B5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BF643-9C92-4BE8-AF96-CA4FC6E9B1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87A54-5F85-4162-8985-7C430A5EA3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8A093-46CA-45C5-941F-7004098E31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F6BE8-EF6F-4A8B-8B02-460D46CD2A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C5C8B-8D16-401A-8341-402C538780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81D87-A0B7-42F9-AC6D-D4199E4DB9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34CCF-AE63-4E5A-BA30-A9A3640048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60BF7-D586-4E3E-8324-5B502CD5AE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D3C47-7C89-47B3-8F7B-98323B2386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8486F-C828-4BD7-962D-452CFD40E2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925FC-2818-4D2F-A480-BEA1E40EAB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8E5A7-93F4-4607-9162-35162D800F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5C73B-C89F-4C31-B4EF-D9029B9FDD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5250B-2141-4D13-9C7D-804A66FCFC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9111F-FCBE-4EC4-A177-F5802251CC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4E15D-3B06-43CD-A228-E8418A77F3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7282C-17AD-4F8D-9E64-56C5F7793E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06FB4-EF5B-452A-9674-16ADED4287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4F225-0DCF-4DE4-A2BC-163DC62A5A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1F881-6845-4C45-B9DC-8864EA820F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DE30E-BA80-4826-8770-C8AC00376B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TER FEATURES DOES FLORIDA HAVE MORE OF THAN ANY OTHER STAT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1676520" y="4876920"/>
            <a:ext cx="57909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HE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552600" y="762120"/>
            <a:ext cx="80388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GRICULTURAL PRODUCT WAS PICTURED ON THE BACK OF THE LINCOLN PENNY FROM 1909 TO 1958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838080" y="4876920"/>
            <a:ext cx="74678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RE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762120" y="685800"/>
            <a:ext cx="76197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LOR IS PERIDOT, THE BIRTHSTONE FOR THE MONTH OF AUGU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QUA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533520" y="762120"/>
            <a:ext cx="8076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DOMINATING THE T" IS A WINNING STRATEGY IN WHAT SPORT PLAYED ON AN INDOOR COURT AND NAMED FOR ITS SOFT RUBBER BAL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1257480" y="4876920"/>
            <a:ext cx="6629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R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533520" y="762120"/>
            <a:ext cx="80769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RITICALLY ACCLAIMED RESTAURANT IS LOCATED RIGHT ACROSS THE STREET, AT 103 W. INDIANA  AV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501480" y="4876920"/>
            <a:ext cx="81536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457200" y="762120"/>
            <a:ext cx="82296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THAT BEGINS WITH "P" IS ALSO THE 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MOST COMMON LAST NAME IN KOREA, AFTER KIM AND LE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838080" y="762120"/>
            <a:ext cx="74678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EWS MAGAZINE HAS THE WORLD'S LARGEST WEEKLY CIRCULATI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295280" y="4876920"/>
            <a:ext cx="6553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LYMP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380880" y="762120"/>
            <a:ext cx="83822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RAINIEST PLACE IN THE CONTINENTAL U.S. IS FOUND IN THE NATIONAL PARK NAMED FOR WHAT WASHINGTON STATE MOUNTAIN RANG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GRICULTURAL PRODUCT WAS PICTURED ON THE BACK OF THE LINCOLN PENNY FROM 1909 TO 1958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ONDERL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704880" y="762120"/>
            <a:ext cx="77342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ICTIONAL UNDERGROUND COUNTRY, RULED BY THE QUEEN OF HEARTS, CAN BE ENTERED VIA  A RABBIT HO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19044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PR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609480" y="762120"/>
            <a:ext cx="792504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TER FEATURES DOES FLORIDA HAVE MORE OF THAN ANY OTHER STA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228600" y="4876920"/>
            <a:ext cx="868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FOLLOW  "WINTER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LOR IS PERIDOT, THE BIRTHSTONE FOR THE MONTH OF AUGUS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533520" y="762120"/>
            <a:ext cx="8076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DOMINATING THE T" IS A WINNING STRATEGY IN WHAT SPORT PLAYED ON AN INDOOR COURT AND NAMED FOR ITS SOFT RUBBER BAL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RITICALLY ACCLAIMED RESTAURANT IS LOCATED RIGHT ACROSS THE STREET, AT 103 W. INDIANA  AV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19040" y="7621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THAT BEGINS WITH "P" IS ALSO THE 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MOST COMMON LAST NAME IN KOREA, AFTER KIM AND LE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857160" y="761760"/>
            <a:ext cx="74296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EWS MAGAZINE HAS THE WORLD'S LARGEST WEEKLY CIRCULATION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80880" y="76176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RAINIEST PLACE IN THE CONTINENTAL U.S. IS FOUND IN THE NATIONAL PARK NAMED FOR WHAT WASHINGTON STATE MOUNTAIN RANG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ICTIONAL UNDERGROUND COUNTRY, RULED BY THE QUEEN OF HEARTS, CAN BE ENTERED VIA A RABBIT HO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01T13:59:04Z</dcterms:created>
  <dc:creator>Jennifer Budzinski</dc:creator>
  <dc:description/>
  <dc:language>en-US</dc:language>
  <cp:lastModifiedBy>Erich Friedman</cp:lastModifiedBy>
  <dcterms:modified xsi:type="dcterms:W3CDTF">2021-10-25T17:47:51Z</dcterms:modified>
  <cp:revision>361</cp:revision>
  <dc:subject/>
  <dc:title>Slide 1</dc:title>
</cp:coreProperties>
</file>