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D4D-0B19-4723-A746-68ADC1EF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42C6-2DFA-45E3-A067-54EFFCD1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A690-60BF-4774-9D07-C541A0DEB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872-925D-4101-8CD0-F46EA848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2762-6FC7-4AEB-8638-0438B900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C56-8EE6-46BF-B7DC-7A2FAEC9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7E1-5B6F-4A8C-AFA4-A8D25F0D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AD8-9A0D-497F-8961-76C23DE0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ADB-E6B6-43B9-AEB9-4019F336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F7A-8689-43E9-B473-DC9377D4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D1D0-072B-4839-8E9C-6E2BE97F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F2D0-545E-4FFC-836A-1FDB8942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7D08-B57A-451D-BA65-D026B243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969-622F-4B25-99D5-1C06918D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2AE-7639-4223-9BAA-5A942780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92B-8963-44F8-B357-73F61F67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B9C-36F4-4204-A749-DDD600C4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2F9-E0DF-46DC-A347-7CAFD045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556-56C6-4478-92DA-88B3EDB3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289-B798-4C03-A12E-7F5114EC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A7A-E09F-4FEB-AEAA-AE0DEFC9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8F6-3DB7-41B9-AE20-3FA99699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232-8E10-4312-AA9A-3DC6E741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2000" y="7617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LADY GAGA SONG FEATURING BEYONCÉ HAS A     9-MINUTE VIDEO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AS THE BEST MUSIC VIDEO OF THE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6360" y="762120"/>
            <a:ext cx="7991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MOTTO "IN GOD WE TR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CCUPATION     OF P. G. WODEHOUSE'S CHARACTER "JEEVES", WHO INSPIRED THE NAME OF THE SEARCH ENGINE "ASK JEE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8640" y="7779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6960" y="762120"/>
            <a:ext cx="7210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MUSICAL INSTRUMENT USED TO BE FOLLOWED BY "FORTE", MEANING "QUIET-LOUD" IN ITAL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ESTLING, WHAT WORD CAN FOLLOW "ARM", "LEG", "WRIST", "HEAD", "CHIN", OR "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90560" y="762120"/>
            <a:ext cx="7562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 PROFESSIONAL SPORTS MEASURES 94 FEET BY 50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7,000-YEAR-OLD MAMMOTH TUSK ENGRAVED WITH A MOUNTAIN, VALLEYS, AND    A RIVER IS THE OLDEST KNOW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MOTTO "IN GOD WE TR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NESE DYNASTY 960-1279 WAS THE FIRST TO ISSUE PAPER MONEY AND USE GUNP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LADY GAGA SONG FEATURING BEYONCÉ HAS A     9-MINUTE VIDEO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AS THE BEST MUSIC VIDEO OF THE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0200" y="4876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CCUPATION     OF P. G. WODEHOUSE'S CHARACTER "JEEVES", WHO INSPIRED THE NAME OF THE SEARCH ENGINE "ASK JEE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MUSICAL INSTRUMENT USED TO BE FOLLOWED BY "FORTE", MEANING "QUIET-LOUD" IN ITAL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ESTLING, WHAT WORD CAN FOLLOW "ARM", "LEG", "WRIST", "HEAD", "CHIN", OR "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 PROFESSIONAL SPORTS MEASURES 94 FEET BY 50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7,000-YEAR-OLD MAMMOTH TUSK ENGRAVED WITH A MOUNTAIN, VALLEYS, AND   A RIVER IS THE OLDEST KNOW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NESE DYNASTY 960-1279 WAS THE FIRST TO ISSUE PAPER MONEY AND USE GUNP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7-12T00:39:34Z</dcterms:modified>
  <cp:revision>371</cp:revision>
  <dc:subject/>
  <dc:title>Slide 1</dc:title>
</cp:coreProperties>
</file>