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FCC0-1B18-4CAA-886E-5EDA6C3E5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732C-6883-40B7-984E-046B89957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EFB4-0B47-427C-8E74-6275E8E6A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5FEE-2AB0-4897-93D4-35CE62888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D0EC-1BE6-4A66-80C1-965ABA097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127C-9F1F-4F88-BCE8-D4043E49E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B1CC-5F61-48AF-A692-261255FEF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138C-D074-48BE-82BA-A25B69011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B53E-FCBF-4026-AD65-4F8588CC2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A901-380F-4F8D-AE35-74E4BFFD5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152E-605A-4F06-A04B-0004C9B59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56AF-2BBE-41CA-890F-61CB2CD59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2076-0162-4620-ABBF-0BBDF35A2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8265-E707-446D-9963-E83875D4E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419C-6A67-4FDB-9590-E5A694499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EC27-DD17-4CB6-A0DA-30C78CE13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B46C-016C-40F5-970A-35EF3F0C5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DEB1-E948-4F25-A84C-809384213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5100-11A7-41FF-91CD-57BF3C118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9FE0-6C7E-43BC-9BA1-520B105C6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3D6A-A4F9-4CC4-A0A7-4CDDEC033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D7DC-0471-4987-A43B-C5B8FEB8E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91B0-60A1-4594-B821-B1CBBF271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62000" y="761760"/>
            <a:ext cx="882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LADY GAGA SONG FEATURING BEYONCÉ HAS A     9-MINUTE VIDEO WHICH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ILLBOA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AMED AS THE BEST MUSIC VIDEO OF THE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76360" y="762120"/>
            <a:ext cx="7991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HAS MOTTO "IN GOD WE TRU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CCUPATION     OF P. G. WODEHOUSE'S CHARACTER "JEEVES", WHO INSPIRED THE NAME OF THE SEARCH ENGINE "ASK JEEV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WR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8640" y="77796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10-LETTER WORD CAN BE SPELLED USING ONLY THE TOP ROW OF LETTERS ON A TYPEWRI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257480" y="48769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66960" y="762120"/>
            <a:ext cx="7210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WHAT MUSICAL INSTRUMENT USED TO BE FOLLOWED BY "FORTE", MEANING "QUIET-LOUD" IN ITALI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ESTLING, WHAT WORD CAN FOLLOW "ARM", "LEG", "WRIST", "HEAD", "CHIN", OR "HAMM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KETBALL  CO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90560" y="762120"/>
            <a:ext cx="7562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 PROFESSIONAL SPORTS MEASURES 94 FEET BY 50 F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27,000-YEAR-OLD MAMMOTH TUSK ENGRAVED WITH A MOUNTAIN, VALLEYS, AND    A RIVER IS THE OLDEST KNOWN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STATE HAS MOTTO "IN GOD WE TRU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80920" y="762120"/>
            <a:ext cx="7382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NESE DYNASTY 960-1279 WAS THE FIRST TO ISSUE PAPER MONEY AND USE GUNPOW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LE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90440" y="762120"/>
            <a:ext cx="8763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LADY GAGA SONG FEATURING BEYONCÉ HAS A     9-MINUTE VIDEO WHICH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ILLBOA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AMED AS THE BEST MUSIC VIDEO OF THE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600200" y="48769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WITH  K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CCUPATION     OF P. G. WODEHOUSE'S CHARACTER "JEEVES", WHO INSPIRED THE NAME OF THE SEARCH ENGINE "ASK JEEV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10-LETTER WORD CAN BE SPELLED USING ONLY THE TOP ROW OF LETTERS ON A TYPEWRI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AME OF WHAT MUSICAL INSTRUMENT USED TO BE FOLLOWED BY "FORTE", MEANING "QUIET-LOUD" IN ITALI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RESTLING, WHAT WORD CAN FOLLOW "ARM", "LEG", "WRIST", "HEAD", "CHIN", OR "HAMM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90560" y="76176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 PROFESSIONAL SPORTS MEASURES 94 FEET BY 50 F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27,000-YEAR-OLD MAMMOTH TUSK ENGRAVED WITH A MOUNTAIN, VALLEYS, AND   A RIVER IS THE OLDEST KNOWN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NESE DYNASTY 960-1279 WAS THE FIRST TO ISSUE PAPER MONEY AND USE GUNPOW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07-12T00:39:34Z</dcterms:modified>
  <cp:revision>371</cp:revision>
  <dc:subject/>
  <dc:title>Slide 1</dc:title>
</cp:coreProperties>
</file>