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A7E4-111E-4894-842E-CDBCECE1C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5F88-1055-4BD2-BFF0-8FBD41EEE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7353-7BB5-45A7-8E75-9C24302FE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E8B8-01BC-499A-96DA-DE009AA59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3E90-BDDD-4BFB-B577-5AD54DFAB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BE5F-9129-4774-8B31-67CCA321D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9CC9-5D76-43AE-A844-B4F2CA332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E22C-03F9-46C7-AF58-7C001F4FC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FD1E-8D4E-4257-B6EC-3F7338386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C7A3-A71B-4B17-87EA-91C95C1DC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93F8-2370-4DB8-A2B0-8A995309E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AED9-B442-4FF3-9555-4C8810FCF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6272-45B2-48F5-84D0-841D4AE56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E295-883A-410D-A12D-88E2E0413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656B-F39F-4007-80D1-BA1159909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C869-BE15-42A3-9945-09B92F62E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3E205-3655-40B2-AE1A-3E2BA1F96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5B8A-5DF7-497E-915C-01774F202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8763-B781-40C4-830E-D06FC12E1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7087-C2E9-473F-8AA2-7A643E621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4D02-5B47-4A58-945A-61AB29D5D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A48F-505B-4DA8-9601-8FE92BDDE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2138-DDDC-4C87-B1C4-8D724CB14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9357-85D5-45C2-919A-D050B918B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DETECTIVE GAME ON FACEBOOK, BY F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E FOLLOWING H. G. WELLS QUOTE: "THE CRISIS OF TODAY IS THE ____ OF TOMORR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O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76120" y="762120"/>
            <a:ext cx="8591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RICAN BAND TO HAVE 8 CONSECUTIVE GOLD RECORDS, FROM THEIR EPONYMOUS ALBUM TO "L.A.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003 FILM IN WHICH JULIA ROBERTS TEACHES ART TO KIRSTEN DUNST, JULIA STILES, AND MAGGIE GYLLENHAAL       IS "MONA LISA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MORK AND MINDY", MORK CAME TO THE EARTH IN A SPACESHIP SHAPED LIKE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HOW CREATED BY MYSTERY AUTHOR HARLAN COBEN STARS MICHAEL C. HALL AS THE FATHER OF A GIRL THAT DISAPP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CREDIBLY ACCURATE 4-LETTER NAME DID WHOOPI GOLDBERG NAME HE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IECE OF NON-FI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10484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COME BEFORE 95, 98, ME, NT, XP, OR VIS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87 FILM STARS BARBRA STREISAND AS A WOMAN TRYING TO PROVE SHE IS SANE WITH THE HELP OF PUBLIC DEFENDER RICHARD DREYFU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MINAL 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DETECTIVE GAME ON FACEBOOK, BY F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09480" y="76212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E FOLLOWING H. G. WELLS QUOTE: "THE CRISIS OF TODAY IS THE ____ OF TOMORR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CR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RICAN BAND TO HAVE 8 CONSECUTIVE GOLD RECORDS, FROM THEIR EPONYMOUS ALBUM TO "L.A. WO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003 FILM IN WHICH JULIA ROBERTS TEACHES ART TO KIRSTEN DUNST, JULIA STILES, AND MAGGIE GYLLENHAAL       IS "MONA LISA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MORK AND MINDY", MORK CAME TO THE EARTH IN A SPACESHIP SHAPED LIKE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HOW CREATED BY MYSTERY AUTHOR HARLAN COBEN STARS MICHAEL C. HALL AS THE FATHER OF A GIRL THAT DISAPP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CREDIBLY ACCURATE 4-LETTER NAME DID WHOOPI GOLDBERG NAME HE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IECE OF NON-F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COME BEFORE 95, 98, ME, NT, XP, OR VISTA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1987 FILM STARS BARBRA STREISAND AS A WOMAN TRYING TO PROVE SHE IS SANE WITH THE HELP OF PUBLIC DEFENDER RICHARD DREYFUS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5T18:14:35Z</dcterms:modified>
  <cp:revision>364</cp:revision>
  <dc:subject/>
  <dc:title>Slide 1</dc:title>
</cp:coreProperties>
</file>