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A49-1B5B-4F04-9EA0-511095A3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11E4-0E08-480B-807E-FFEC82FC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470F-AEDC-4183-A017-13FECD61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9938-CCAF-4DFB-9433-BCFE953F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2305-D11F-4268-8CC8-87728F89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052B-C39D-42FC-86A4-88B06573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D05E-2F36-4C9C-9A69-645991AF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3B7-499C-4123-A6E5-425773CF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97D-CDB5-4356-962E-BD41A7D5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DCC-5D5A-42A7-A6DB-9071896B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8222-77FF-4ACF-9CE0-43930C1E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D6A-DA7C-4165-AEF1-A9C01B50E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C75-A2DB-4C63-8585-E64AD288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045-6DF8-4274-8205-E5756A86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707-39B6-405A-A0E4-2C65D003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F4D-F836-4F0F-9628-B300EDCA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F24-58ED-44DB-A03A-8DFC06C5C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25B5-4FAC-4A59-92E6-ED626055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C92-9DD4-4304-9632-C30F0204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228-64B5-4FC6-985B-43A074DB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A0A-67E2-4E1D-8C14-400F8A19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BE6-DA52-43A8-9A68-D3A75CC7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3BC-9B37-4BED-AB81-731FA88D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1EF-9B7B-497A-928B-51961221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DETECTIVE GAME ON FACEBOOK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FOLLOWING H. G. WELLS QUOTE: "THE CRISIS OF TODAY IS THE ____ OF TOM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6120" y="762120"/>
            <a:ext cx="859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BAND TO HAVE 8 CONSECUTIVE GOLD RECORDS, FROM THEIR EPONYMOUS ALBUM TO "L.A.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3 FILM IN WHICH JULIA ROBERTS TEACHES ART TO KIRSTEN DUNST, JULIA STILES, AND MAGGIE GYLLENHAAL       IS "MONA LISA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CREATED BY MYSTERY AUTHOR HARLAN COBEN STARS MICHAEL C. HALL AS THE FATHER OF A GIRL THAT DISAPP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CREDIBLY ACCURATE 4-LETTER NAME DID WHOOPI GOLDBERG NAME HE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ECE OF NON-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BEFORE 95, 98, ME, NT, XP, OR VIS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87 FILM STARS BARBRA STREISAND AS A WOMAN TRYING TO PROVE SHE IS SANE WITH THE HELP OF PUBLIC DEFENDER RICHARD DREYFU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INAL 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DETECTIVE GAME ON FACEBOOK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FOLLOWING H. G. WELLS QUOTE: "THE CRISIS OF TODAY IS THE ____ OF TOM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CR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BAND TO HAVE 8 CONSECUTIVE GOLD RECORDS, FROM THEIR EPONYMOUS ALBUM TO "L.A.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3 FILM IN WHICH JULIA ROBERTS TEACHES ART TO KIRSTEN DUNST, JULIA STILES, AND MAGGIE GYLLENHAAL       IS "MONA LISA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CREATED BY MYSTERY AUTHOR HARLAN COBEN STARS MICHAEL C. HALL AS THE FATHER OF A GIRL THAT DISAPP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CREDIBLY ACCURATE 4-LETTER NAME DID WHOOPI GOLDBERG NAME HE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ECE OF NON-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BEFORE 95, 98, ME, NT, XP, OR VIST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87 FILM STARS BARBRA STREISAND AS A WOMAN TRYING TO PROVE SHE IS SANE WITH THE HELP OF PUBLIC DEFENDER RICHARD DREYFU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5T18:14:35Z</dcterms:modified>
  <cp:revision>364</cp:revision>
  <dc:subject/>
  <dc:title>Slide 1</dc:title>
</cp:coreProperties>
</file>