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B5CD-9AD6-47C4-88D2-79DDB0C28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EEDF-A835-4AAE-94E6-E03449B9A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8A51-A688-419A-B29D-A77E06F30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B633-B45E-4D5F-9614-5F2892586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0A27-7B5C-41B7-887A-8B16DD05E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CE9E-BD82-4BB0-AD87-BF3569929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70E9-5420-4E95-BA70-CEEFD6CB2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85F1-056D-43C0-97D4-489509EC3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AE9B-DBE9-486C-BA88-DB49F6078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20F1-2ACE-4A11-8F32-6C3A94374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3748-78CA-4D47-A724-6B24253A3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41BD-077E-4A6D-AE63-F9CE58857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DDE5-E702-4A78-8314-1125E74E3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F7DE-FE54-433A-B6A4-4CAE4155D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8DD7-670E-4A9D-A83D-E3BA9B54D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0A12-9548-474E-A5BD-7DD8850A1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BD9F-1BAB-4328-AFBC-66979C9BF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24A9-ECCF-4F23-9B62-C3284E56F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5DE4-D9EC-45A2-B011-7A27C4576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B6AB-A94B-48ED-95E0-73FACFEAE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C0FC-36A0-48E7-8A53-F519EBDA0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99D5-33FD-403B-A5D8-04587AD65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2BB8-93B3-4B33-B000-8421226CE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09800" y="1523880"/>
            <a:ext cx="7124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71480" y="761760"/>
            <a:ext cx="7601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TITLE  TRACK OFF SUPERTRAMP'S BEST-SELLING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NY  DAY  WOMEN  #12  &amp;  #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58880" y="762120"/>
            <a:ext cx="7626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B DYLAN SONG HAS  "EVERYBODY MUST GET STONED" IN THE CHOR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HEMIAN  RHAPS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43080" y="762120"/>
            <a:ext cx="8458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6-MINUTE QUEEN SONG IS THE MOST-STREAMED SONG FROM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066680" y="487692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FE  DURING  WAR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22120" y="762120"/>
            <a:ext cx="869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LKING HEADS SONG HAS LYRICS "THIS AIN'T NO PARTY, THIS AIN'T NO DISCO, THIS   AIN'T NO FOOLING AROU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679320" y="4886280"/>
            <a:ext cx="7785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A  O'RI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79320" y="781200"/>
            <a:ext cx="778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WHO IS MOST OFTEN INCORRECTLY REQUESTED BY RADIO LISTENERS AS "TEENAGE WASTE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CE  ODD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89000" y="762120"/>
            <a:ext cx="8764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VID BOWIE SINGLE WAS RELEASED THE WEEK BEFORE THE FIRST LUNAR LAND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D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66640" y="762120"/>
            <a:ext cx="8010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D ZEPPELIN SONG WAS WRITTEN ABOUT A LABRADOR RETRIEVER THAT WANDERED AROUND THEIR RECORDING STUD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BTHUM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17400" y="762120"/>
            <a:ext cx="7909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CHUMBAWAMBA'S ONLY HIT SONG, REACHING #1 IN SEVERAL COUNTRIES, BUT ONLY MAKING IT TO #6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12800" y="762120"/>
            <a:ext cx="771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B DYLAN SONG HAS  "EVERYBODY MUST GET STONED" IN THE CHOR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DAY  IN  THE 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CONTAINS AN ALARM CLOCK THAT WAS ORIGINALLY GOING TO BE EDITED OUT OF TH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KFAST  IN  AME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92000" y="762120"/>
            <a:ext cx="7560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TITLE  TRACK OFF SUPERTRAMP'S BEST-SELLING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51040" y="4343400"/>
            <a:ext cx="7441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TITLES  ARE  NOT  LYRICS  OF  THE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18960" y="761760"/>
            <a:ext cx="850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6-MINUTE QUEEN SONG IS THE MOST-STREAMED SONG FROM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28600" y="762120"/>
            <a:ext cx="8724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LKING HEADS SONG HAS LYRICS "THIS AIN'T NO PARTY, THIS AIN'T NO DISCO, THIS   AIN'T NO FOOLING AROU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05960" y="762120"/>
            <a:ext cx="7729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WHO IS MOST OFTEN INCORRECTLY REQUESTED BY RADIO LISTENERS AS "TEENAGE WASTE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77920" y="762120"/>
            <a:ext cx="8588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VID BOWIE SINGLE WAS RELEASED THE WEEK BEFORE THE FIRST LUNAR LAND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90680" y="761760"/>
            <a:ext cx="8161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D ZEPPELIN SONG WAS WRITTEN ABOUT A LABRADOR RETRIEVER THAT WANDERED AROUND THEIR RECORDING STUDI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50800" y="761760"/>
            <a:ext cx="804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CHUMBAWAMBA'S ONLY HIT SONG, REACHING #1 IN SEVERAL COUNTRIES, BUT ONLY MAKING IT TO #6 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74680" y="762120"/>
            <a:ext cx="8594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CONTAINS AN ALARM CLOCK THAT WAS ORIGINALLY GOING TO BE EDITED OUT OF THE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7-12T00:43:13Z</dcterms:modified>
  <cp:revision>431</cp:revision>
  <dc:subject/>
  <dc:title>Slide 1</dc:title>
</cp:coreProperties>
</file>