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B93B-1B81-449B-B6B9-A75399C35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BCA2-B5F5-46CC-917E-4E632EF9D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1F9F-29CC-43BD-BE12-C1383D8C0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023B-3035-44F0-AADE-38DE4E648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2C97-8595-47D0-8063-44A5CFC3D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DC62-BE60-45EE-9A02-3B8E8F3CF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B82B-B3FF-455B-BA7C-CEBC8C5DF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6FA6-0679-4AFA-A777-E316A0BD3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FE0F-AD5D-4289-9197-96ADE1C10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A04C-9E1F-46DF-ABE2-0EA13055A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C38C-479B-475D-976C-E085BEE05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6621-9896-42DC-BDDE-FBF5AA32B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17AA-BFE1-4E98-B08A-A331CC282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7A23-5D17-4694-A78D-C82ED46AA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81CA-C02E-4331-BB83-2AB1D658B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B0B1-B2BB-4A17-B3A5-A5F01CAA2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781C-E8EC-4FC0-B9F6-B4F97E644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62E3-8DDF-440D-9E94-A92D6772F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CADE-6638-4633-8E75-17A0C1676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90E8-8ED0-4B0A-AEDD-AD7F21B83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A045-08E2-4C17-BF4D-B8B2BA848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28F7-B6DA-4347-9E8E-6AB54AEC4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73F4-E329-4D7E-8963-6378B10B8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09800" y="1523880"/>
            <a:ext cx="7124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 TRACK OFF SUPERTRAMP'S BEST-SELLING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Y  DAY  WOMEN  #12  &amp;  #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58880" y="762120"/>
            <a:ext cx="7626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DYLAN SONG HAS  "EVERYBODY MUST GET STONED" IN THE CHOR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HEMIAN  RHAPS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308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-MINUTE QUEEN SONG IS THE MOST-STREAMED SONG FROM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  DURING  WAR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22120" y="762120"/>
            <a:ext cx="869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LKING HEADS SONG HAS LYRICS "THIS AIN'T NO PARTY, THIS AIN'T NO DISCO, THIS   AIN'T NO FOOLING AROU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679320" y="4886280"/>
            <a:ext cx="7785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A  O'RI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79320" y="781200"/>
            <a:ext cx="778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WHO IS MOST OFTEN INCORRECTLY REQUESTED BY RADIO LISTENERS AS "TEENAGE WASTE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CE  ODD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89000" y="762120"/>
            <a:ext cx="8764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VID BOWIE SINGLE WAS RELEASED THE WEEK BEFORE THE FIRST LUNAR LAN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66640" y="762120"/>
            <a:ext cx="8010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D ZEPPELIN SONG WAS WRITTEN ABOUT A LABRADOR RETRIEVER THAT WANDERED AROUND THEIR RECORDING STUD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BTHUM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17400" y="762120"/>
            <a:ext cx="790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HUMBAWAMBA'S ONLY HIT SONG, REACHING #1 IN SEVERAL COUNTRIES, BUT ONLY MAKING IT TO #6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DYLAN SONG HAS  "EVERYBODY MUST GET STONED" IN THE CHOR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DAY  IN  THE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AN ALARM CLOCK THAT WAS ORIGINALLY GOING TO BE EDITED OUT OF TH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FAST  IN 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92000" y="762120"/>
            <a:ext cx="7560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 TRACK OFF SUPERTRAMP'S BEST-SELLING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1040" y="4343400"/>
            <a:ext cx="7441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ARE  NOT  LYRICS  OF  THE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8960" y="761760"/>
            <a:ext cx="850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-MINUTE QUEEN SONG IS THE MOST-STREAMED SONG FROM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28600" y="762120"/>
            <a:ext cx="872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LKING HEADS SONG HAS LYRICS "THIS AIN'T NO PARTY, THIS AIN'T NO DISCO, THIS   AIN'T NO FOOLING AROU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5960" y="762120"/>
            <a:ext cx="7729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WHO IS MOST OFTEN INCORRECTLY REQUESTED BY RADIO LISTENERS AS "TEENAGE WASTE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77920" y="762120"/>
            <a:ext cx="858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VID BOWIE SINGLE WAS RELEASED THE WEEK BEFORE THE FIRST LUNAR LAN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1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D ZEPPELIN SONG WAS WRITTEN ABOUT A LABRADOR RETRIEVER THAT WANDERED AROUND THEIR RECORDING STUD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0800" y="761760"/>
            <a:ext cx="804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HUMBAWAMBA'S ONLY HIT SONG, REACHING #1 IN SEVERAL COUNTRIES, BUT ONLY MAKING IT TO #6 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74680" y="762120"/>
            <a:ext cx="8594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AN ALARM CLOCK THAT WAS ORIGINALLY GOING TO BE EDITED OUT OF TH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7-12T00:43:13Z</dcterms:modified>
  <cp:revision>431</cp:revision>
  <dc:subject/>
  <dc:title>Slide 1</dc:title>
</cp:coreProperties>
</file>