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37A-66DC-4EB9-9C31-53F5E72A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043-DFD5-46EE-BE52-5F43A3E0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DFC-1428-4862-B0AE-46EE34F7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DD3-6DC1-477E-99DB-79CF81E6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7F0-880C-4392-ABB1-AAE69F7D4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CA4-7BB7-4B91-AEC1-AD8F47F6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D98A-D751-4CDD-82AF-944AF175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ED4-A934-4C66-BD9A-9AAA377C0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3E51-F01B-4CC2-AE7E-E72AD397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8BA-2665-4F13-8BB7-0DA708A9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70F9-A586-4896-89D0-E395784A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50E4-4262-461A-BDE2-6633DAAC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C33-B20C-4B57-A6D2-538195F4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A54-38BE-47BD-AF37-6E2557F2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1C06-6F4C-4F9E-A641-76A502F2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43AD-F6AB-4E7C-ADAA-19E5094D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2655-BEF1-45F7-8A3E-AE917CEB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B6A2-EDF1-41FA-8147-45981DD8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838-8134-403A-BD44-A13FC1C1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EAF9-E73F-4349-B03F-042B239B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529-D4A7-49AA-96B8-16F1B156A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0F7-B8BA-4896-8C7D-D8A6137C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28CA-A897-4428-8770-B2440E0A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FT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TON  SINC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JUNG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RYN  BIG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8520" y="762120"/>
            <a:ext cx="8885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N OSCAR FOR BEST DIRECTOR, FOR "THE HURT LOC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07880" y="762120"/>
            <a:ext cx="832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CHARACTER'S BEST FRIEND WAS NAMED "BOO B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4800" y="77472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RD FOR "LOUD" IS OFTEN ABBREVIATED 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IN MUSICAL N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BY PEARL S. BUCK WON THE PULITZER PRIZE FOR FICTION IN 19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7960" y="762120"/>
            <a:ext cx="63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3 OF IN THE LOGO FOR MITSUBISHI MO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63680" y="762120"/>
            <a:ext cx="641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BEN AFFLECK WON BEST PICTURE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52320" y="762120"/>
            <a:ext cx="78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JUNG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I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ON TV'S   "THE MOD SQUAD", AND MARRIED QUINCY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5760" y="4343400"/>
            <a:ext cx="697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AMERICAN  FREE  TRADE 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1276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FT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RANDS  OF 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920" y="761760"/>
            <a:ext cx="8999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N OSCAR FOR BEST DIRECTOR, FOR "THE HURT LOC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1000" y="762120"/>
            <a:ext cx="84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CHARACTER'S BEST FRIEND WAS NAMED "BOO B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RD FOR "LOUD" IS OFTEN ABBREVIATED 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IN MUSICAL N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69880" y="762120"/>
            <a:ext cx="8004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BY PEARL S. BUCK WON THE PULITZER PRIZE FOR FICTION IN 19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9920" y="761760"/>
            <a:ext cx="646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3 OF IN THE LOGO FOR MITSUBISHI MOT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25520" y="761760"/>
            <a:ext cx="6492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BEN AFFLECK WON BEST PICTURE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ON TV'S   "THE MOD SQUAD", AND MARRIED QUINCY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00:46:07Z</dcterms:modified>
  <cp:revision>507</cp:revision>
  <dc:subject/>
  <dc:title>Slide 1</dc:title>
</cp:coreProperties>
</file>