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A3680-E304-4753-B386-7D2DFA8AA8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FD8A8-D443-4EDF-9652-23A013E1BE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A2A03-625F-45FF-9A76-18F4DCB375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A4A38-BC14-4563-ACC0-FF64548D2B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5FFE7-7968-40C5-9D9D-ADABBFD420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97E57-6547-495E-8049-9BC426656F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3B0ED-8EC2-4737-870A-996924D1A1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D45EB-E491-4506-9946-50B5867DCC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49D1D-8CB3-46DE-A59E-29BCBBA0FD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0DDDD-250A-464F-AA74-6664D3D50C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8F285-B17B-4BB0-8D7B-051D53A659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278CB-CCFA-41FF-A578-B1B18053F3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F2134-13AC-44D5-9555-FDA336CAF3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E35B5-4FBB-40CC-9C50-21D94480FB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B55EF-D3D4-4E3E-98D1-DD9BAA34B9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53BE4-AB82-440A-82DA-87BAE6E66C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EEF5B-DD64-4ED8-9320-A3A2F74D10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2908E-C40A-4AF4-93AE-BECCE8F85E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006D1-A193-4CB4-AA36-0993A4F03C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B6CE7-B1B4-4CBA-BF06-BC7E9FA6B9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E5077-18A9-4A8D-99EC-D212465248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DF8E9-D101-4D47-AFE7-E6B8A7C94C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022C0-7F39-481A-A580-6667639AF9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571320" y="1523880"/>
            <a:ext cx="80010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152280" y="761760"/>
            <a:ext cx="88394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ES "NAFTA" STAND FO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800280" y="4876920"/>
            <a:ext cx="7543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UPTON  SINCLAI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628560" y="762120"/>
            <a:ext cx="78868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ROTE "THE JUNGL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571680" y="4876920"/>
            <a:ext cx="8001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ATHRYN  BIGEL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128520" y="762120"/>
            <a:ext cx="888516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WOMAN TO WIN AN OSCAR FOR BEST DIRECTOR, FOR "THE HURT LOCKER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YOGI  BE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407880" y="762120"/>
            <a:ext cx="83264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NIMATED CHARACTER'S BEST FRIEND WAS NAMED "BOO BOO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1028880" y="4889520"/>
            <a:ext cx="708660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OR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334800" y="774720"/>
            <a:ext cx="8472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TALIAN WORD FOR "LOUD" IS OFTEN ABBREVIATED "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 IN MUSICAL NOTAT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1685880" y="4876920"/>
            <a:ext cx="5772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GOOD  EAR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696960" y="762120"/>
            <a:ext cx="775008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OVEL BY PEARL S. BUCK WON THE PULITZER PRIZE FOR FICTION IN 1932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114480" y="4876920"/>
            <a:ext cx="89154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ED  DIAMO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1407960" y="762120"/>
            <a:ext cx="63262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E THERE 3 OF IN THE LOGO FOR MITSUBISHI MOTO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210960" y="4876920"/>
            <a:ext cx="87220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RG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1363680" y="762120"/>
            <a:ext cx="64166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ILM DIRECTED BY BEN AFFLECK WON BEST PICTURE IN 2012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652320" y="762120"/>
            <a:ext cx="78393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ROTE "THE JUNGL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1257480" y="4876920"/>
            <a:ext cx="6629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EGGY  LIPT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716040" y="762120"/>
            <a:ext cx="77104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FLOWER CHILD JULIE BARNES ON TV'S   "THE MOD SQUAD", AND MARRIED QUINCY JON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1085760" y="4343400"/>
            <a:ext cx="69724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3000"/>
          </a:bodyPr>
          <a:p>
            <a:pPr marL="216000" indent="-2160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ORTH  AMERICAN  FREE  TRADE  AGRE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212760" y="762120"/>
            <a:ext cx="87631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ES "NAFTA" STAND FO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419040" y="4876920"/>
            <a:ext cx="83059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NTAIN  BRANDS  OF  TE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70920" y="761760"/>
            <a:ext cx="89996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WOMAN TO WIN AN OSCAR FOR BEST DIRECTOR, FOR "THE HURT LOCKER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351000" y="762120"/>
            <a:ext cx="8442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NIMATED CHARACTER'S BEST FRIEND WAS NAMED "BOO BOO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267840" y="762120"/>
            <a:ext cx="86058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TALIAN WORD FOR "LOUD" IS OFTEN ABBREVIATED "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 IN MUSICAL NOTATI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569880" y="762120"/>
            <a:ext cx="800424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OVEL BY PEARL S. BUCK WON THE PULITZER PRIZE FOR FICTION IN 1932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1339920" y="761760"/>
            <a:ext cx="646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E THERE 3 OF IN THE LOGO FOR MITSUBISHI MOTOR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1325520" y="761760"/>
            <a:ext cx="6492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ILM DIRECTED BY BEN AFFLECK WON BEST PICTURE IN 2012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658800" y="762120"/>
            <a:ext cx="782496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FLOWER CHILD JULIE BARNES ON TV'S   "THE MOD SQUAD", AND MARRIED QUINCY JON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28T16:34:55Z</dcterms:created>
  <dc:creator>Jennifer Budzinski</dc:creator>
  <dc:description/>
  <dc:language>en-US</dc:language>
  <cp:lastModifiedBy>Erich Friedman</cp:lastModifiedBy>
  <dcterms:modified xsi:type="dcterms:W3CDTF">2021-07-12T00:46:07Z</dcterms:modified>
  <cp:revision>507</cp:revision>
  <dc:subject/>
  <dc:title>Slide 1</dc:title>
</cp:coreProperties>
</file>