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3D37-091D-4B77-BA57-D4D4AB67F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E64D-5759-4D1D-A842-08ECC1E00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A9F6-8BF4-487B-ACAA-193F4DFB7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0B06-44C9-4928-BE05-08BC2B24F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17DB-A6F5-45A8-A7EA-9CDA5B839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DCB8-5E6D-42E1-A834-C86E03207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BFD0-4149-4D47-ABB6-4716461E6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8046-C45E-4649-A447-1A485D3C4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F76D-EA65-4909-A73E-C60536DC3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C9AD-AC9C-40E6-83E1-242B16FA3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1811-710A-450F-80A5-4BB63D90D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295F-D2A0-484C-BB07-35060A2E3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F763-6604-48F5-9343-35F206EFD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B010-D30D-4BB7-8796-65ED42737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16A7-59D8-4F81-92FB-EEDABC96B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4092-A7DE-45B8-A527-9974388A2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EA0F-E65B-4336-88D8-2158A6C57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11DF-104F-4300-94BE-EDFB75F9F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0CDD-CE9A-4B64-AC9C-B5BE5C9A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2521-D285-4FB7-B945-3330B6266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1C14-ACF4-447D-8F68-27F5A109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956E-5EFE-4BE5-B0FA-E645769C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DD81-3AEF-430E-AE56-3F4A574E8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IS ROBERT DE NIRO OBSESSED WITH SAN FRANCISCO GIANT PLAYER WESLEY SNIP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28560" y="762120"/>
            <a:ext cx="7886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OF MACBOOK LAPTOP IS ABOVE THE BASIC MODEL BUT BELOW P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68580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HINESE SAILING SHIP HAS FULLY BATTENED S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V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52600" y="762120"/>
            <a:ext cx="803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ING COMPETITION TV SHOW'S LOGO IS A HAND HOLDING A MICTOPHONE WITH 2 UPRAISED FIN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18960" y="762120"/>
            <a:ext cx="850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ETWOOD MAC SONG'S CHORUS BEGINS "AND IF YOU DON'T LOVE ME NOW, YOU WILL NEVER LOVE ME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0160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C" STAND FOR IN "PF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1800" y="762120"/>
            <a:ext cx="842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SONG THAT WAS A TOP-20 HIT FOR ARROW, AND WHEN COVERED BY BUSTER POINDEXT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IS THE MOST COMMON IN SPAN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OF MACBOOK LAPTOP IS ABOVE THE BASIC MODEL BUT BELOW P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6560" y="762120"/>
            <a:ext cx="8210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REPRESENTED BY #000000 IN HTM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28560" y="782640"/>
            <a:ext cx="7886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IS ROBERT DE NIRO OBSESSED WITH SAN FRANCISCO GIANT PLAYER WESLEY SNIP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4973760" y="782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571680" y="4876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MAI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HINESE SAILING SHIP HAS FULLY BATTENED SAI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ING COMPETITION TV SHOW'S LOGO IS A HAND HOLDING A MICROPHONE WITH 2 UPRAISED FIN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ETWOOD MAC SONG'S CHORUS BEGINS "AND IF YOU DON'T LOVE ME NOW, YOU WILL NEVER LOVE ME AG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C" STAND FOR IN "PF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SONG THAT WAS A TOP-20 HIT FOR ARROW, AND WHEN COVERED BY BUSTER POINDEX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IS THE MOST COMMON IN SPAN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REPRESENTED BY #000000 IN HTM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4:06:00Z</dcterms:modified>
  <cp:revision>367</cp:revision>
  <dc:subject/>
  <dc:title>Slide 1</dc:title>
</cp:coreProperties>
</file>