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799A-5B45-46B4-8844-AAE87A25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711D-8DF3-4CF0-A17B-7AF6D773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C7CD-E6F5-422B-8535-F0BD13AE5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ED41-4455-493F-9226-391E954BD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9BAC-E210-4223-B015-BEED672B0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B6B5-B0FC-440E-BCAC-6F555CBDE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F6AC-3212-4B8A-8B3C-6393CE7E4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6FAE0-EB85-4460-AE07-0C83EDF9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467-323A-46AA-BCB3-FDA9D5E05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A522-4D18-4265-96C7-F4EE2D9F9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5B22-EE3F-4A89-BED8-74A0D3307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C7FD-1AE8-4388-8F05-BCE2F91D0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5DCD-3ADC-42A5-8662-2ECA7D75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1463-C840-4C4A-A2B2-6AC2CEF31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5479-DC34-4535-8D96-378A31E4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E9E8-41BB-4273-9329-AC9F958ED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296C-9D25-4B7B-8FA3-8D2BFA47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DEBF-BC14-43E2-AD06-A0AA73B7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3CC31-946F-4F91-93D8-9028EDB1E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B779-1C07-42BD-A484-68ECA30E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235D-AD16-4F27-A836-BD3D6368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D7A3-4AE8-4134-9C02-525DA94E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9FA5-3496-470C-B572-0EDB3959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IS ROBERT DE NIRO OBSESSED WITH SAN FRANCISCO GIANT PLAYER WESLEY SNIP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8560" y="762120"/>
            <a:ext cx="7886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MACBOOK LAPTOP IS ABOVE THE BASIC MODEL BUT BELOW P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68580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'S LOGO IS A HAND HOLDING A MICTOPHONE WITH 2 UPRAISED F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18960" y="762120"/>
            <a:ext cx="850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SONG'S CHORUS BEGINS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0160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C" STAND FOR IN "PF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SONG THAT WAS A TOP-20 HIT FOR ARROW, AND WHEN COVERED BY BUSTER POINDEXT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THE MOST COMMON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MACBOOK LAPTOP IS ABOVE THE BASIC MODEL BUT BELOW P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000000 IN HT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28560" y="782640"/>
            <a:ext cx="7886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IS ROBERT DE NIRO OBSESSED WITH SAN FRANCISCO GIANT PLAYER WESLEY SNI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4973760" y="782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AI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HINESE SAILING SHIP HAS FULLY BATTENED SA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'S LOGO IS A HAND HOLDING A MICROPHONE WITH 2 UPRAISED F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SONG'S CHORUS BEGINS "AND IF YOU DON'T LOVE ME NOW, YOU WILL NEVER LOVE ME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C" STAND FOR IN "PF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SONG THAT WAS A TOP-20 HIT FOR ARROW, AND WHEN COVERED BY BUSTER POINDEX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IS THE MOST COMMON IN SPAN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000000 IN HTM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4:06:00Z</dcterms:modified>
  <cp:revision>367</cp:revision>
  <dc:subject/>
  <dc:title>Slide 1</dc:title>
</cp:coreProperties>
</file>