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40EC-0414-42BB-A31B-AD7358E9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F36C-90AF-4506-926F-251B4931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F9B5-3EC2-4E45-B706-9335C857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AB7C-AC8F-4FBF-B1B7-D7AD1F2F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0081-880E-4FC9-8385-24D279DB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7B51-96C0-43B4-83FD-165AD5657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8265-822A-430A-B999-D619629D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13F2-22D1-443E-98AE-777A2D96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AF47-47AD-4750-B360-15013E75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2173-D61D-44EA-8502-05DA3FD6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ED47-00BB-4B64-A8A4-CBB52748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7B78-E2C1-4B43-9894-2C712822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A5F8-1466-447B-AF28-2E889165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978F-EC6F-4EC9-8CD7-36D30F1A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AD0C-E384-4BBB-8598-08D8B376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9D39-86CC-4577-A965-88CA3EE8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87C9-6381-4757-9656-6955D5F03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5229-1585-434F-AD3A-F62270ABE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9A9D-8BC8-4025-9BFE-CEE8BA4D9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8D15-BCD4-46E8-A01F-0E168D96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2AB-819A-484A-A3BA-537EE56A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69BE-702E-4C8E-8794-FB560F412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12DC-4A20-49F2-8423-9D276C972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NG BANG", "SIDE TO SIDE", AND "THE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LEY  SN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EW JACK CITY", "DEMOLITION MAN", AND "WHITE MEN CAN'T JU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' " AND "I WON'T BACK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5420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IS KNOWN FOR HIS PROP COMEDY AND RED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NEY  POIT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WIN AN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ING IN SHOWTIME'S "SHAMELESS" IS MARRIED TO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STAR WAS #1 IN THE WORLD MOST OF 1974-1981, AND WON 18 GRAND SLAM TI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9384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ANA 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NG BANG", "SIDE TO SIDE", AND "THE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BORN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2236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EW JACK CITY", "DEMOLITION MAN", AND "WHITE MEN CAN'T JU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' " AND "I WON'T BACK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2396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IS KNOWN FOR HIS PROP COMEDY AND RED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WIN AN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ING IN SHOWTIME'S "SHAMELESS" IS MARRIED TO FELICITY HUF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STAR WAS #1 IN THE WORLD MOST OF 1974-1981, AND WON 18 GRAND SLAM TI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20:30:40Z</dcterms:created>
  <dc:creator>Jennifer Budzinski</dc:creator>
  <dc:description/>
  <dc:language>en-US</dc:language>
  <cp:lastModifiedBy>Erich Friedman</cp:lastModifiedBy>
  <dcterms:modified xsi:type="dcterms:W3CDTF">2020-08-24T22:57:29Z</dcterms:modified>
  <cp:revision>380</cp:revision>
  <dc:subject/>
  <dc:title>Slide 1</dc:title>
</cp:coreProperties>
</file>