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1F77-7952-4510-A9D0-69626275A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5763-F736-493F-86B0-12BB779AE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7A15-B28B-49F6-AD15-675A2FE0E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7B90-4AA7-4A34-A7D9-FE1CC04DB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8B65-F028-4377-A1F7-DA6E4CDD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863-A0E2-4E36-89DB-5EA8EBB94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327E-DB26-4D12-8FD2-8581CD6A7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5B42-668F-4DEA-8AF5-3462B3B94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596-62FE-4B6F-A825-EFC7B067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4588-63B5-4E63-AAF2-A3EC34815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80C5-6C09-4DA6-A7B4-15CB56AC7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736B-109A-43ED-BF1A-E75C7E5FE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CC8F-7237-4B66-8E92-631514634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E41B-EBB4-4D73-ADAD-9798ED7BA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5486-D3BD-488D-8552-D59A80AA1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FD78-C932-43B1-8F6A-CA0442DE4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C42E-FBCC-432F-9A3C-79D813E05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8B9B-57A0-4DCD-8D88-E74A32FEE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8D4A-15A6-44C2-8E0F-D45A571C7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AE90-3FAE-42E3-B79E-06764581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71CB-4C1B-4D43-BA69-484329F1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3F9E-64A7-4158-9625-7176E8973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444F-8666-4EC8-AAD2-EDF9425DE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NG BANG", "SIDE TO SIDE", AND "THE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T  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ATTORNEY GENERAL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LEY  SN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EW JACK CITY", "DEMOLITION MAN", AND "WHITE MEN CAN'T JU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P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REE FALLIN' " AND "I WON'T BACK 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5420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IS KNOWN FOR HIS PROP COMEDY AND RED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NEY  POIT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TO WIN AN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.  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ING IN SHOWTIME'S "SHAMELESS" IS MARRIED TO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TENNIS STAR WAS #1 IN THE WORLD MOST OF 1974-1981, AND WON 18 GRAND SLAM TI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93840" y="4876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ANA 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NG BANG", "SIDE TO SIDE", AND "THE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BORN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2236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ATTORNEY GENERAL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EW JACK CITY", "DEMOLITION MAN", AND "WHITE MEN CAN'T JU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REE FALLIN' " AND "I WON'T BACK 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2396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IS KNOWN FOR HIS PROP COMEDY AND RED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TO WIN AN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ING IN SHOWTIME'S "SHAMELESS" IS MARRIED TO FELICITY HUFF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TENNIS STAR WAS #1 IN THE WORLD MOST OF 1974-1981, AND WON 18 GRAND SLAM TI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20:30:40Z</dcterms:created>
  <dc:creator>Jennifer Budzinski</dc:creator>
  <dc:description/>
  <dc:language>en-US</dc:language>
  <cp:lastModifiedBy>Erich Friedman</cp:lastModifiedBy>
  <dcterms:modified xsi:type="dcterms:W3CDTF">2020-08-24T22:57:29Z</dcterms:modified>
  <cp:revision>380</cp:revision>
  <dc:subject/>
  <dc:title>Slide 1</dc:title>
</cp:coreProperties>
</file>