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28E-028A-4837-AA9B-B8E98AEA2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3216-65C7-4EF6-BD68-5A3620FA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C3D0-6892-4EA1-AEC5-09F2618E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FDF4-238C-44B1-80B6-01E1EBB61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D167-8582-457F-B246-22DADD79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BBB-C250-4493-A930-FE95309A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55FB-E08A-46E4-A3E8-4F5604A1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D8F2-547E-4CF7-BB6A-F6436D00F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800B-AF52-4F5F-83BA-7A0664821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FC5-2B8B-49B4-A5C1-D7DC36567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8B0-54CB-404C-B884-45870005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A3B4-19EE-4223-AF07-02B659C8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ED61-24DC-4755-B297-60AEBCA1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D60-2193-4987-BDB1-6ACCD295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B19C-14AA-4A2F-AE54-295608731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8AD9-6478-4655-AFE4-08D718699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6850-E016-4CE1-8953-F01E030AC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B40-597E-42B8-84B7-C36F5E12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67F2-13AD-40CB-BF35-41C677471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422B-7986-42E8-AAE5-560F277DC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150-E4A5-4F48-B7D9-65D72C333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A9DF-2902-4D28-9CA8-67B3B473B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028F-0965-46AB-AA2A-DF8C02E57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SN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420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POI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384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ANA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NG BANG", "SIDE TO SIDE", AND "TH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BORN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223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ATTORNEY GENERAL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EW JACK CITY", "DEMOLITION MAN", AND "WHITE MEN CAN'T JU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' " AND "I WON'T BACK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2396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IS KNOWN FOR HIS PROP COMEDY AND RED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ING IN SHOWTIME'S "SHAMELESS" IS MARRIED TO FELICITY HU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STAR WAS #1 IN THE WORLD MOST OF 1974-1981, AND WON 18 GRAND SLAM TI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20:30:40Z</dcterms:created>
  <dc:creator>Jennifer Budzinski</dc:creator>
  <dc:description/>
  <dc:language>en-US</dc:language>
  <cp:lastModifiedBy>Erich Friedman</cp:lastModifiedBy>
  <dcterms:modified xsi:type="dcterms:W3CDTF">2020-08-24T22:57:29Z</dcterms:modified>
  <cp:revision>380</cp:revision>
  <dc:subject/>
  <dc:title>Slide 1</dc:title>
</cp:coreProperties>
</file>