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4EB6-37AD-4E8C-A946-80B2FD9BA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1B6A-9996-40A7-B526-0E247F6D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9C31-3754-4C76-BB86-297514447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1F96-4601-4E95-A067-CBCACD371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3B3F-CA76-4A5C-929D-01A2208C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541E-AFE2-4ADD-B15E-28A095013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3088-6A17-46DF-8B4B-EA6182B24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C55C-889E-4FA5-8278-9DE49D336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59AC-8227-46BC-B764-CE8542994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1086-7A16-4663-9462-90F53D55F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35BC-A1F6-4C0E-AF02-F75E1598D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E15F-6622-4FC3-9411-0CE20C01E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57FF-A998-423B-9276-688C594B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B292-4F2F-46BD-BCAE-73BFFB374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DD0E-44CD-4D74-9822-F42DD60E0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C759-65D7-42C7-B371-C2ECEF45F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B449-9D52-4C5C-864C-C4CD927A8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E5C7-9792-485D-875B-F49C9BF98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C4A3-7E5A-49A6-AF3D-0A88BF7A3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32A1C-A287-4901-AD38-F1C869B7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2718-BCF7-4FAD-B6E4-19035C55B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4C7D-A436-4027-9BEA-C5269C436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FD87-3D55-4F16-BCAF-D3F4B022F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48CD-6E9C-4D45-9EC1-8DA48131D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'S ONLY #1 SONG WAS TITLED "1979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78000" y="761760"/>
            <a:ext cx="65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RUPERT HOLMES' HIT SONG "ESCAP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 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82520" y="762120"/>
            <a:ext cx="8778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COMEDY FILM STARRED CARY GRANT, GINGER ROGERS, CHARLES COBURN, AND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STAR PIERCE BROSNAN AND JUDI DENCH,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OT TO USE PLOT ELEMENTS FROM IAN FLE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IBBEAN  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44520" y="762120"/>
            <a:ext cx="8454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ILLY OCEAN'S BIGGEST U.S.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OMB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65080" y="762120"/>
            <a:ext cx="7413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AND BEST-SELLING SONG BY THE CRANBER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BOXER RUBIN CARTER, MEMORIALIZED IN A BOB DYLAN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LE  C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04840" y="762120"/>
            <a:ext cx="87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NSPORTATION METHOD IS USUALLY ASSOCIATED WITH SAN FRANCISCO, BUT IS ALSO AVAILABLE IN LAS VEGAS AND OAK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295280" y="4349880"/>
            <a:ext cx="65534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IT  WAS  A  DARK  AND  STORMY  NIGH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CHÉ PHRAS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SED BY WASHINGTON IRVING IS THE BEGINNING OF EVERY NOVEL THAT SNOOPY EVER WRO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MASHING  PUM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ROCK BAND'S ONLY #1 SONG WAS TITLED "1979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IÑA  COLADA  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00240" y="762120"/>
            <a:ext cx="674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UBTITLE OF RUPERT HOLMES' HIT SONG "ESCAP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752480" y="434340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RUM  COCKT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8920" y="762120"/>
            <a:ext cx="8783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2 COMEDY FILM STARRED CARY GRANT, GINGER ROGERS, CHARLES COBURN, AND MARILYN MONRO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09520" y="761760"/>
            <a:ext cx="872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MES BOND FILM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STAR PIERCE BROSNAN AND JUDI DENCH,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OT TO USE PLOT ELEMENTS FROM IAN FLE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049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BILLY OCEAN'S BIGGEST U.S.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5240" y="762120"/>
            <a:ext cx="7553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#1 AND BEST-SELLING SONG BY THE CRANBER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ICKNAME OF BOXER RUBIN CARTER, MEMORIALIZED IN A BOB DYLAN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920" y="761760"/>
            <a:ext cx="901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NSPORTATION METHOD IS USUALLY ASSOCIATED WITH SAN FRANCISCO, BUT IS ALSO AVAILABLE IN LAS VEGAS AND OAK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CHÉ PHRAS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SED BY WASHINGTON IRVING IS THE BEGINNING OF EVERY NOVEL THAT SNOOPY EVER WRO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7T03:06:33Z</dcterms:modified>
  <cp:revision>381</cp:revision>
  <dc:subject/>
  <dc:title>Slide 1</dc:title>
</cp:coreProperties>
</file>