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7E2E-2E0D-48C5-9F8D-998FD617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533-84A8-4985-B6F7-A2A83B89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7889-9334-48E9-A9A2-34A8475F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320-85AC-42C5-881A-86E416E7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8601-F5B9-4043-9554-DB90CA5C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FF9-A523-40E4-A51A-5B2F7865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4766-2B82-4DD3-BFE9-06602268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637-F61E-4928-835B-AB11C725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330-0A90-4C2A-A4CD-2382CFEC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BB38-47FE-4994-984A-5C255F50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FF4-01CA-455D-8B33-D005EB7B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197-A45F-4C51-A56A-E6A09FA6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6A2-6AC1-4D40-AE98-1D2D734E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76C-1542-43EA-BCB7-068A3849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F0D9-4E8E-45AF-A989-48CC6C6E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799C-F0E4-43DF-B1E9-E71EC4C3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ACF-3A63-440A-91B1-E67D6A61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AA21-4577-4BF6-B1E6-047AC6BF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4C6-9077-4774-800A-0D0B7595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D235-BD01-438A-8850-64B2C6FF5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99E-C09F-4F9B-A0B8-95BF0467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4D3-2785-4C50-94F3-DD1897DB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DF5-D926-4F30-88B5-38A597E6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1AD-9E20-45AD-9361-A2F7A7B2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'S ONLY #1 SONG WAS TITLED "1979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78000" y="761760"/>
            <a:ext cx="65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RUPERT HOLMES' HIT SONG "ESC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82520" y="762120"/>
            <a:ext cx="8778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COMEDY FILM STARRED CARY GRANT, GINGER ROGERS, CHARLES COBURN, AND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STAR PIERCE BROSNAN AND JUDI DENCH,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T TO USE PLOT ELEMENTS FROM IAN FLE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IBBEAN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44520" y="762120"/>
            <a:ext cx="84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Y OCEAN'S BIGGEST U.S.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M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65080" y="762120"/>
            <a:ext cx="741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AND BEST-SELLING SONG BY THE CRANBER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BOXER RUBIN CARTER, MEMORIALIZED IN A BOB DYLAN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LE 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NSPORTATION METHOD IS USUALLY ASSOCIATED WITH SAN FRANCISCO, BUT IS ALSO AVAILABLE IN LAS VEGAS AND OAK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349880"/>
            <a:ext cx="6553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IT  WAS  A  DARK  AND  STORMY  N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CHÉ PHRAS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SED BY WASHINGTON IRVING IS THE BEGINNING OF EVERY NOVEL THAT SNOOPY EVER WRO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MASHING  PUM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'S ONLY #1 SONG WAS TITLED "1979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ÑA  COLADA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RUPERT HOLMES' HIT SONG "ESC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52480" y="434340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UM  COCK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2120"/>
            <a:ext cx="878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COMEDY FILM STARRED CARY GRANT, GINGER ROGERS, CHARLES COBURN, AND MARILYN MO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STAR PIERCE BROSNAN AND JUDI DENCH,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T TO USE PLOT ELEMENTS FROM IAN FLE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Y OCEAN'S BIGGEST U.S.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AND BEST-SELLING SONG BY THE CRANBER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BOXER RUBIN CARTER, MEMORIALIZED IN A BOB DYLAN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" y="761760"/>
            <a:ext cx="90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NSPORTATION METHOD IS USUALLY ASSOCIATED WITH SAN FRANCISCO, BUT IS ALSO AVAILABLE IN LAS VEGAS AND OAK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CHÉ PHRAS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SED BY WASHINGTON IRVING IS THE BEGINNING OF EVERY NOVEL THAT SNOOPY EVER WRO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7T03:06:33Z</dcterms:modified>
  <cp:revision>381</cp:revision>
  <dc:subject/>
  <dc:title>Slide 1</dc:title>
</cp:coreProperties>
</file>