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F6C8-6967-43DF-90F3-EB03470D0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2B3C-4EB3-45B7-9723-5BED65D6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E00C-F3BD-46AD-9B2A-FA993072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4EB8-BAFC-45EC-A188-678227149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FED7-F84B-4286-B126-BE7FFC8F0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76FD-0120-462F-9553-AEB35379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2A6B-BEDC-43E3-BC45-82C71DD4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A78-4CC8-403E-8293-C3BF7F8A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196A-A58E-414D-B7BC-4E6AF142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CA48-D885-41BC-8003-A5A3B19C2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66E46-6B1F-4038-9D92-5D91F8E7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6628-ED37-4217-8CB8-2F1E9451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7A89-FDF6-462D-9E0B-ECEF50509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2D61-35C7-42E8-B9D1-EF05CFD93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0EF-EE47-415F-8C56-16A3CCBB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D1EA-F7EA-435B-95F3-444199534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A66C-95D4-4C60-9F1D-20AA131D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7800-ED87-4456-BD78-39E1DB54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C720-DD40-4DFB-8626-E3ADE8FA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7567-40EC-43F9-8416-D623DEB3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933-B450-4477-83E8-F13CFFA5B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FE1-754E-42FE-84BD-494513C0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79F2-66F8-40EB-808B-45EBB4A1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MOST FAMOUS NOVEL BY MARGARET MITCH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DIER  OF  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2960" y="762120"/>
            <a:ext cx="7856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MERCENARY MAGAZINE FOUNDED IN 1975 REPORTS ON WARS AND COUNTER-TERROR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TEXAS IS THE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KY  T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OLLING STONES SONG WHICH BEGINS "I MET A BAR-ROOM QUEEN IN MEMPHIS, SHE TRIED TO TAKE ME UPSTAIRS FOR A RIDE" IS "____ ____ WOM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T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50960" y="762120"/>
            <a:ext cx="764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TRACK MENTIONED IN THE CARLY SIMON SONG "YOU'RE SO V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8960" y="762120"/>
            <a:ext cx="850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DENSELY POPULATED CITY IN THE U.S.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TINY  ON  THE  B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7720" y="762120"/>
            <a:ext cx="7108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789 EVENT LEFT CAPTAIN WILLIAM BLIGH WITHOUT HIS 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S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57040" y="762120"/>
            <a:ext cx="8629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THAT CONTAINS THE STRING OF LETTERS "SSES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MERCENARY MAGAZINE FOUNDED IN 1975 REPORTS ON WARS AND COUNTER-TERROR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2000" y="762120"/>
            <a:ext cx="701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, WHERE HE FIGHTS THE VULTURE, PLAYED BY MICHAEL KEA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81000" y="762120"/>
            <a:ext cx="7182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MOST FAMOUS NOVEL BY MARGARET MITCH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STARRING  CLARK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3840" y="761760"/>
            <a:ext cx="7096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TEXAS IS THE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ROLLING STONES SONG WHICH BEGINS "I MET A BAR-ROOM QUEEN IN MEMPHIS, SHE TRIED TO TAKE ME UPSTAIRS FOR A RIDE" IS "____ ____ WOM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TRACK MENTIONED IN THE CARLY SIMON SONG "YOU'RE SO V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DENSELY POPULATED CITY IN THE U.S.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789 EVENT LEFT CAPTAIN WILLIAM BLIGH WITHOUT HIS 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THAT CONTAINS THE STRING OF LETTERS "SSES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36800" y="762120"/>
            <a:ext cx="707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, WHERE HE FIGHTS THE VULTURE, PLAYED BY MICHAEL KEA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6T20:52:47Z</dcterms:modified>
  <cp:revision>388</cp:revision>
  <dc:subject/>
  <dc:title>Slide 1</dc:title>
</cp:coreProperties>
</file>