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AB19-4F7B-49FB-A208-716D0A17C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D36B-BDD0-4A19-A03A-66E7F866C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78BD-924F-4C21-8CF2-7A20D9DB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A945-91A2-4EB2-A376-3941467F4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B02F-69F9-40C4-BC0D-1E687B3C6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4721-A99F-43BA-BE66-358D6F9B2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AA5F-B3EA-4803-9AB5-A3C2266E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159D-DA87-4455-887A-97B7ABC75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C5E-719A-41AC-AB95-212FF888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389D-6FCF-459C-96AE-C1A12E1E1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8D86-ECDD-40EA-B6CF-8429E264A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60C0-B6B0-44C8-83A7-B02F82F5B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2210-190E-42F3-AF45-90DACCD3D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9AEA-6A1D-49F8-89C7-0C4564F6F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C803-E079-4B97-A39B-E6CCBB92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6FCE-B6FE-4BBF-A8F8-12AC31E5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676E-6E82-4A47-8990-99CAAC88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C4E6-24BD-4402-903A-C55225D83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EB3B-A1BA-4644-A0B0-8A1EE632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14B8-5946-46B3-B88C-591E08AE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BC5C-3C07-4FA6-8451-0A33455F7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94FB-E5BA-4F13-90C0-ACBE0288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602-550F-439A-BE6F-B50EDAD6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8800" y="761760"/>
            <a:ext cx="728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THE MOST FAMOUS NOVEL BY MARGARET MITCH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DIER  OF  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2960" y="762120"/>
            <a:ext cx="7856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MERCENARY MAGAZINE FOUNDED IN 1975 REPORTS ON WARS AND COUNTER-TERROR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76400" y="762120"/>
            <a:ext cx="6991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TEXAS IS THE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KY  T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OLLING STONES SONG WHICH BEGINS "I MET A BAR-ROOM QUEEN IN MEMPHIS, SHE TRIED TO TAKE ME UPSTAIRS FOR A RIDE" IS "____ ____ WOME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TO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50960" y="762120"/>
            <a:ext cx="764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TRACK MENTIONED IN THE CARLY SIMON SONG "YOU'RE SO V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18960" y="762120"/>
            <a:ext cx="850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DENSELY POPULATED CITY IN THE U.S., AFTER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TINY  ON  THE  B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17720" y="762120"/>
            <a:ext cx="7108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789 EVENT LEFT CAPTAIN WILLIAM BLIGH WITHOUT HIS 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S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57040" y="762120"/>
            <a:ext cx="8629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THAT CONTAINS THE STRING OF LETTERS "SSES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MERCENARY MAGAZINE FOUNDED IN 1975 REPORTS ON WARS AND COUNTER-TERROR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2000" y="762120"/>
            <a:ext cx="701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2017 SPIDER-MAN FILM, WHERE HE FIGHTS THE VULTURE, PLAYED BY MICHAEL KEA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WITH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81000" y="762120"/>
            <a:ext cx="7182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THE MOST FAMOUS NOVEL BY MARGARET MITCH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8769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S  STARRING  CLARK  G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23840" y="761760"/>
            <a:ext cx="7096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TEXAS IS THE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OLLING STONES SONG WHICH BEGINS "I MET A BAR-ROOM QUEEN IN MEMPHIS, SHE TRIED TO TAKE ME UPSTAIRS FOR A RIDE" IS "____ ____ WOME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TRACK MENTIONED IN THE CARLY SIMON SONG "YOU'RE SO V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DENSELY POPULATED CITY IN THE U.S., AFTER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789 EVENT LEFT CAPTAIN WILLIAM BLIGH WITHOUT HIS 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5840" y="76176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THAT CONTAINS THE STRING OF LETTERS "SSES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36800" y="762120"/>
            <a:ext cx="707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2017 SPIDER-MAN FILM, WHERE HE FIGHTS THE VULTURE, PLAYED BY MICHAEL KEA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6T20:52:47Z</dcterms:modified>
  <cp:revision>388</cp:revision>
  <dc:subject/>
  <dc:title>Slide 1</dc:title>
</cp:coreProperties>
</file>