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C870-797A-434A-B5CF-A91DB6FD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27C2-EA66-46BE-BD59-EF8D9C7DF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D60-D252-4E2A-A1DA-41E806D4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59C3-E7F6-4836-8C43-8F93EE0D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D275-5DD0-492A-802C-A957284A5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5B66-D546-4823-9A30-20AC07F81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7BE8-788C-4F20-B85A-4FED983D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62C4-B896-4072-AA55-17AAC51C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C183-01EB-43DF-9CFD-4E7EE5CC6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1A6-6C3B-40DF-8689-CE492C8F2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62FC-F9B8-4A20-8568-EBB5ED60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F2DC-6FFA-4CC2-9CCF-7A9A4138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7786-2D8C-4B14-83DC-79A2D29C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2D66-ACD9-4CA5-B698-19BF268AC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4291-3AB4-4BF4-855F-33F15BFDB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E21B-21C1-4EFD-B00D-1F3552312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84C5-399A-4F37-81D5-BA6B0453C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98E2-381F-403E-B057-1E36244AA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3F58-CF68-4ADA-8727-DAB47312C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9599-E559-4331-BAAB-6DA214148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12E1-BBAB-4E00-9A84-C58C83820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87D0-E721-43EA-90AE-AB991250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C520-1724-4F7E-B2F4-5AF6DB86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47200" y="761760"/>
            <a:ext cx="804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S ARE    A STATE SYMBOL IN BOTH LOUISIANA AND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52440" y="762120"/>
            <a:ext cx="6637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KARL MARX QUOTE: "___ OF THE WORLD UNITE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SCH, GUILD, AND GIBSON ARE BRAND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LUMBING, A BENT PIPE THAT RETAINS FLUIDS TO PREVENT SEWER GASES FROM ENTERING BUILDINGS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7600" y="762120"/>
            <a:ext cx="884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MEASUREMENT    IS LONGER THAN THE ANCIENT ROMAN "STEP" OR WELSH "PACE", BUT SHORTER THAN THE ENGLISH "ARM" OR "ME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15 MAJOR SHIFTING PIECES OF THE EARTH'S CRUS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60440" y="762120"/>
            <a:ext cx="642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UNIFORM DID NAPOLEON AND HIS TROOPS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 OF THE AFRICAN-AMERICAN BROTHERS WHO SOLD 50 MILLION RECORDS AS THE "FOUR KINGS OF HARMO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19240" y="762120"/>
            <a:ext cx="6905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KARL MARX QUOTE: "___ OF THE WORLD UNITE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5440" y="762120"/>
            <a:ext cx="84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OLIN IS AN OILY WAX THAT CAN BE EXTRACTED FROM THE FIBERS OF WHAT TEXT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0120" y="762120"/>
            <a:ext cx="7943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S ARE    A STATE SYMBOL IN BOTH LOUISIANA AND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STEE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SCH, GUILD, AND GIBSON ARE BRAND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LUMBING, A BENT PIPE THAT RETAINS FLUIDS TO PREVENT SEWER GASES FROM ENTERING BUILDINGS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1760" y="762120"/>
            <a:ext cx="888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MEASUREMENT    IS LONGER THAN THE ANCIENT ROMAN "STEP" OR WELSH "PACE", BUT SHORTER THAN THE ENGLISH "ARM" OR "ME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15 MAJOR SHIFTING PIECES OF THE EARTH'S CRUS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56840" y="761760"/>
            <a:ext cx="6427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UNIFORM DID NAPOLEON AND HIS TROOPS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AFRICAN-AMERICAN BROTHERS WHO SOLD 50 MILLION RECORDS AS THE "FOUR KINGS OF HARMO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8553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OLIN IS AN OILY WAX THAT CAN BE EXTRACTED FROM THE FIBERS OF WHAT TEXT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6T20:56:53Z</dcterms:modified>
  <cp:revision>385</cp:revision>
  <dc:subject/>
  <dc:title>Slide 1</dc:title>
</cp:coreProperties>
</file>