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F881-BD20-4547-AFDF-C42DB8F8B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9CDD-660C-4C14-B8C2-9B132B5A3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CE3E-B669-4A3A-9E21-28AD8A90B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8812-E952-4E7E-BD01-2D5F1E235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3376-8D7C-4AF7-B604-549503715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DC26-1E10-463F-B4F4-81F09F0CD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1E4F-1BD7-42A5-9BCB-621DF792D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169C-B5D6-4C26-97C0-DA6329177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AE8A-39F9-4443-B335-7D02964D4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FA80-A997-4D53-90FB-D8A05646A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9C4B-D472-4882-A10D-9AEF452FA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C2F8-A5C2-4B6B-B77C-6138BC9D2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F25A-39E0-4B71-99AF-7BACD2F1C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F21E-416E-47A9-89B3-7EA151A83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2F2C-432A-4844-86B2-75CC29EE2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359A-ECB6-4693-B52F-1C7AB6BF4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3DD0-B367-4048-A02E-4375E79DA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A29A-D56E-48A4-8D7D-33080350A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291E-AEE7-4443-8118-F13B24B38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604D-6491-4B9F-A8F5-3875F8FF8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456F-1F54-4D97-9B95-5E08AD2A5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77FC-A5F0-49D5-B26D-E4908A292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A3FA-5443-4CB5-9362-A348E9944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47200" y="761760"/>
            <a:ext cx="8047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IANT FLOWERS ARE    A STATE SYMBOL IN BOTH LOUISIANA AND MISSISSIPP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52440" y="762120"/>
            <a:ext cx="663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IS KARL MARX QUOTE: "___ OF THE WORLD UNITE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I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ETSCH, GUILD, AND GIBSON ARE BRAND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15880" y="762120"/>
            <a:ext cx="811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LUMBING, A BENT PIPE THAT RETAINS FLUIDS TO PREVENT SEWER GASES FROM ENTERING BUILDINGS IS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47600" y="762120"/>
            <a:ext cx="8848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MEASUREMENT    IS LONGER THAN THE ANCIENT ROMAN "STEP" OR WELSH "PACE", BUT SHORTER THAN THE ENGLISH "ARM" OR "ME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3980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15 MAJOR SHIFTING PIECES OF THE EARTH'S CRUS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360440" y="762120"/>
            <a:ext cx="642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UNIFORM DID NAPOLEON AND HIS TROOPS W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00120" y="762120"/>
            <a:ext cx="794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 OF THE AFRICAN-AMERICAN BROTHERS WHO SOLD 50 MILLION RECORDS AS THE "FOUR KINGS OF HARMO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19240" y="762120"/>
            <a:ext cx="6905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IS KARL MARX QUOTE: "___ OF THE WORLD UNITE!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25440" y="762120"/>
            <a:ext cx="849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NOLIN IS AN OILY WAX THAT CAN BE EXTRACTED FROM THE FIBERS OF WHAT TEXT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NOL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0120" y="762120"/>
            <a:ext cx="7943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IANT FLOWERS ARE    A STATE SYMBOL IN BOTH LOUISIANA AND MISSISSIPP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04920" y="487692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STEEL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ETSCH, GUILD, AND GIBSON ARE BRAND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LUMBING, A BENT PIPE THAT RETAINS FLUIDS TO PREVENT SEWER GASES FROM ENTERING BUILDINGS IS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31760" y="762120"/>
            <a:ext cx="888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MEASUREMENT    IS LONGER THAN THE ANCIENT ROMAN "STEP" OR WELSH "PACE", BUT SHORTER THAN THE ENGLISH "ARM" OR "ME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15 MAJOR SHIFTING PIECES OF THE EARTH'S CRUS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356840" y="761760"/>
            <a:ext cx="6427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UNIFORM DID NAPOLEON AND HIS TROOPS W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AFRICAN-AMERICAN BROTHERS WHO SOLD 50 MILLION RECORDS AS THE "FOUR KINGS OF HARMO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95200" y="762120"/>
            <a:ext cx="8553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NOLIN IS AN OILY WAX THAT CAN BE EXTRACTED FROM THE FIBERS OF WHAT TEXTI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0-26T20:56:53Z</dcterms:modified>
  <cp:revision>385</cp:revision>
  <dc:subject/>
  <dc:title>Slide 1</dc:title>
</cp:coreProperties>
</file>