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535F-03D6-4364-97F8-7D1D24AC3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1D8F-9DC6-4073-B142-161421D9A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0EF9-B40C-4931-830C-53154CD52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CB2F-3267-46AD-A9BB-866137EA8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B580-34FB-4CFE-A955-FFFDCD7F6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0505-EF9C-4279-B613-85F527FBE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1E5D-0EED-4104-8273-E0B5658DA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3673-FCEF-4255-A731-5E010B187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E3BD-084C-4C04-840D-12686710C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8CD1-BB4A-4EBD-99A1-CBA6F85DF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6E39-9A35-419D-979A-49CBE366B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36E9-F1B6-4F5A-B663-0B9E58C14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3F08-933D-443B-9543-040ED7778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85D1-C670-43A2-B4A2-55A54883D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897E-9412-4C9B-8EB3-553E176A9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09AD-2E3F-4DFA-96D4-8B626D65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DE04-9473-4077-A941-A22C8BF5F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979B-7ABF-418E-AE3B-73494CE02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B1A1-CD2A-4678-A027-A3ED7D333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CCDE-EEC2-411F-A5B6-35DD1E44D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E94D-47A5-4F08-83B2-B980CFC8F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C8ED-4653-406B-B2D0-707E2DFE1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4495-4EBA-4AA8-BFDC-9F8C8ED9A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RTICARIA, A SKIN RASH, IS BETTER KNOWN A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KE  C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82800" y="762120"/>
            <a:ext cx="7178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HOW ABOUT AN AFRICAN-AMERICAN SUPERHERO WITH UNBREAKABLE SKIN WAS CANCELED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BOUGHT TEXACO AND CHEVRON IN    2002 IN "THE LARGEST RETAIL REBRANDING INITIATIVE IN AMERICAN BUSINESS HIS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SKY  &amp;  HU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34920" y="762120"/>
            <a:ext cx="727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79 TV SERIES FOLLOWED TWO POLICE DETECTIVES PATROLLING FICTIONAL BAY CITY, CA IN A RED GRAND TORI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ZZA  H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65080" y="762120"/>
            <a:ext cx="7413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IZZA CHAIN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ALMOND JOY CANDY BAR CALLED WITHOUT THE ALMO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47560" y="762120"/>
            <a:ext cx="804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GENIUS HAS PRESIDENT TRUMP CLAIMED TO BE MULTIPLE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"ARCHIE" COMICS AND THE CW TV SERIES "RIVERDALE", WHAT IS VERONICA'S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88920" y="762120"/>
            <a:ext cx="7166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HOW ABOUT AN AFRICAN-AMERICAN SUPERHERO WITH UNBREAKABLE SKIN WAS CANCELED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19320" y="434340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THE  PEN  IS  MIGHTIER  THAN  THE  SWOR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AGE COINED BY EDWARD BULWER-LYTTON SAYS THAT COMMUNICATION IS MORE EFFECTIVE THAN VIOL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RTICARIA, A SKIN RASH, IS BETTER KNOWN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19320" y="4343400"/>
            <a:ext cx="670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HOMES  OF  CR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1360" y="761760"/>
            <a:ext cx="880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BOUGHT TEXACO AND CHEVRON IN    2002 IN "THE LARGEST RETAIL REBRANDING INITIATIVE IN AMERICAN BUSINESS HIST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79 TV SERIES FOLLOWED TWO POLICE DETECTIVES PATROLLING FICTIONAL BAY CITY, CA IN A RED GRAND TORI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IZZA CHAIN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09800" y="762120"/>
            <a:ext cx="7124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ALMOND JOY CANDY BAR CALLED WITHOUT THE ALMO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3880" y="761760"/>
            <a:ext cx="7896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GENIUS HAS PRESIDENT TRUMP CLAIMED TO BE MULTIPLE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"ARCHIE" COMICS AND THE CW TV SERIES "RIVERDALE", WHAT IS VERONICA'S LA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81080" y="762120"/>
            <a:ext cx="8781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AGE COINED BY EDWARD BULWER-LYTTON SAYS THAT COMMUNICATION IS MORE EFFECTIVE THAN VIOL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07-12T12:47:12Z</dcterms:modified>
  <cp:revision>378</cp:revision>
  <dc:subject/>
  <dc:title>Slide 1</dc:title>
</cp:coreProperties>
</file>