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E41-856E-4570-AE8B-F8214CF2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4C4-71B2-41E6-B2F6-D56F51047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3365-3F5F-495E-8504-CCAA3BEA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78A-793B-483C-9056-3294D3AC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B70-2A32-4501-BDAC-A9D2FBEB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7D1D-DDE7-4FA0-B53B-19B890F9B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48CD-6C06-46EA-BC68-3E1AFC81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070C-9FF9-42DE-A0C5-DC1233C9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1034-1C20-4B96-B413-8DB19870A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FCAA-ECA8-43DA-81FF-7B9A1EEB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E576-8B23-40EA-A07C-6D7836FE6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12BF-37B0-41DD-AE52-B9D91B0B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E8CC-1518-4481-91C2-79E2A564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C0D3-68FF-4ACE-AD09-3285A712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E77D-442E-4E48-9D01-A96F1535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E95C-33B6-4C52-AE93-48DE4E70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01A8-4A1E-43D9-B381-312E43937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401A-C995-4287-96DE-9F4F55C2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80F-4524-494C-8A39-19B0AC839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D286-D9A1-4BD0-B719-7F159B4D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93C3-4D47-40A8-8146-CD343726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DE41-F885-408E-B56E-EC8D1C3A5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F75B-D6F0-4DF0-A206-B3CBE9B2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TICARIA, A SKIN RASH, IS BETTER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82800" y="762120"/>
            <a:ext cx="7178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ABOUT AN AFRICAN-AMERICAN SUPERHERO WITH UNBREAKABLE SKIN WAS CANCEL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BOUGHT TEXACO AND CHEVRON IN    2002 IN "THE LARGEST RETAIL REBRANDING INITIATIVE IN AMERICAN BUSINESS HI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KY  &amp;  H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4920" y="762120"/>
            <a:ext cx="727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9 TV SERIES FOLLOWED TWO POLICE DETECTIVES PATROLLING FICTIONAL BAY CITY, CA IN A RED GRAND TOR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ZZA  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65080" y="762120"/>
            <a:ext cx="7413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IZZA CHAI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LMOND JOY CANDY BAR CALLED WITHOUT THE ALM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ENIUS HAS PRESIDENT TRUMP CLAIMED TO BE MULTIPLE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ARCHIE" COMICS AND THE CW TV SERIES "RIVERDALE", WHAT IS VERONICA'S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88920" y="762120"/>
            <a:ext cx="716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ABOUT AN AFRICAN-AMERICAN SUPERHERO WITH UNBREAKABLE SKIN WAS CANCELE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HE  PEN  IS  MIGHTIER  THAN  THE  SWO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AGE COINED BY EDWARD BULWER-LYTTON SAYS THAT COMMUNICATION IS MORE EFFECTIVE THAN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TICARIA, A SKIN RASH, IS BETTER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34340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HOMES  OF  CR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BOUGHT TEXACO AND CHEVRON IN    2002 IN "THE LARGEST RETAIL REBRANDING INITIATIVE IN AMERICAN BUSINESS HI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9 TV SERIES FOLLOWED TWO POLICE DETECTIVES PATROLLING FICTIONAL BAY CITY, CA IN A RED GRAND TOR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IZZA CHAI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LMOND JOY CANDY BAR CALLED WITHOUT THE ALM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ENIUS HAS PRESIDENT TRUMP CLAIMED TO BE MULTIPLE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ARCHIE" COMICS AND THE CW TV SERIES "RIVERDALE", WHAT IS VERONICA'S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1080" y="762120"/>
            <a:ext cx="8781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AGE COINED BY EDWARD BULWER-LYTTON SAYS THAT COMMUNICATION IS MORE EFFECTIVE THAN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7-12T12:47:12Z</dcterms:modified>
  <cp:revision>378</cp:revision>
  <dc:subject/>
  <dc:title>Slide 1</dc:title>
</cp:coreProperties>
</file>