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4BBA-4487-46EE-9C52-B23303BA7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5867-3189-4165-BC2B-E072C1459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DC9A-F74D-482C-AA25-18B2C7A16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0184-22DA-4942-80C7-48A3D0EE2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76C9-D6B7-4445-992D-E88F3118B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9144-2866-47B8-BC51-ACE59B032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5442-EC28-4470-B396-EB89A64A9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5F21-3B30-4E6C-9D11-DC3D28653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EFA4-D888-4D2E-8A4F-92C492F00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73E8-15FD-4746-A036-0503A3EB4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6468-E7EA-419E-92A2-12BC488B2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DAD3-5F0C-400C-98F8-2906D8C15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589A-5C45-428B-AC5A-A36DCD9EF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40B24-6A9D-4D77-95A3-A869D1257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656A-15BA-4E90-AF5A-B64B2D4B0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5252-C3D9-4E52-ABE1-9BE28D16A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F2F7-381C-403F-8A47-939CCBD8C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2E3E-2AC1-414A-8FA9-C20AC75B0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35A3-FB1F-4D49-96AA-975A83698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94AB-8BFD-4989-B35F-B1B619AB1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C76A-F3BF-4080-9004-739C680F8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48B3-4889-4789-8E4C-73C039B74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32AA-5825-4924-AC58-95B705679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423F-2B45-447F-B49B-C6B4ED1CB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LOR GAME WAS UNRELATED TO THE OCCULT BEFORE WWI, WHEN PEARL CURRAN POPULARIZED IT  AS A DIVINING T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96920" y="761760"/>
            <a:ext cx="695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EADING CAUSE OF DEATH IN THE WORLD 100 YEARS 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676520" y="4800600"/>
            <a:ext cx="5790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Z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04800" y="762120"/>
            <a:ext cx="7932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VAN THE TERRIBLE" DECLARED HIMSELF TO BE THE FIRST WHAT OF RUS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A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190520" y="762120"/>
            <a:ext cx="6762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OK OF THE BIBLE IS AFTER JOB AND BEFORE PROVER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20600" y="762120"/>
            <a:ext cx="7102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BLE RANK IS ABOVE ESQUIRE BUT BELOW BARO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REST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33440" y="762120"/>
            <a:ext cx="827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DID PENN STATE WIN THE NCAA CHAMPIONSHIP EVERY YEAR 2011-2019 EXCEPT FOR 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JIBOU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3980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 COUNTRY BORDERS ERITREA, ETHIOPIA, AND SOM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N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117440" y="762120"/>
            <a:ext cx="6909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CREATURE IS THE MASCOT OF TRAVELO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295280" y="4876920"/>
            <a:ext cx="6553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LAPEÑ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247760" y="762120"/>
            <a:ext cx="664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PEPPER OF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IJA 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96960" y="762120"/>
            <a:ext cx="7750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LOR GAME WAS UNRELATED TO THE OCCULT BEFORE WWI, WHEN PEARL CURRAN POPULARIZED IT AS A DIVINING T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NEUMO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057320" y="762120"/>
            <a:ext cx="7029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EADING CAUSE OF DEATH IN THE WORLD 100 YEARS 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790640" y="4267080"/>
            <a:ext cx="556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BEGIN  WITH  SILENT  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47560" y="762120"/>
            <a:ext cx="804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VAN THE TERRIBLE" DECLARED HIMSELF TO BE THE FIRST WHAT OF RUSS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76480" y="761760"/>
            <a:ext cx="6791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OK OF THE BIBLE IS AFTER JOB AND BEFORE PROVER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BLE RANK IS ABOVE ESQUIRE BUT BELOW BARO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28480" y="762120"/>
            <a:ext cx="8087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DID PENN STATE WIN THE NCAA CHAMPIONSHIP EVERY YEAR 2011-2019 EXCEPT FOR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 COUNTRY BORDERS ERITREA, ETHIOPIA, AND SOMA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37800" y="761760"/>
            <a:ext cx="7265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CREATURE IS THE MASCOT OF TRAVELO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695600" y="761760"/>
            <a:ext cx="5752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PEPPER OF TEX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24T23:20:39Z</dcterms:modified>
  <cp:revision>387</cp:revision>
  <dc:subject/>
  <dc:title>Slide 1</dc:title>
</cp:coreProperties>
</file>