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BF9-E7CF-4B8B-B9E3-613E329F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028-E088-45B1-BBB3-F8B8F410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98EB-23EC-488C-B0AC-9F390D64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94AE-571D-4917-815E-1F32B16D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DAD-B864-4C19-B893-FE9895FD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7CC-29E9-45F8-9039-858D5020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C848-BA01-4732-AC41-9B2D3D80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8C7-27BE-4819-BC37-4FFC1ED1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764-3D66-4DB5-8CB2-CAED33BC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0B9-F7E8-4366-8833-710C2AA5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62D1-F9C5-4809-A0A0-319A1478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0E31-AEB3-4407-A70D-3B615D63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F70-C7D3-4936-850D-207882AC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9E0-768B-4C37-8F0A-8BBFB11C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166-257B-4388-81D5-84A679D7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147-7158-4095-A3BE-B5A33781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5D0-AB41-4991-8C57-D9B18B25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608-6055-4E38-A644-11A4A0FD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0FB-FE1D-46D8-9923-D3FAB8DD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D87-3000-4124-820C-E429F8C8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3EA-AF12-42D3-A042-CF29EC7D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97D-490F-4C5D-A6F3-D5EDD3DD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C2E8-A143-49A8-B1C2-C95669FD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24F-2056-433A-AFC5-30DB706A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LOR GAME WAS UNRELATED TO THE OCCULT BEFORE WWI, WHEN PEARL CURRAN POPULARIZED IT  AS A DIVINING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EADING CAUSE OF DEATH IN THE WORLD 100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4800" y="762120"/>
            <a:ext cx="7932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VAN THE TERRIBLE" DECLARED HIMSELF TO BE THE FIRST WHA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A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OF THE BIBLE IS AFTER JOB AND BEFORE PROVER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0600" y="762120"/>
            <a:ext cx="710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ABOVE ESQUIRE BUT BELOW BARO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ID PENN STATE WIN THE NCAA CHAMPIONSHIP EVERY YEAR 2011-2019 EXCEPT FOR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IBOU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 BORDERS ERITREA, ETHIOPIA, AND SO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17440" y="762120"/>
            <a:ext cx="690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REATURE IS THE MASCOT OF TRAVELO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LAP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47760" y="762120"/>
            <a:ext cx="66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PEPPER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IJA 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96960" y="762120"/>
            <a:ext cx="775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LOR GAME WAS UNRELATED TO THE OCCULT BEFORE WWI, WHEN PEARL CURRAN POPULARIZED IT AS A DIVINING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EADING CAUSE OF DEATH IN THE WORLD 100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90640" y="4267080"/>
            <a:ext cx="55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SILENT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7560" y="762120"/>
            <a:ext cx="804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VAN THE TERRIBLE" DECLARED HIMSELF TO BE THE FIRST WHAT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OF THE BIBLE IS AFTER JOB AND BEFORE PROVER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ABOVE ESQUIRE BUT BELOW BARO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762120"/>
            <a:ext cx="808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ID PENN STATE WIN THE NCAA CHAMPIONSHIP EVERY YEAR 2011-2019 EXCEPT FOR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 BORDERS ERITREA, ETHIOPIA, AND SOM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7800" y="761760"/>
            <a:ext cx="7265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REATURE IS THE MASCOT OF TRAVELO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95600" y="761760"/>
            <a:ext cx="575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PEPPER OF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20:39Z</dcterms:modified>
  <cp:revision>387</cp:revision>
  <dc:subject/>
  <dc:title>Slide 1</dc:title>
</cp:coreProperties>
</file>