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DAA7-1893-43F4-B8F3-EA921588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7EF-6385-45EC-BB1D-13A9A81B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222-A992-4F70-A802-4F0804DE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7A6D-CD5A-491C-A6CC-E3E494DE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68EB-78A2-4AFA-997D-C3E8CABB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8E7F-2799-4D88-B1C9-AD8DFD71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8DC2-D570-4D53-839E-1EAD43C1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7D4-4C11-4D22-BFBC-39A1DC8D6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7514-6FD7-4828-BD44-3DB6F854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0AB6-12AD-485E-9F5F-9702AE89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296E-10BE-4F1C-A032-D2B73EAD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2D2E-83FE-4E07-B449-049703C6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112-76AC-41EA-9A1A-994420A43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0F9-BAB1-46A0-A19B-716FCAF5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4A1B-7CDA-4F6B-81F3-F5F360E68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CA62-D43E-413C-8D44-9BECF8E7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FC4D-FBA1-4695-BF8D-237A9BBE3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942-E85B-41D0-BB8B-F2D0EF19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A762-AE1C-4E5A-82BB-7B66C9CDD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A212-640A-4930-8F6B-7A70FEFE7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8B3-D56D-40AE-BB7B-11D1BF3E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FBC1-0B89-461C-9E48-8A99EBE78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6B52-A55E-4A1A-875B-B40EAD2C6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KE SORRENTINO BECAME A REALITY SHOW STAR IN 2009 USING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2000" y="762120"/>
            <a:ext cx="701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ENTURY AGO, WHAT WAS THE MOST COMMON COLOR OF WEDDING DRESS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MASCOT OF THE INDIANAPOLIS COL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AUGUST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46000" y="762120"/>
            <a:ext cx="745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WOULD YOU TRAVEL TO GET FROM GUYANA TO GH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36480" y="762120"/>
            <a:ext cx="787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IECE OF FURNITURE IS THE MAGICAL ITEM THAT THE DEATH EATERS USE TO ENTER HOGWARTS IN "HARRY POTTER AND THE HALF-BLOOD PRINC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8240"/>
            <a:ext cx="8267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LEANOR ROOSEVELT'S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6960" y="762120"/>
            <a:ext cx="721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ENTURY AGO, WHAT WAS THE MOST COMMON COLOR OF WEDDING DRESS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  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HE BIG LEBOWSKI", SEVERAL SCENES TAKE PLACE AT WHAT SPORTS VEN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KE SORRENTINO BECAME A REALITY SHOW STAR IN 2009 USING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S  IN  THE  WHIT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MASCOT OF THE INDIANAPOLIS COL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AUGUST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WOULD YOU TRAVEL TO GET FROM GUYANA TO GH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IECE OF FURNITURE IS THE MAGICAL ITEM THAT THE DEATH EATERS USE TO ENTER HOGWARTS IN "HARRY POTTER AND THE HALF-BLOOD PRINC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 ON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LEANOR ROOSEVELT'S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HE BIG LEBOWSKI", SEVERAL SCENES TAKE PLACE AT WHAT SPORTS VEN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6:56:46Z</dcterms:modified>
  <cp:revision>384</cp:revision>
  <dc:subject/>
  <dc:title>Slide 1</dc:title>
</cp:coreProperties>
</file>