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2613-0838-4729-88C8-AA3CBE1A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DE6E-7783-456F-A878-793B7772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8775-A5D7-4245-9857-DB7D6A50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6C9-60ED-4D54-8F31-ABA31025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5A2D-F360-44F4-841F-51346A71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829-B5FD-4603-B695-1656F953F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6873-9F2D-4EE5-A421-A552C0C6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2E6-1422-484B-8FF3-3C45DA133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C5A-CC8D-4ACC-9EB6-1270160E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2F64-AFDA-430E-9755-E243B24C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7D4-1EE5-4DA6-9D12-5ADABC72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60F7-F7EE-4358-84E5-8367CF29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BAB-CFB9-41F9-90EC-46680BBB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83B8-3B99-4A5E-83CF-82F9A0E8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7D3D-1B11-4C3A-8E45-6840A212D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E9C-11BD-4BF0-A9C7-B84DC0F9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925-5B54-4BED-B3F7-3329190F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4E02-3682-4D4E-90B1-E60E1ECD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DE86-4C6E-4320-80B8-611CB1C4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E8F-740B-4891-A3A8-692827E2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395-1C08-4462-9AF8-975C1E5B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E627-3C21-4869-9072-81384F14F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EE3A-0864-4D47-AC81-D9F07DB6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KE SORRENTINO BECAME A REALITY SHOW STAR IN 2009 USING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2000" y="762120"/>
            <a:ext cx="701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ENTURY AGO, WHAT WAS THE MOST COMMON COLOR OF WEDDING DRESS IN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MASCOT OF THE INDIANAPOLIS COL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AUGUST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46000" y="762120"/>
            <a:ext cx="745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WOULD YOU TRAVEL TO GET FROM GUYANA TO GH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36480" y="762120"/>
            <a:ext cx="787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IECE OF FURNITURE IS THE MAGICAL ITEM THAT THE DEATH EATERS USE TO ENTER HOGWARTS IN "HARRY POTTER AND THE HALF-BLOOD PRINC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4840" y="762120"/>
            <a:ext cx="87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8240"/>
            <a:ext cx="8267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LEANOR ROOSEVELT'S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6960" y="762120"/>
            <a:ext cx="721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ENTURY AGO, WHAT WAS THE MOST COMMON COLOR OF WEDDING DRESS IN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  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HE BIG LEBOWSKI", SEVERAL SCENES TAKE PLACE AT WHAT SPORTS VEN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KE SORRENTINO BECAME A REALITY SHOW STAR IN 2009 USING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S  IN  THE  WHIT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MASCOT OF THE INDIANAPOLIS COL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AUGUST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WOULD YOU TRAVEL TO GET FROM GUYANA TO GH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IECE OF FURNITURE IS THE MAGICAL ITEM THAT THE DEATH EATERS USE TO ENTER HOGWARTS IN "HARRY POTTER AND THE HALF-BLOOD PRINC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 ON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LEANOR ROOSEVELT'S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HE BIG LEBOWSKI", SEVERAL SCENES TAKE PLACE AT WHAT SPORTS VEN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6:56:46Z</dcterms:modified>
  <cp:revision>384</cp:revision>
  <dc:subject/>
  <dc:title>Slide 1</dc:title>
</cp:coreProperties>
</file>