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7738-853F-44AB-A8C9-FF3169F96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95EA-7E51-4F80-8B60-2566E46D2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05F4-8B75-447F-8EFA-219AB1ED2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52FE-7776-44CF-93DA-03AF22506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FE6E-0C78-49DF-960D-1EDCEA566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0504-B73D-4195-BA11-E70A7C1F5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B161-61EA-42CB-A829-EF8C284E6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94DC-E8D2-4218-9779-79B55E7D8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92E5-56A3-458C-98EC-D8BEC7902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66DC-62A8-4C54-8B0B-78671CC91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D072-C304-421E-9D4F-1BB70FA2B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4853-2487-44F6-9EE6-C32928E16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57D3-303A-4798-A022-21E9DD3E1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0E8F-431E-4CF6-9116-16F7E7838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1D2F-A86B-49D6-94FC-934B0FBFF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1C64-A6DB-4DC3-A963-481AB9057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A74E-E491-4B9B-874C-DE278840A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1830-B930-46A7-83A8-F6B2EEEAD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22FD-949E-43B2-BF8D-318155311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87BF-CAB8-48A0-8D60-FC774392E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4D5E-E60C-4C32-83CC-023FAD8B2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DC3F-3E89-4A94-95D5-A5B28CD7E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D6F8-D608-45D9-81EA-14A580FAA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3880" y="762120"/>
            <a:ext cx="8436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2011 FILM STARRED BEN STILLER, EDDIE MURPHY, CASEY AFFLECK, ALAN ALDA, MATTHEW BRODERICK, JUDD HIRSCH, TÉA LEONI, MICHAEL PEÑA, AND VARIOUS TRUMP PROPERTI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ZY 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84360" y="762120"/>
            <a:ext cx="7775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09 FILM, IN WHICH HE PLAYED A DOWN-AND-OUT MUSICIAN, DID JEFF BRIDGES WIN THE OSCAR FOR BEST A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RTY  H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93760" y="762120"/>
            <a:ext cx="8556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71 FILM DOES CLINT EASTWOOD UTTER THE OFTEN MISQUOTED LINE "DO I FEEL LUCKY?  WELL, DO YA PUNK?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CHO  LI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03120" y="762120"/>
            <a:ext cx="853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6 FILM DOES JACK BLACK PLAY A MONK WHO MOONLIGHTS AS A WREST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CH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42880" y="774720"/>
            <a:ext cx="8058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ROBIN WILLIAMS FILM IS BASED ON THE BOOK "GESUNDHEIT: GOOD HEALTH IS A LAUGHING MAT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19080" y="762120"/>
            <a:ext cx="7305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"RAMBO" MOV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UD  AT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60360" y="762120"/>
            <a:ext cx="842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FILM TAKES PLACE  IN 6 TIME PERIODS, PAST PRESENT AND FUTURE, WITH THE CAST PLAYING DIFFERENT CHARACTERS IN EA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DER  SI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23720" y="762120"/>
            <a:ext cx="8294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2 FILM DOES STEVEN SEAGAL STOP MERCENARIES LED BY TOMMY LEE JONES FROM CAPTURING A NAVY BATTLE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68160" y="762120"/>
            <a:ext cx="7807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09 FILM, IN WHICH HE PLAYED A DOWN-AND-OUT MUSICIAN, DID JEFF BRIDGES WIN THE OSCAR FOR BEST AC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CH 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64960" y="762120"/>
            <a:ext cx="8614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WOODY ALLEN      FILM STARRING SCARLETT JOHANSSON USED AN EXTENDED TENNIS METAPH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WER  HE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85920" y="762120"/>
            <a:ext cx="8372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2011 FILM STARRED BEN STILLER, EDDIE MURPHY, CASEY AFFLECK, ALAN ALDA, MATTHEW BRODERICK, JUDD HIRSCH, TÉA LEONI, MICHAEL PEÑA, AND VARIOUS TRUMP PROPERTI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33520" y="43434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ITLES  ARE  2  WORDS,  CONTAINING  5  LETTERS  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1280" y="761760"/>
            <a:ext cx="8460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71 FILM DOES CLINT EASTWOOD UTTER THE OFTEN MISQUOTED LINE "DO I FEEL LUCKY?  WELL, DO YA PUNK?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22200" y="762120"/>
            <a:ext cx="849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6 FILM DOES JACK BLACK PLAY A MONK WHO MOONLIGHTS AS A WREST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7720" y="762120"/>
            <a:ext cx="8188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ROBIN WILLIAMS FILM IS BASED ON THE BOOK "GESUNDHEIT: GOOD HEALTH IS A LAUGHING MAT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52400" y="762120"/>
            <a:ext cx="7639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"RAMBO" MOV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34800" y="761760"/>
            <a:ext cx="8474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FILM TAKES PLACE  IN 6 TIME PERIODS, PAST PRESENT AND FUTURE, WITH THE CAST PLAYING DIFFERENT CHARACTERS IN EA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30200" y="761760"/>
            <a:ext cx="8283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2 FILM DOES STEVEN SEAGAL STOP MERCENARIES LED BY TOMMY LEE JONES FROM CAPTURING A NAVY BATTLESH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4160" y="762120"/>
            <a:ext cx="8635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WOODY ALLEN      FILM STARRING SCARLETT JOHANSSON USED AN EXTENDED TENNIS METAPH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10-24T16:56:54Z</dcterms:modified>
  <cp:revision>516</cp:revision>
  <dc:subject/>
  <dc:title>Slide 1</dc:title>
</cp:coreProperties>
</file>