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56B48-62C5-4725-ACBA-7F2D58B44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8A1D3-3F55-4985-B68F-08ACFF923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B581C-9C57-4092-9AE4-6304D555D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AA8EB-DEFF-4100-8616-232882240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ED41-42D4-4A07-AAE2-11FB18584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6587C-7361-42DF-830D-7296A38FD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F9316-89F7-49E3-8BCD-D678650B3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B4324-1719-4FF7-9091-EF7953C19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53F0D-176B-4227-AD79-DDDEC22B7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C6729-E805-4A1B-9EC5-0CCD03AEE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32C47-915F-444B-AB6F-5B4F3F126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869BD-CAC6-49F6-A13F-64C67156C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634AD-0020-4CB6-A057-CD64B9B29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3D21D-4098-4D68-B663-C38224DBC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F53D-494C-4D22-BB10-AD400FBCB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4891A-38F8-4AEF-B57A-026F366D6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58944-1DBE-4E37-8AC7-5CAD60DA4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F132D-6BC9-4087-9BED-8440C1A5F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BF325-5CE0-41B7-91DE-653C97F29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2B8E2-FD73-4B0E-BF3C-8293DC1AB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C40F2-E3EE-4D90-A9C9-51C46F6D1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93763-63BF-4648-B45E-3B7FD7350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ED626-EBCA-4A08-9238-E7D70DA94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71320" y="152388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LM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53880" y="762120"/>
            <a:ext cx="8436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2011 FILM STARRED BEN STILLER, EDDIE MURPHY, CASEY AFFLECK, ALAN ALDA, MATTHEW BRODERICK, JUDD HIRSCH, TÉA LEONI, MICHAEL PEÑA, AND VARIOUS TRUMP PROPERTIE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FILM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800280" y="48769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AZY  HE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84360" y="762120"/>
            <a:ext cx="7775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WHAT 2009 FILM, IN WHICH HE PLAYED A DOWN-AND-OUT MUSICIAN, DID JEFF BRIDGES WIN THE OSCAR FOR BEST ACT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RTY  HAR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293760" y="762120"/>
            <a:ext cx="85564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71 FILM DOES CLINT EASTWOOD UTTER THE OFTEN MISQUOTED LINE "DO I FEEL LUCKY?  WELL, DO YA PUNK?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CHO  LIB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303120" y="762120"/>
            <a:ext cx="853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06 FILM DOES JACK BLACK PLAY A MONK WHO MOONLIGHTS AS A WRESTL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028880" y="4889520"/>
            <a:ext cx="70866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TCH  AD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542880" y="774720"/>
            <a:ext cx="8058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8 ROBIN WILLIAMS FILM IS BASED ON THE BOOK "GESUNDHEIT: GOOD HEALTH IS A LAUGHING MATT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685880" y="4876920"/>
            <a:ext cx="5772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RST  BL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919080" y="762120"/>
            <a:ext cx="73058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"RAMBO" MOVI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14480" y="4876920"/>
            <a:ext cx="8915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OUD  AT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60360" y="762120"/>
            <a:ext cx="842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2 FILM TAKES PLACE  IN 6 TIME PERIODS, PAST PRESENT AND FUTURE, WITH THE CAST PLAYING DIFFERENT CHARACTERS IN EA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210960" y="4876920"/>
            <a:ext cx="8722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NDER  SIE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23720" y="762120"/>
            <a:ext cx="8294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92 FILM DOES STEVEN SEAGAL STOP MERCENARIES LED BY TOMMY LEE JONES FROM CAPTURING A NAVY BATTLESHI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68160" y="762120"/>
            <a:ext cx="7807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WHAT 2009 FILM, IN WHICH HE PLAYED A DOWN-AND-OUT MUSICIAN, DID JEFF BRIDGES WIN THE OSCAR FOR BEST ACT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TCH  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264960" y="762120"/>
            <a:ext cx="8614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5 WOODY ALLEN      FILM STARRING SCARLETT JOHANSSON USED AN EXTENDED TENNIS METAPH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WER  HE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385920" y="762120"/>
            <a:ext cx="83721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2011 FILM STARRED BEN STILLER, EDDIE MURPHY, CASEY AFFLECK, ALAN ALDA, MATTHEW BRODERICK, JUDD HIRSCH, TÉA LEONI, MICHAEL PEÑA, AND VARIOUS TRUMP PROPERTI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533520" y="4343400"/>
            <a:ext cx="8076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TITLES  ARE  2  WORDS,  CONTAINING  5  LETTERS  E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FILM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41280" y="761760"/>
            <a:ext cx="8460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71 FILM DOES CLINT EASTWOOD UTTER THE OFTEN MISQUOTED LINE "DO I FEEL LUCKY?  WELL, DO YA PUNK?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22200" y="762120"/>
            <a:ext cx="849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06 FILM DOES JACK BLACK PLAY A MONK WHO MOONLIGHTS AS A WRESTL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7720" y="762120"/>
            <a:ext cx="8188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8 ROBIN WILLIAMS FILM IS BASED ON THE BOOK "GESUNDHEIT: GOOD HEALTH IS A LAUGHING MATT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52400" y="762120"/>
            <a:ext cx="7639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"RAMBO" MOVI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34800" y="761760"/>
            <a:ext cx="8474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2 FILM TAKES PLACE  IN 6 TIME PERIODS, PAST PRESENT AND FUTURE, WITH THE CAST PLAYING DIFFERENT CHARACTERS IN EAC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30200" y="761760"/>
            <a:ext cx="8283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92 FILM DOES STEVEN SEAGAL STOP MERCENARIES LED BY TOMMY LEE JONES FROM CAPTURING A NAVY BATTLESHI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54160" y="762120"/>
            <a:ext cx="86356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5 WOODY ALLEN      FILM STARRING SCARLETT JOHANSSON USED AN EXTENDED TENNIS METAPH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1-10-24T16:56:54Z</dcterms:modified>
  <cp:revision>516</cp:revision>
  <dc:subject/>
  <dc:title>Slide 1</dc:title>
</cp:coreProperties>
</file>