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92FB-A1D2-4F9A-886A-CB1966E4D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263D-6732-4412-9803-AA9B4A829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0913-0FDA-485C-B092-1D0E997FB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79A5-C099-4EBD-BA68-FD1040F8E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9649-F498-4C1F-9021-1BEC7FD58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7B18-6419-430C-AE0C-DA0521EDA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50B5-E9C7-4BCF-87DD-14E066695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5392-70AD-454B-8FB1-66137CECA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11DA-97F8-44C5-A014-39FE555B8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88A4-E83E-4884-86B6-D04CE0C57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4816-9A82-4397-95A4-9BC6DC505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916A-B53F-47BB-908E-C8966462E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2A31-04EC-4DE6-9D18-5F5DBB86E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B5FD-CEE9-4F9F-AA2D-83D12950D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66C1-185F-44F4-86C5-359CD59C3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71C3-9228-4969-877A-64E7544A0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27D7-FD88-4C6D-9D41-ED6BF36DE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926B-44B4-4863-98C5-722C9647A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10C9-F69F-4D1D-B052-615B636A7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B94C-E5AE-4A7D-9616-F2993250E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44A9-3EBD-41EF-9BCE-0359008B8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C01D-4050-4498-A778-BDD012A57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16DE-6E4A-4CBB-9822-1950548CA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04880" y="15238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54200" y="761760"/>
            <a:ext cx="7635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DUCED, WROTE, AND STARRED IN THE FILMS "BORAT" AND "BRÜN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KE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87280" y="762120"/>
            <a:ext cx="8567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9, THE 3 UNIVERSITIES THAT TIED FOR FIRST IN GRADUATE OUTCOMES WERE HARVARD, YAL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90440" y="762120"/>
            <a:ext cx="876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HESS PIECE BESIDES A PAWN THAT CAN BE MOVED ON THE FIRST MO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NT  VON  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44520" y="762120"/>
            <a:ext cx="845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ULL NAME OF THE NUMBER-OBSESSED VAMPIRE ON "SESAME STRE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71600" y="762120"/>
            <a:ext cx="82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ADOPTED AN UNPRONOUNCEABLE SYMBOL AS HIS STAGE NAME BECAUSE OF A CONTRACT DISPUTE WITH HIS RECORD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SQU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9212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N'S MAGAZINE PUBLISHES ITS ANNUAL "DUBIOUS ACHIEVEMENT AWARD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 NAME  IS  EA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98320" y="762120"/>
            <a:ext cx="7947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-2009 TV SHOW ABOUT KARMA STARRED JASON LEE AS THE TITLE CHARACTER, AND JAIME PRESSLEY AS HIS EX-W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QUIS  DE  S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52600" y="762120"/>
            <a:ext cx="80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RD "SADIST" IS DERIVED FROM WHAT FRENCHMAN FAMOUS FOR HIS LIBERTINE SEXUA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36680" y="762120"/>
            <a:ext cx="827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9, THE 3 UNIVERSITIES THAT TIED FOR FIRST IN GRADUATE OUTCOMES WERE HARVARD, YALE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GER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73080" y="762120"/>
            <a:ext cx="7196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HAMBURGER CHAIN, AFTER MCDONAL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CHA  BARON  CO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52400" y="762120"/>
            <a:ext cx="7639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DUCED, WROTE, AND STARRED IN THE FILMS "BORAT" AND "BRÜ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71680" y="48769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RANKS  OF  N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09520" y="761760"/>
            <a:ext cx="8724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HESS PIECE BESIDES A PAWN THAT CAN BE MOVED ON THE FIRST MO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0492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ULL NAME OF THE NUMBER-OBSESSED VAMPIRE ON "SESAME STRE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4360" y="762120"/>
            <a:ext cx="8315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ADOPTED AN UNPRONOUNCEABLE SYMBOL AS HIS STAGE NAME BECAUSE OF A CONTRACT DISPUTE WITH HIS RECORD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N'S MAGAZINE PUBLISHES ITS ANNUAL "DUBIOUS ACHIEVEMENT AWARD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5440" y="761760"/>
            <a:ext cx="795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-2009 TV SHOW ABOUT KARMA STARRED JASON LEE AS THE TITLE CHARACTER, AND JAIME PRESSLEY AS HIS EX-W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RD "SADIST" IS DERIVED FROM WHAT FRENCHMAN FAMOUS FOR HIS LIBERTINE SEXUAL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81000" y="762120"/>
            <a:ext cx="7182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HAMBURGER CHAIN, AFTER MCDONAL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0-24T16:58:19Z</dcterms:modified>
  <cp:revision>386</cp:revision>
  <dc:subject/>
  <dc:title>Slide 1</dc:title>
</cp:coreProperties>
</file>