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33F5-1751-45A3-A607-029F5A8CC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8C08-7AFD-4763-BC04-4A8D7C680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BD3A-A88A-4B45-88B2-306EEAEB5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BCFE-7DAC-4ACE-846A-815F9F47A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D100-599F-4058-B0BB-12433E94E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2383-8E28-4224-A405-EB913C192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1642-C4DF-4E12-963E-684392188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2D80-758A-4ED0-B2D8-588DAD057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836E-5CE0-4A06-83CA-D897E6E9A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5EE8-2628-4C49-A6C8-8044AD17D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ABD1-24C2-48DC-84F4-DC3BB5339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CD1D-214C-4927-8844-02B6F300D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2C88-7C32-4177-B56B-EB420462E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2793-0546-4819-8421-010D6AEF2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7A9F-88BB-4618-98A5-99E6FCC9A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2C5C-3F33-4871-B8B5-7C7E286AF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4327-1355-47D4-96D7-4B5687D0B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B518-6000-4298-BCAE-7BEFBBD44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2AE9-C8BC-40E0-AD57-C08226097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8764-BA8B-4B14-A2B3-5C668CA34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EC8F-3101-49A8-9702-524633E13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1569-0A9B-4F9E-8C2E-C14EC5B9D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0A41-80A3-4C8D-B57A-DBE29B127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54200" y="761760"/>
            <a:ext cx="7635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, WROTE, AND STARRED IN THE FILMS "BORAT" AND "BRÜ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KE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87280" y="762120"/>
            <a:ext cx="8567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9, THE 3 UNIVERSITIES THAT TIED FOR FIRST IN GRADUATE OUTCOMES WERE HARVARD, YAL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ESS PIECE BESIDES A PAWN THAT CAN BE MOVED ON THE FIRST MO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  VON  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44520" y="762120"/>
            <a:ext cx="845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THE NUMBER-OBSESSED VAMPIRE ON "SESAME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71600" y="762120"/>
            <a:ext cx="82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ADOPTED AN UNPRONOUNCEABLE SYMBOL AS HIS STAGE NAME BECAUSE OF A CONTRACT DISPUTE WITH HIS RECORD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SQU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212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N'S MAGAZINE PUBLISHES ITS ANNUAL "DUBIOUS ACHIEVEMENT AWARD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NAME  IS  EA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98320" y="762120"/>
            <a:ext cx="7947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-2009 TV SHOW ABOUT KARMA STARRED JASON LEE AS THE TITLE CHARACTER, AND JAIME PRESSLEY AS HIS EX-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QUIS  DE  S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"SADIST" IS DERIVED FROM WHAT FRENCHMAN FAMOUS FOR HIS LIBERTINE SEXUA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36680" y="762120"/>
            <a:ext cx="827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9, THE 3 UNIVERSITIES THAT TIED FOR FIRST IN GRADUATE OUTCOMES WERE HARVARD, YALE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GER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73080" y="762120"/>
            <a:ext cx="7196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HAMBURGER CHAIN, AFTER MCDONAL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CHA  BARON  CO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52400" y="762120"/>
            <a:ext cx="7639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, WROTE, AND STARRED IN THE FILMS "BORAT" AND "BRÜ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71680" y="4876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RANKS  OF  N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ESS PIECE BESIDES A PAWN THAT CAN BE MOVED ON THE FIRST MO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49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THE NUMBER-OBSESSED VAMPIRE ON "SESAME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4360" y="762120"/>
            <a:ext cx="8315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ADOPTED AN UNPRONOUNCEABLE SYMBOL AS HIS STAGE NAME BECAUSE OF A CONTRACT DISPUTE WITH HIS RECORD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N'S MAGAZINE PUBLISHES ITS ANNUAL "DUBIOUS ACHIEVEMENT AWARD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5440" y="761760"/>
            <a:ext cx="795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-2009 TV SHOW ABOUT KARMA STARRED JASON LEE AS THE TITLE CHARACTER, AND JAIME PRESSLEY AS HIS EX-W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"SADIST" IS DERIVED FROM WHAT FRENCHMAN FAMOUS FOR HIS LIBERTINE SEXUAL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81000" y="762120"/>
            <a:ext cx="7182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HAMBURGER CHAIN, AFTER MCDONAL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4T16:58:19Z</dcterms:modified>
  <cp:revision>386</cp:revision>
  <dc:subject/>
  <dc:title>Slide 1</dc:title>
</cp:coreProperties>
</file>