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B2FF-8F3B-4712-89F9-0713A9AA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564-7CCA-47E4-A8BA-17441233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A277-A9FF-40D2-9C21-DA37DB776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549D-2206-4CCB-8BDC-48FB55021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78B-05A1-4E20-8EDB-39987059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66A9-72C5-4BCA-897A-03786235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49A-2DB1-4F34-877E-81515AC44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F3B1-A441-4770-9734-61812D225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D537-1768-4E80-92BE-D0F0A777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245-9333-4821-A581-2D4650111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EB0-060D-45A1-AEF1-45E65FBC0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3498-5F27-4EE9-A7A1-856DF513D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CD07-004B-4CCE-8F59-1E5DDB6AE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9BDD-A290-4230-A163-526B4ECAA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9FA0-FA4A-459D-A399-10CE798EF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D74-2B77-4621-87BE-26090565C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5751-F5A1-40A0-B6F4-CD1BBD17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2C1A-DB9A-4AA0-AE30-F84F67A9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112F-625A-4E0F-BE10-6B6F1539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5619-7530-4909-9095-F392F0B4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08B4-AF2B-41E0-9A00-2FE86E6A9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7FE7-C354-448E-B92C-744EEB345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774A-4364-4421-A231-F926642C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A WOMAN GET KIDNAPPED AND HER HUSBAND GENE HACKMAN AND SON MATT DILLON LOOK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REEK GODDESS OF VICTORY, WHO FLEW AROUND BATTLEFIELDS REWARDING THE WIN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UJI, CAMEO, BALDWIN, CORTLAND, AND JAZZ VARIETI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L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74720"/>
            <a:ext cx="80769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ETTER OF THE GREEK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Z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38080" y="7747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DISCHARGES THE LARGEST VOLUME OF WATE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66960" y="762120"/>
            <a:ext cx="721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GEORGE H. W. BUSH BECAME THE OLDEST EX-PRESIDENT EVER, SURPASSING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WAS THE NAME OF A PERSON THROUGH WHICH THE GODS SPOKE DIRE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RPIL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MOTH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GREEK GODDESS OF VICTORY, WHO FLEW AROUND BATTLEFIELDS REWARDING THE WIN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34340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S  (UNINTERRUPTIBLE  POWER  SUPP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3-LETTER ACRONYM ARE COMPUTER BATTERY BACKUPS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5 FILM DOES A WOMAN GET KIDNAPPED AND HER HUSBAND GENE HACKMAN AND SON MATT DILLON LOOK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UNE  100  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UJI, CAMEO, BALDWIN, CORTLAND, AND JAZZ VARIETI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ETTER OF THE GREEK ALPHAB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DISCHARGES THE LARGEST VOLUME OF WATE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17, GEORGE H. W. BUSH BECAME THE OLDEST EX-PRESIDENT EVER, SURPASSING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WAS THE NAME OF A PERSON THROUGH WHICH THE GODS SPOKE DIRECT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MOTH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3-LETTER ACRONYM ARE COMPUTER BATTERY BACKUPS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1-10-24T17:05:57Z</dcterms:modified>
  <cp:revision>398</cp:revision>
  <dc:subject/>
  <dc:title>Slide 1</dc:title>
</cp:coreProperties>
</file>