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00D2-650D-4BB1-8B9A-EF06161A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6AE1-5C76-49DA-9408-5A82E674B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0FA7-3571-4FE6-B817-9027D571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4E59-C1DD-4898-89DB-AF2565628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6C06-8E3A-452A-8122-F679ABF1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CA51-16D7-4CDA-B09A-250F502F6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2170-0C34-49D1-A9E8-19C6834E5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FA8C-3CBA-4FFD-8242-D589BECC6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BED3-E365-4140-98B8-35179DE75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2577-7C20-428F-AE27-80C31D7AD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92A3-028D-4D24-A546-1DDFFDB5E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84DA-E76A-414C-8747-A5480B93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48B1-45D3-4BB6-ADCC-64DBF12B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8B12-5024-4E73-A657-D7FCC9FA2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95F9-9777-4419-982B-13BD7FBA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9CE6-E2C8-4E99-AB12-38DE5332F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DF51-0ACE-42C9-A1B9-5D6DA7761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5028-CD64-4ACF-B767-2419E96F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4EB4-3D36-4F43-9774-F5C406999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2B30-3BAE-4EE9-8DE0-6E98996B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3FC0-D116-4A0A-A8A4-B6AB8803B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C887-7358-4E76-8453-D8E1BF8FB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0D9C-39CE-44D5-8894-A662279C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A WOMAN GET KIDNAPPED AND HER HUSBAND GENE HACKMAN AND SON MATT DILLON LOOK FOR 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REEK GODDESS OF VICTORY, WHO FLEW AROUND BATTLEFIELDS REWARDING THE WIN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UJI, CAMEO, BALDWIN, CORTLAND, AND JAZZ VARIETI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74720"/>
            <a:ext cx="8076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ETTER OF THE GREEK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747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DISCHARGES THE LARGEST VOLUME OF WATER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66960" y="762120"/>
            <a:ext cx="721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GEORGE H. W. BUSH BECAME THE OLDEST EX-PRESIDENT EVER, SURPASSING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WAS THE NAME OF A PERSON THROUGH WHICH THE GODS SPOKE DIREC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RPI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OF MOTH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REEK GODDESS OF VICTORY, WHO FLEW AROUND BATTLEFIELDS REWARDING THE WIN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34340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S  (UNINTERRUPTIBLE  POWER  SUPP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3-LETTER ACRONYM ARE COMPUTER BATTERY BACKUPS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A WOMAN GET KIDNAPPED AND HER HUSBAND GENE HACKMAN AND SON MATT DILLON LOOK FOR 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  100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UJI, CAMEO, BALDWIN, CORTLAND, AND JAZZ VARIETI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ETTER OF THE GREEK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DISCHARGES THE LARGEST VOLUME OF WATER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GEORGE H. W. BUSH BECAME THE OLDEST EX-PRESIDENT EVER, SURPASSING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WAS THE NAME OF A PERSON THROUGH WHICH THE GODS SPOKE DI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OF MOTH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3-LETTER ACRONYM ARE COMPUTER BATTERY BACKUPS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1-10-24T17:05:57Z</dcterms:modified>
  <cp:revision>398</cp:revision>
  <dc:subject/>
  <dc:title>Slide 1</dc:title>
</cp:coreProperties>
</file>