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7BDA-9AA1-4F08-97DC-3D63B733C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988B-FE43-4BCF-A3DC-E40D06FE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77025-854A-4202-8521-47B5B669D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88C19-A2BA-4FE3-9DC1-EB3D83FB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A27-EFC3-48FE-A8E4-81E1CE1A1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826D-C441-4101-A99F-7B360CCEF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BABA-FDFA-447B-BA88-0E63F995D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C8A9-B3A8-4D34-82E3-A250528C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F2D-B792-44F0-9D30-55E77809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2F9C-CB5A-4891-A204-FE2950594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5708-4D1E-4BAD-B632-1FC9613AB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3A62-3F2E-4ED1-9334-E5B49BA4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2D3E-7F83-4155-AC1B-B2459DEFE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74C1-F100-4524-9F69-6A2EA401A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90FF-7701-440D-97A7-A3C209947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C440-215A-4AEF-B4B1-538218FA9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C72C-4410-4105-8BEA-829855A75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C293-A5F6-426A-9589-4CE6A47A13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097F-B28A-40E6-86E2-916299569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DB3E-56D6-4471-ACA0-C47B909E7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E09-FA7C-4724-BCE1-7D22BD14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7076-6E4A-48FC-A4FA-054C2A6E9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1235-677F-473D-858C-C9C2EEC6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04880" y="1523880"/>
            <a:ext cx="7734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98360" y="761760"/>
            <a:ext cx="8747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SENSE SYLLABLES BECOME THE TITLE OF A #1 QUEEN SONG WHEN PRECEDED BY THE WORD "RADI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46160" y="762120"/>
            <a:ext cx="70516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HAKESPEARE TRAGEDY IS SOMETIMES CALLED "THE SCOTTISH PL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INGER HAS HAD 38 TOP-10 SINGLES, MORE THAN ANY OTHER ACT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D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6480" y="762120"/>
            <a:ext cx="733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MET BOUTIQUE HAS BEEN AN OFFICIAL CHOCOLATIER TO THE ROYAL COURT OF BELGIUM SINCE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19280" y="762120"/>
            <a:ext cx="770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OMAN GODDESS OF THE HUNT, THE MOON, AND FERTIL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39800" y="762120"/>
            <a:ext cx="7657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QUOTE, PATRICK HENRY WANTS EITHER DEATH OR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EBEL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4360" y="762120"/>
            <a:ext cx="8315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M "STATUS QUO" COMES FROM THE SAME LATIN PROVERB THAT ALSO GAVE US WHAT WORD NOW USED TO DESCRIBE PRE-CIVIL WAR TI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MAL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00120" y="762120"/>
            <a:ext cx="7943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 THAT ALSO CONTAINS THE PEEL OF THE FRUIT IS  CALLED WHAT INST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70000" y="762120"/>
            <a:ext cx="680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HAKESPEARE TRAGEDY IS SOMETIMES CALLED "THE SCOTTISH PL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MAINE  (EDWARD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06520" y="762120"/>
            <a:ext cx="813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YOUNGEST PLAYER TO BE DRAFTED BY AN NFL TEAM, THE BUFFALO BILLS IN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 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8080" y="762120"/>
            <a:ext cx="8762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NSENSE SYLLABLES BECOME THE TITLE OF A #1 QUEEN SONG WHEN PRECEDED BY THE WORD "RADI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04920" y="480060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LADY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SINGER HAS HAD 38 TOP-10 SINGLES, MORE THAN ANY OTHER ACT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OURMET BOUTIQUE HAS BEEN AN OFFICIAL CHOCOLATIER TO THE ROYAL COURT OF BELGIUM SINCE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OMAN GODDESS OF THE HUNT, THE MOON, AND FERTIL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FAMOUS QUOTE, PATRICK HENRY WANTS EITHER DEATH OR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TERM "STATUS QUO" COMES FROM THE SAME LATIN PROVERB THAT ALSO GAVE US WHAT WORD NOW USED TO DESCRIBE PRE-CIVIL WAR TIME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M THAT ALSO CONTAINS THE PEEL OF THE FRUIT IS  CALLED WHAT INST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14360" y="762120"/>
            <a:ext cx="8315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YOUNGEST PLAYER TO BE DRAFTED BY AN NFL TEAM, THE BUFFALO BILLS IN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0-24T17:09:03Z</dcterms:modified>
  <cp:revision>386</cp:revision>
  <dc:subject/>
  <dc:title>Slide 1</dc:title>
</cp:coreProperties>
</file>