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1DD4-9EE1-4B93-BBB2-DE1139D79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F1D2-8F60-46BE-9239-86331EA26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272A-5D47-42AE-80AA-B12B71575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4269-BCC2-4C6E-8492-7E555D3EF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87D2-222D-47BB-B369-0F36CA190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7524-F3D2-4E8C-92E8-E7159B0CE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36AA-2571-4CA5-8A6C-54B011F7B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71E9-AB62-4885-90C5-3E0451E5F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5256-AAB9-4B55-A331-2EE4873BC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65D6-B085-4835-A28B-75E7EED2F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956F-80E0-4320-A074-2B6253BAA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2F67-F027-4739-833B-BDED608D6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AF22-7EC3-434D-9DBB-9EBB107BA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8290-7A4A-4783-A97A-E5E107AD5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26C6-1C75-447C-8919-19FF850B2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B4B1-07C8-4DD6-8759-FFF0EFAEE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01CF-F074-4891-83E9-979BA5740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D2D3-897F-42F4-9204-B6668F9E3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D6E4-65DE-4AD9-A690-645E71149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220B-9C67-47E1-AFB0-0C4C76443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A7AE-3615-4288-8466-E223F962F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A80C-2DF4-46D7-890A-7C7B9ED3A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A4BB-00FB-472E-82F6-072601E4F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04880" y="1523880"/>
            <a:ext cx="7734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98360" y="761760"/>
            <a:ext cx="8747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NSENSE SYLLABLES BECOME THE TITLE OF A #1 QUEEN SONG WHEN PRECEDED BY THE WORD "RADI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CBE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046160" y="762120"/>
            <a:ext cx="7051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HAKESPEARE TRAGEDY IS SOMETIMES CALLED "THE SCOTTISH PL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DON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76280" y="762120"/>
            <a:ext cx="8191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SINGER HAS HAD 38 TOP-10 SINGLES, MORE THAN ANY OTHER ACT IN MUSIC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D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06480" y="762120"/>
            <a:ext cx="7331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OURMET BOUTIQUE HAS BEEN AN OFFICIAL CHOCOLATIER TO THE ROYAL COURT OF BELGIUM SINCE 196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257480" y="48769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19280" y="762120"/>
            <a:ext cx="7705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ROMAN GODDESS OF THE HUNT, THE MOON, AND FERTIL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B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39800" y="762120"/>
            <a:ext cx="7657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FAMOUS QUOTE, PATRICK HENRY WANTS EITHER DEATH OR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TEBEL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14360" y="762120"/>
            <a:ext cx="8315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TERM "STATUS QUO" COMES FROM THE SAME LATIN PROVERB THAT ALSO GAVE US WHAT WORD NOW USED TO DESCRIBE PRE-CIVIL WAR TIM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76920"/>
            <a:ext cx="6553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MAL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00120" y="762120"/>
            <a:ext cx="7943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M THAT ALSO CONTAINS THE PEEL OF THE FRUIT IS  CALLED WHAT INST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70000" y="762120"/>
            <a:ext cx="6804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HAKESPEARE TRAGEDY IS SOMETIMES CALLED "THE SCOTTISH PL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EMAINE  (EDWARD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06520" y="762120"/>
            <a:ext cx="8130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YOUNGEST PLAYER TO BE DRAFTED BY AN NFL TEAM, THE BUFFALO BILLS IN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 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08080" y="762120"/>
            <a:ext cx="8762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NSENSE SYLLABLES BECOME THE TITLE OF A #1 QUEEN SONG WHEN PRECEDED BY THE WORD "RADI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04920" y="480060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LADY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57080" y="761760"/>
            <a:ext cx="7629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SINGER HAS HAD 38 TOP-10 SINGLES, MORE THAN ANY OTHER ACT IN MUSIC HIS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71640" y="762120"/>
            <a:ext cx="720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OURMET BOUTIQUE HAS BEEN AN OFFICIAL CHOCOLATIER TO THE ROYAL COURT OF BELGIUM SINCE 196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03440" y="762120"/>
            <a:ext cx="7737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ROMAN GODDESS OF THE HUNT, THE MOON, AND FERTIL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FAMOUS QUOTE, PATRICK HENRY WANTS EITHER DEATH OR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49280" y="761760"/>
            <a:ext cx="8244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TERM "STATUS QUO" COMES FROM THE SAME LATIN PROVERB THAT ALSO GAVE US WHAT WORD NOW USED TO DESCRIBE PRE-CIVIL WAR TIME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90400" y="761760"/>
            <a:ext cx="7963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M THAT ALSO CONTAINS THE PEEL OF THE FRUIT IS  CALLED WHAT INSTE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14360" y="762120"/>
            <a:ext cx="8315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YOUNGEST PLAYER TO BE DRAFTED BY AN NFL TEAM, THE BUFFALO BILLS IN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0-24T17:09:03Z</dcterms:modified>
  <cp:revision>386</cp:revision>
  <dc:subject/>
  <dc:title>Slide 1</dc:title>
</cp:coreProperties>
</file>