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8FD3-39E4-421F-B8CA-E92A9316D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23A6-3E6B-4180-9738-4CE28E807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28AA-336A-405F-9B31-EEC4347AC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262F-5C32-49A8-9BA3-40B827DBF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867F-21B8-43B6-B6F7-E08B55F2C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901E-BA81-49C0-98E8-F6131ED61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D1F2-F0AD-486E-BDCA-75A9A1F0D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9D95-A613-4385-B2ED-BB8C1118B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6459-D899-475E-BC93-032A24DF3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726A-C00E-410B-BB26-BA8654170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02A1-1387-4FE7-ACD4-A49196735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FE2F-D1D6-4C13-A5EE-EE6ED09A3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1FC8-C895-4002-8E67-D52CB5B44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D8D7-B56E-4E47-A51A-6D6B6F9AB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BDA7-C5AB-4CD3-BE9F-B9DB86B53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4DED-4365-4D7B-979B-CB4A578CA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022B-0515-43BC-BB84-2618B98F1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4830-6294-4CB6-BF56-3D2537DC7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7D71-4FB9-4091-82C2-581890D6B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B7EE-F8BA-4D99-8047-E4906A7A7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BB96-6011-4BA5-A3FF-2E4F318A4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185D-9BF0-40DE-8689-890A2BB3F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3880-5B26-4CC3-917D-3C287A49D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SEAL WON BEST SONG OF THE YEAR IN 1996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ILD  ME  UP  BUTTERC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66720" y="762120"/>
            <a:ext cx="7810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SONG WAS A #1 HIT FOR THE FOUND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9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EL  MAGNOL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9 FILM STARRED SALLY FIELD, DOLLY PARTON, SHIRLEY MACLAINE, DARYL HANNAH, OLYMPIA DUKAKIS, AND JULIA ROBE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THER  LOCKL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DYNASTY", "T.J. HOOKER", AND "MELROSE PLACE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PTOE  THROUGH  THE  TUL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89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INY TIM'S SIGNATUR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LIES  OF  THE 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RING SIDNEY POITIER HAS A TITLE THAT COMES FROM A PORTION OF THE SERMON ON THE MOU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228600" y="48769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IS  D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04840" y="782640"/>
            <a:ext cx="6934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OUR TOWN", "LET THE MYSTERY BE", AND "NO TIME TO CRY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BELL,  ALA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FICTIONAL TOWN WHERE THE TV SERIES "HART OF DIXIE" TAKES PLACE, NAMED AFTER A BRAND OF ICE CR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SONG WAS A #1 HIT FOR THE FOUNDA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862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IVING  MISS  DAI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9 FILM STARRED MORGAN FREEMAN, JESSICA TANDY, AND DAN ACKROY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SS  FROM  A  R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486080" y="762120"/>
            <a:ext cx="6172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SEAL WON BEST SONG OF THE YEAR IN 1996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85800" y="48769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FL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9 FILM STARRED SALLY FIELD, DOLLY PARTON, SHIRLEY MACLAINE, DARYL HANNAH, OLYMPIA DUKAKIS, AND JULIA ROBE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DYNASTY", "T.J. HOOKER", AND "MELROSE PLACE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INY TIM'S SIGNATUR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STARRING SIDNEY POITIER HAS A TITLE THAT COMES FROM A PORTION OF THE SERMON ON THE MOU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OUR TOWN", "LET THE MYSTERY BE", AND "NO TIME TO CRY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FICTIONAL TOWN WHERE THE TV SERIES "HART OF DIXIE" TAKES PLACE, NAMED AFTER A BRAND OF ICE CR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9 FILM STARRED MORGAN FREEMAN, JESSICA TANDY, AND DAN ACKROY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6T18:07:35Z</dcterms:created>
  <dc:creator>Jennifer Budzinski</dc:creator>
  <dc:description/>
  <dc:language>en-US</dc:language>
  <cp:lastModifiedBy>Erich Friedman</cp:lastModifiedBy>
  <dcterms:modified xsi:type="dcterms:W3CDTF">2020-08-24T23:07:24Z</dcterms:modified>
  <cp:revision>406</cp:revision>
  <dc:subject/>
  <dc:title>Slide 1</dc:title>
</cp:coreProperties>
</file>