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AA03-E3FF-4A90-86F4-5194FB15D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639-4F08-427E-87B5-85E6C5E2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848C-41D0-448D-BE60-FDD5C635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8B8-07F1-40F0-B3A4-BCC287F6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BB25-0FC5-48E8-B87F-0BDEC5A6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5F44-DC31-44F8-94B2-6EA75FF1B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843-6BF5-4A44-801C-D6775A10F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D712-889A-4C1D-A248-EBDC3B68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49C9-E33F-428B-812F-E9CB506B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B799-6E51-4E80-AD9C-17C71E95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6FE8-B711-41DC-96A9-845E46F2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169C-1B93-4943-BF87-3C4ED643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F87-B507-459B-BE85-FAB458C1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FFB5-56EF-49F3-AC29-D1A958D2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93A4-8B0C-4EAE-9117-39939728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AFF5-3E55-4BC9-9DD6-8AFB6A90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AE23-5AB9-42A0-B624-CA199FEF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7DFF-C19B-4406-AA34-A4D7C789F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C6E-C6F6-4DC5-ABF0-D764B57A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6DC-7B98-406D-B86A-7BDD4501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49E1-4392-4EE4-BE69-5BBAFEE36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F35-B3A3-425D-AD4D-6A5AAFFD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0FF-37A7-461B-BFD3-454F2BEE5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EAL WON BEST SONG OF THE YEAR IN 1996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ILD  ME  UP  BUTTER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ONG WAS A #1 HIT FOR THE FOUND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  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SALLY FIELD, DOLLY PARTON, SHIRLEY MACLAINE, DARYL HANNAH, OLYMPIA DUKAKIS, AND JULIA ROB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ER  LOCK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DYNASTY", "T.J. HOOKER", AND "MELROSE PLAC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TOE  THROUGH  THE  TU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89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Y TIM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IES  OF  THE 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SIDNEY POITIER HAS A TITLE THAT COMES FROM A PORTION OF THE SERMON ON THE MO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 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82640"/>
            <a:ext cx="6934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UR TOWN", "LET THE MYSTERY BE", AND "NO TIME TO CR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LL,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CTIONAL TOWN WHERE THE TV SERIES "HART OF DIXIE" TAKES PLACE, NAMED AFTER A BRAND OF ICE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ONG WAS A #1 HIT FOR THE FOUND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ING  MISS  DA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MORGAN FREEMAN, JESSICA TANDY, AND DAN ACKR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FROM  A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86080" y="762120"/>
            <a:ext cx="6172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EAL WON BEST SONG OF THE YEAR IN 1996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SALLY FIELD, DOLLY PARTON, SHIRLEY MACLAINE, DARYL HANNAH, OLYMPIA DUKAKIS, AND JULIA ROB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DYNASTY", "T.J. HOOKER", AND "MELROSE PLAC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Y TIM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SIDNEY POITIER HAS A TITLE THAT COMES FROM A PORTION OF THE SERMON ON THE MO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UR TOWN", "LET THE MYSTERY BE", AND "NO TIME TO CR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CTIONAL TOWN WHERE THE TV SERIES "HART OF DIXIE" TAKES PLACE, NAMED AFTER A BRAND OF ICE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MORGAN FREEMAN, JESSICA TANDY, AND DAN ACKROY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8:07:35Z</dcterms:created>
  <dc:creator>Jennifer Budzinski</dc:creator>
  <dc:description/>
  <dc:language>en-US</dc:language>
  <cp:lastModifiedBy>Erich Friedman</cp:lastModifiedBy>
  <dcterms:modified xsi:type="dcterms:W3CDTF">2020-08-24T23:07:24Z</dcterms:modified>
  <cp:revision>406</cp:revision>
  <dc:subject/>
  <dc:title>Slide 1</dc:title>
</cp:coreProperties>
</file>