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983-81B1-4E15-8C7F-EA36EC94F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83E-D23A-4938-8972-D02947BB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017E-7C51-4E7C-8CC4-18AAEDC0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708-6E3D-4E85-8FA7-2AAB306F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944-4F3F-4663-8510-AC8B4905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267-958B-4EB7-A16A-32152A334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BCA-5227-4A16-BACC-810CAF29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CCFF-DC26-415E-A95B-2107E900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0BB3-0D46-4957-96D4-4D990D17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8653-5362-4941-AD8A-792FDEEE8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5EB-5297-42DC-98C5-8A4C3187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E4A-986D-48A4-A786-CBDCF43F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3076-9F63-4D52-B37E-AD3249A6B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3ED-CF70-44B0-B289-88C9D8D6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8F4-044A-470E-A9EB-DDE7819E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F6FD-FE2D-4419-88E3-9C380908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259-05D9-422D-8DE9-A1A0FE467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00D-3503-4BC6-888C-CBB5681F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F5F-B930-47DB-A55C-56E99332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812-293C-44AB-A5D6-5C316601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7F5-3507-4926-BE7D-8704B621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7B2-E075-4B98-9413-9454BF7B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4A06-A954-403E-A0FE-B8078B97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ILD  ME  UP  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ER  LOCK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TOE  THROUGH  THE  TU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89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IES  OF  THE 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8264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LL,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ING  MISS  DA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FROM  A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8:07:35Z</dcterms:created>
  <dc:creator>Jennifer Budzinski</dc:creator>
  <dc:description/>
  <dc:language>en-US</dc:language>
  <cp:lastModifiedBy>Erich Friedman</cp:lastModifiedBy>
  <dcterms:modified xsi:type="dcterms:W3CDTF">2020-08-24T23:07:24Z</dcterms:modified>
  <cp:revision>406</cp:revision>
  <dc:subject/>
  <dc:title>Slide 1</dc:title>
</cp:coreProperties>
</file>