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AA5-D298-425F-A076-58B9CABE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30F-76F8-4012-BD7B-7E12BE1AF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F397-58CC-41CD-A3DA-152C4BECB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2575-3E74-47E5-A39F-846D094A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A6E5-FAB4-4A39-B53B-469184E3B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C70D-8858-484C-9DA6-D7CB7728E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ACC3-0350-40E1-9B9C-B74EEBEA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1BDF9-5EF4-4B06-B928-BAC0D8E6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AA59-CBDA-4BE9-948C-AFDC840D4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D202-F3D5-4B70-8176-97BCC0C4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8B0A-4A0E-4DD9-956A-A65FD470D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08A2-0297-400F-B910-B257BFC7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2301-FB9F-409D-A308-23999C1B9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41F-1DA0-41A6-A425-7969A493B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4A9-0ED4-448E-A4E1-C5D564596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2695-6E8C-4D29-A598-961DCF422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F08-5F74-4244-A527-EDF494DB3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2255-76C7-4EAA-8CFE-99200B90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52D2-3BC6-4E20-BAB9-5A6074F5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1E35-5809-4CE0-A021-5C224CC1F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FAB-CB5C-4C87-9A05-A5A1B6E7A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C60F-401F-4E0C-A138-17A89900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4F19-5849-4F77-80D2-F7541945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13960" y="761760"/>
            <a:ext cx="7513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WAS TRADITIONALLY SAID DURING "HIDE AND SEEK" TO INDICATE IT WAS SAFE TO COME OUT OF HI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52280" y="4797360"/>
            <a:ext cx="4792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NING 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9480" y="1139760"/>
            <a:ext cx="3589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181480" y="50796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UISA MAY ALCOTT'S MOST FAMOU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T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-SEAT FIGHTER AIRCRAFT DID THE BRITISH USE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93760" y="762120"/>
            <a:ext cx="855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MERICA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AFTER "HOMECOMING" AND "HAT TRICK", AND BEFORE "HEARTS", "HIDEAWAY", AND "HAR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OF  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8680" y="762120"/>
            <a:ext cx="8480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RTICLE II, SECTION 3 OF THE U.S. CONSTITUTION REQUIRE THE PRESIDENT      TO PERIODICALLY GIVE CONGRESS INFORMATION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'S  R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FROM WHAT DID GOD CREATE THE FIRST WOMAN, E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, AND 34 TIMES IN THE SONG, OF THE ONLY SONG BY THE JAMIES TO HIT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363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181480" y="507960"/>
            <a:ext cx="350532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LY  LAST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EL'S ONLY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LY  OLLY  OXEN  F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WAS TRADITIONALLY SAID DURING "HIDE AND SEEK" TO INDICATE IT WAS SAFE TO COME OUT OF HI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ERINE  HEPBUR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LOUISA MAY ALCOTT'S MOST FAMOUS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-SEAT FIGHTER AIRCRAFT DID THE BRITISH USE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MERICA'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AFTER "HOMECOMING" AND "HAT TRICK", AND BEFORE "HEARTS", "HIDEAWAY", AND "HARB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RTICLE II, SECTION 3 OF THE U.S. CONSTITUTION REQUIRE THE PRESIDENT      TO PERIODICALLY GIVE CONGRESS INFORMATION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0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FROM WHAT DID GOD CREATE THE FIRST WOMAN, E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, AND 34 TIMES IN THE SONG, OF THE ONLY SONG BY THE JAMIES TO HIT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EL'S ONLY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29:48Z</dcterms:modified>
  <cp:revision>385</cp:revision>
  <dc:subject/>
  <dc:title>Slide 1</dc:title>
</cp:coreProperties>
</file>