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56A1-2E45-4AB9-8827-45DF17E44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4731-5E41-4AF0-B705-A29BC9E1D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B8CE-0414-48B1-B052-F154AB9EC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47CE-6AA9-4C47-8826-713C6686E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1573-FC70-4F15-B543-1C5EAEA83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42DC-869B-4301-B397-260BC7AD0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C1A9-C490-4289-9F4D-CA3F89E65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EB7B-6D4E-4AB5-AD5A-A8629B8BD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7790-79AB-453C-83BF-6C33862C0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E1FC-775B-48E7-B5AF-C48DEA00F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370D-5C3F-4D33-AB8D-DCDE19DF4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DB70-E9F5-443B-BC7B-E513A80EE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5B68-3769-4E06-8EB7-9A8410946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2457-9A89-4332-8CF4-CD7568451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681B-F768-4AD4-84A4-C67AD264A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50CB-0215-4755-B5CB-91067AEC5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4973-D5E6-49E2-8AE4-890FE332B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26A8-676A-4738-9F77-3E0CC4387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4B72-9620-4302-9511-DA4C95627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2F58-7AFF-4DF3-B950-BB44B58BD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2900-AD2A-4F30-BAA5-B09B52FF6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FA68-A8A0-4559-AF9D-B8522AD2C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6926-E1FA-42A2-8D85-58B97DA63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13960" y="761760"/>
            <a:ext cx="7513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RASE WAS TRADITIONALLY SAID DURING "HIDE AND SEEK" TO INDICATE IT WAS SAFE TO COME OUT OF HI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(BE SPECIFIC!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52280" y="4797360"/>
            <a:ext cx="479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RNING 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09480" y="1139760"/>
            <a:ext cx="3589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LOWER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181480" y="507960"/>
            <a:ext cx="3505320" cy="467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LE  WO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LOUISA MAY ALCOTT'S MOST FAMOUS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T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15880" y="762120"/>
            <a:ext cx="811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LE-SEAT FIGHTER AIRCRAFT DID THE BRITISH USE DURING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93760" y="762120"/>
            <a:ext cx="8556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AMERICA'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AFTER "HOMECOMING" AND "HAT TRICK", AND BEFORE "HEARTS", "HIDEAWAY", AND "HARB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  OF  THE 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28680" y="762120"/>
            <a:ext cx="8480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RTICLE II, SECTION 3 OF THE U.S. CONSTITUTION REQUIRE THE PRESIDENT      TO PERIODICALLY GIVE CONGRESS INFORMATION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AM'S  RI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BIBLE, FROM WHAT DID GOD CREATE THE FIRST WOMAN, E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95280" y="487692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MMER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0120" y="762120"/>
            <a:ext cx="794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REPEATED TWICE IN THE TITLE, AND 34 TIMES IN THE SONG, OF THE ONLY SONG BY THE JAMIES TO HIT THE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363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LOWER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181480" y="507960"/>
            <a:ext cx="35053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DDENLY  LAST  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80920" y="762120"/>
            <a:ext cx="7382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EL'S ONLY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LY  OLLY  OXEN  F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90560" y="762120"/>
            <a:ext cx="7562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RASE WAS TRADITIONALLY SAID DURING "HIDE AND SEEK" TO INDICATE IT WAS SAFE TO COME OUT OF HI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HERINE  HEPBURN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(BE SPECIFIC!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LOUISA MAY ALCOTT'S MOST FAMOUS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LE-SEAT FIGHTER AIRCRAFT DID THE BRITISH USE DURING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99880" y="762120"/>
            <a:ext cx="8544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AMERICA'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AFTER "HOMECOMING" AND "HAT TRICK", AND BEFORE "HEARTS", "HIDEAWAY", AND "HARB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RTICLE II, SECTION 3 OF THE U.S. CONSTITUTION REQUIRE THE PRESIDENT      TO PERIODICALLY GIVE CONGRESS INFORMATION 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6840" y="761760"/>
            <a:ext cx="840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BIBLE, FROM WHAT DID GOD CREATE THE FIRST WOMAN, E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REPEATED TWICE IN THE TITLE, AND 34 TIMES IN THE SONG, OF THE ONLY SONG BY THE JAMIES TO HIT THE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EL'S ONLY #1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24T23:29:48Z</dcterms:modified>
  <cp:revision>385</cp:revision>
  <dc:subject/>
  <dc:title>Slide 1</dc:title>
</cp:coreProperties>
</file>