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75D9-7D44-4A7B-B2D7-BB909703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0510-11CF-44F3-B3BA-27FB2CCB8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28FF-F23E-4D09-B6E7-589B93918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11AB-C693-4784-B912-D9F9CD60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411F-CF74-43C7-B12D-72B72F319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522F-BA4E-4E0E-A988-BEFBA9369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F5CAB-D1B7-4AA0-B133-5E0E918B4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8B45-A848-4C85-9E28-BD516965E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72BE-B5FF-4F67-AB73-739C279E5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8D71-CB5C-4EE2-8B47-8A654EC7D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AB69-453F-4CF7-AD64-986E3D0A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4A75-2A51-4761-B121-509A81197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9611-674A-4B62-9AB4-BD5003612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57DD-E785-487A-9BC4-C4564728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3736-9431-4D01-AEFA-8511A78C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9557-7C03-4217-A39E-A8DAFE41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A403-A961-4BCB-89D3-EE2F27256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B43A-B0A1-49AB-9F23-EE567FF15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283A-0E16-41B8-B612-F73E0FB2F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5A03-502C-467E-91D1-86F221A76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6244-8A53-4742-9703-67372414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7A7C-E7E6-42ED-9AB4-47E12261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FB4-1055-4BD3-8C0C-540886508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96920" y="761760"/>
            <a:ext cx="69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PLE TOY CONSISTS OF CURLS THAT SPIN IN THE W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0160" y="762120"/>
            <a:ext cx="748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KELLY CLARKSON'S MOST SUCCESSFUL ALBUM, BY F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W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ROCKY HORROR PICTURE SHOW" IS SO POPULAR, IT IS PLAYED AT MANY WED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FFEL  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LANDMARK HAD 250,000 LIGHTS INSTALLED ON IT FROM 1925 TO 1934, MAKING IT A 500-FOOT-TALL AD FOR CITROEN 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N  THE  FLYING  TRAPE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OLD SONG IS SIGNOR BONA SLANG THE DARING YOUNG PERFORMER WHO FLIES THROUGH THE AIR WITH THE GREATEST OF 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OUND  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04840" y="762120"/>
            <a:ext cx="87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JULES VERNE NOVEL, PHILEAS FOGG BETS HIS FRIENDS THAT HE CAN'T TRAVEL WHAT ROUTE "IN EIGHTY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THE  CR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8240"/>
            <a:ext cx="8267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ET WILLIAM ROSS WALLACE IS BEST REMEMBERED FOR HIS CLAIM THAT THE HANDS THAT DO WHAT MATERNAL TASK RULE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89120" y="762120"/>
            <a:ext cx="756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PARODY FILM STARRED WOODY ALLEN AS A MAN CRYOGENICALLY FROZEN FOR 2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  THE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UGUST 1, 1978, NEW YORK BECAME THE FIRST BIG CITY TO REQUIRE RESIDENTS TO CLEAN UP AS THEY DO WHAT TA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00240" y="762120"/>
            <a:ext cx="674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PLE TOY CONSISTS OF CURLS THAT SPIN IN THE W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YO–YO  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KELLY CLARKSON'S MOST SUCCESSFUL ALBUM, BY F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ROCKY HORROR PICTURE SHOW" IS SO POPULAR, IT IS PLAYED AT MANY WED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LANDMARK HAD 250,000 LIGHTS INSTALLED ON IT FROM 1925 TO 1934, MAKING IT A 500-FOOT-TALL AD FOR CITROEN 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OLD SONG IS SIGNOR BONA SLANG THE DARING YOUNG PERFORMER WHO FLIES THROUGH THE AIR WITH THE GREATEST OF EA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280" y="761760"/>
            <a:ext cx="889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JULES VERNE NOVEL, PHILEAS FOGG BETS HIS FRIENDS AT LONDON'S REFORM CLUB THAT HE CAN'T TRAVEL WHAT ROUTE "IN EIGHTY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ET WILLIAM ROSS WALLACE IS BEST REMEMBERED FOR HIS CLAIM THAT THE HANDS THAT DO WHAT MATERNAL TASK RULE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UGUST 1, 1978, NEW YORK BECAME THE FIRST BIG CITY TO REQUIRE RESIDENTS TO CLEAN UP AS THEY DO WHAT TAS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32:33Z</dcterms:modified>
  <cp:revision>383</cp:revision>
  <dc:subject/>
  <dc:title>Slide 1</dc:title>
</cp:coreProperties>
</file>