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EAF5A-40D1-4530-9B17-DC9427417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67F9F-1367-4941-911D-90B887E9E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87B47-E278-4149-809C-CC25E304E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DD1CA-73FF-44AE-97D9-13D5B905A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7BFBD-55D7-45C1-82D2-CA0C5553A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26F35-41CE-4B30-B92B-4CCFEC05D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F2718-E627-4012-BB88-3CE55047F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03E7B-D349-46EE-B740-79F9879A8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B0F62-D126-4810-ADBC-CAFE49AB5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60FD5-4FDF-4977-A8D5-DC8417AF9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F84A7-C2F3-4F2F-A643-0D0855B88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76F7E-6DFD-484B-B2EF-E6AAF339D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5D5B7-023E-45C7-BA55-AB2AB4E59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6F7FF-6DB1-4FD1-B84F-B43CEE710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B568D-580D-48BF-B698-455F269BD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91CEA-8C41-4B60-80F4-8F7D71110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98C2F-9882-4C86-97EC-4DEBDBA9B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B8D43-77BD-434B-B150-8B1AB267F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CC3F0-A49B-4406-BB5D-08EC32FFC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DC1B0-E1B0-4D23-82B2-4203D1855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A5909-0F05-491A-BD7A-9093B754E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A90B8-5D6A-4C69-8002-53A143634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D810F-B650-491A-BC27-8C7C1D44B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04880" y="1523880"/>
            <a:ext cx="7734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096920" y="761760"/>
            <a:ext cx="6950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MPLE TOY CONSISTS OF CURLS THAT SPIN IN THE WI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LEE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30160" y="762120"/>
            <a:ext cx="74836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3 PARODY FILM STARRED WOODY ALLEN AS A MAN CRYOGENICALLY FROZEN FOR 200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838080" y="4876920"/>
            <a:ext cx="7467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EAKA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76280" y="762120"/>
            <a:ext cx="8191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 KELLY CLARKSON'S MOST SUCCESSFUL ALBUM, BY F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E  WAR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515880" y="762120"/>
            <a:ext cx="811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FROM "THE ROCKY HORROR PICTURE SHOW" IS SO POPULAR, IT IS PLAYED AT MANY WEDDIN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257480" y="4876920"/>
            <a:ext cx="662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IFFEL  T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33440" y="762120"/>
            <a:ext cx="82771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CONIC LANDMARK HAD 250,000 LIGHTS INSTALLED ON IT FROM 1925 TO 1934, MAKING IT A 500-FOOT-TALL AD FOR CITROEN C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21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N  ON  THE  FLYING  TRAPEZ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39800" y="762120"/>
            <a:ext cx="7657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WHAT OLD SONG IS SIGNOR BONA SLANG THE DARING YOUNG PERFORMER WHO FLIES THROUGH THE AIR WITH THE GREATEST OF EA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OUND  THE  WOR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204840" y="762120"/>
            <a:ext cx="8734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 JULES VERNE NOVEL, PHILEAS FOGG BETS HIS FRIENDS THAT HE CAN'T TRAVEL WHAT ROUTE "IN EIGHTY DAY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95280" y="4876920"/>
            <a:ext cx="6553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CK  THE  CRAD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38120" y="768240"/>
            <a:ext cx="826776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ET WILLIAM ROSS WALLACE IS BEST REMEMBERED FOR HIS CLAIM THAT THE HANDS THAT DO WHAT MATERNAL TASK RULE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89120" y="762120"/>
            <a:ext cx="7564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3 PARODY FILM STARRED WOODY ALLEN AS A MAN CRYOGENICALLY FROZEN FOR 200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LK  THE  D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880920" y="762120"/>
            <a:ext cx="7382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AUGUST 1, 1978, NEW YORK BECAME THE FIRST BIG CITY TO REQUIRE RESIDENTS TO CLEAN UP AS THEY DO WHAT TAS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NWHE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200240" y="762120"/>
            <a:ext cx="67435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MPLE TOY CONSISTS OF CURLS THAT SPIN IN THE WI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YO–YO  TRI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71520" y="761760"/>
            <a:ext cx="8400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 KELLY CLARKSON'S MOST SUCCESSFUL ALBUM, BY F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FROM "THE ROCKY HORROR PICTURE SHOW" IS SO POPULAR, IT IS PLAYED AT MANY WEDDIN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76440" y="762120"/>
            <a:ext cx="7791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CONIC LANDMARK HAD 250,000 LIGHTS INSTALLED ON IT FROM 1925 TO 1934, MAKING IT A 500-FOOT-TALL AD FOR CITROEN C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WHAT OLD SONG IS SIGNOR BONA SLANG THE DARING YOUNG PERFORMER WHO FLIES THROUGH THE AIR WITH THE GREATEST OF EAS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25280" y="761760"/>
            <a:ext cx="8893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 JULES VERNE NOVEL, PHILEAS FOGG BETS HIS FRIENDS AT LONDON'S REFORM CLUB THAT HE CAN'T TRAVEL WHAT ROUTE "IN EIGHTY DAY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ET WILLIAM ROSS WALLACE IS BEST REMEMBERED FOR HIS CLAIM THAT THE HANDS THAT DO WHAT MATERNAL TASK RULE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19000" y="762120"/>
            <a:ext cx="7506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AUGUST 1, 1978, NEW YORK BECAME THE FIRST BIG CITY TO REQUIRE RESIDENTS TO CLEAN UP AS THEY DO WHAT TAS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1T13:59:04Z</dcterms:created>
  <dc:creator>Jennifer Budzinski</dc:creator>
  <dc:description/>
  <dc:language>en-US</dc:language>
  <cp:lastModifiedBy>Erich Friedman</cp:lastModifiedBy>
  <dcterms:modified xsi:type="dcterms:W3CDTF">2021-11-24T23:32:33Z</dcterms:modified>
  <cp:revision>383</cp:revision>
  <dc:subject/>
  <dc:title>Slide 1</dc:title>
</cp:coreProperties>
</file>