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36527-BF95-4751-A76B-546EE22CF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3912F-C8A7-4AB8-86F4-E888D6FC8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1D2FF-A837-416E-8E2E-371373A92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6F10F-3C55-4694-AFE0-ACF5D9F71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025AD-43AB-479F-8B7A-E2A2C3222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77C12-6AC8-4093-821E-D36CA48DF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4202E-04D6-4D30-968B-D6B5EF321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9E152-B09E-4E0A-BA76-498613907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7ABC1-5B1C-4486-BAB9-E060C7363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BE17F-C476-43F9-96D6-8E6F531D2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B7B44-492F-4D89-B1BC-7CDC0D001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DF4E3-A166-420D-8B86-14D492543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A4A5F-9205-4F0F-B26F-7D8B2A98B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71363-FC01-4187-996F-3303C3C13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B7593-7F6F-4B3F-95A3-EC173D643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3029F-EB48-45CB-A36E-2425B6221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ACC97-F1E3-44BC-8E41-1D553A6EB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A7988-BE7A-464E-9681-619EFAC81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347EF-693E-415A-8F0B-EF6133DCC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41F8C-0D1F-4CEA-A12F-D948F9E91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5A2EB-75FB-475B-B1E0-CD4294E59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056B2-87A2-43F4-9E21-D2B028030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99FF7-98AA-4D67-B52A-99047DF4C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BEDC5-306F-4AF3-804F-56DC4ED5C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819000" y="762120"/>
            <a:ext cx="7506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OVIE STAR USED TO BE A RAPPER KNOWN AS "THE FRESH PRINC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62040" y="761760"/>
            <a:ext cx="781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SELLING BRAND OF COOKING OI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647640" y="762120"/>
            <a:ext cx="78487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BALTIMORE'S NFL TEAM BEFORE THE RAVE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838080" y="4876920"/>
            <a:ext cx="7467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MINGTON  STEE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476280" y="762120"/>
            <a:ext cx="81914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2-1987 DETECTIVE SERIES STARRED PIERCE BROSNAN IN THE TITLE RO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ET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515880" y="762120"/>
            <a:ext cx="811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5-1978 DETECTIVE SERIES STARRED ROBERT BLAKE IN THE TITLE RO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419040" y="4876920"/>
            <a:ext cx="8305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IZABETH  BARRETT  BROW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763560" y="762120"/>
            <a:ext cx="76154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POEM "HOW DO I LOVE THE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4921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RING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1265400" y="762120"/>
            <a:ext cx="6607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ITY DO "THE SIMPSONS" L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U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419040" y="762120"/>
            <a:ext cx="8305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MEONE BORN ON MAY DAY IS WHAT ASTROLOGICAL SIG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04880" y="1523880"/>
            <a:ext cx="7734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295280" y="4362480"/>
            <a:ext cx="6553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ES  EMERSON  WINCHESTER  I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1500120" y="762120"/>
            <a:ext cx="6143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ARACTER DID DAVID OGDEN STIERS PLAY ON "M*A*S*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  SM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963720" y="762120"/>
            <a:ext cx="72165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OVIE STAR USED TO BE A RAPPER KNOWN AS "THE FRESH PRIN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1314360" y="4876920"/>
            <a:ext cx="6515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ES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623880" y="762120"/>
            <a:ext cx="7896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SELLING BRAND OF COOKING OI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723960" y="4876920"/>
            <a:ext cx="769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BRANDS  OF  G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85720" y="762120"/>
            <a:ext cx="7972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BALTIMORE'S NFL TEAM BEFORE THE RAVE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65120" y="761760"/>
            <a:ext cx="8213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2-1987 DETECTIVE SERIES STARRED PIERCE BROSNAN IN THE TITLE RO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781200" y="762120"/>
            <a:ext cx="7581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5-1978 DETECTIVE SERIES STARRED ROBERT BLAKE IN THE TITLE RO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74800" y="762120"/>
            <a:ext cx="7394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POEM "HOW DO I LOVE THE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333440" y="762120"/>
            <a:ext cx="6477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ITY DO "THE SIMPSONS" LIV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58920" y="761760"/>
            <a:ext cx="8426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MEONE BORN ON MAY DAY IS WHAT ASTROLOGICAL SIG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419120" y="761760"/>
            <a:ext cx="63057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ARACTER DID DAVID OGDEN STIERS PLAY ON "M*A*S*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1T13:59:04Z</dcterms:created>
  <dc:creator>Jennifer Budzinski</dc:creator>
  <dc:description/>
  <dc:language>en-US</dc:language>
  <cp:lastModifiedBy>Erich Friedman</cp:lastModifiedBy>
  <dcterms:modified xsi:type="dcterms:W3CDTF">2021-10-24T17:21:47Z</dcterms:modified>
  <cp:revision>390</cp:revision>
  <dc:subject/>
  <dc:title>Slide 1</dc:title>
</cp:coreProperties>
</file>