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B804-7EED-4C40-9009-D89B30ED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4201-EE51-4B4D-A4E2-8892CE17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531-CB20-4A7C-9E52-3CA70E69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E99C-9E4B-4F1F-86F5-9B12E9FC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EE9-571B-4C86-A29E-73EA15E6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89BB-E46C-4675-8667-F34DBB0C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B9B-8AC9-4D5F-B822-FD62902B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351-6169-4D87-B60B-B8843BBE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795B-DF0D-45FC-85EE-7C74BAD1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0B96-1BD0-48C6-9177-753B1F8A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426-F9A3-4D5C-A19A-F3F27445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76F-5F9F-45B7-A60C-953EBA3A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1FE0-9944-4FFD-870D-EB3AC70FD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74C-85E4-49F8-855E-3E7CF8DE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8C5-EB17-45B8-B051-FA81049D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3FCB-8149-4BD2-8757-9E356B6D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F65-F7B2-4298-ACD6-C55B836B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58BE-8073-48D6-8154-619EB78F8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9D4-ECCD-4F8F-A5D4-58939FB1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7101-B1AB-4829-8D64-D4B77597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6D5C-834E-416F-8FB5-320A8B05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00D1-4859-48ED-9F5C-9C0D4C611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E82F-6A4A-4B86-B006-2DBAD6D6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0F8-2F97-476B-8142-F7795BF9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AR USED TO BE A RAPPER KNOWN AS "THE FRESH PRI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OKING 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ALTIMORE'S NFL TEAM BEFORE TH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INGTON 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7 DETECTIVE SERIES STARRED PIERCE BROSNAN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E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SERIES STARRED ROBERT BLAKE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BARRETT  BROW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3560" y="762120"/>
            <a:ext cx="76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HOW DO I LOVE TH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65400" y="762120"/>
            <a:ext cx="660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O "THE SIMPSONS"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 BORN ON MAY DAY IS WHAT ASTROLOGICAL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36248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EMERSON  WINCHESTER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00120" y="762120"/>
            <a:ext cx="61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AVID OGDEN STIERS PLAY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63720" y="762120"/>
            <a:ext cx="721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AR USED TO BE A RAPPER KNOWN AS "THE FRESH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OKING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RANDS  OF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5720" y="762120"/>
            <a:ext cx="797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ALTIMORE'S NFL TEAM BEFORE THE RAV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7 DETECTIVE SERIES STARRED PIERCE BROSNAN IN THE TITLE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SERIES STARRED ROBERT BLAKE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4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HOW DO I LOVE TH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O "THE SIMPSONS" 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8920" y="761760"/>
            <a:ext cx="842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 BORN ON MAY DAY IS WHAT ASTROLOGICAL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19120" y="761760"/>
            <a:ext cx="6305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AVID OGDEN STIERS PLAY ON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7:21:47Z</dcterms:modified>
  <cp:revision>390</cp:revision>
  <dc:subject/>
  <dc:title>Slide 1</dc:title>
</cp:coreProperties>
</file>