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8FF7-7816-4159-AA78-B51EE00EF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5B82-3C3C-4813-9B8E-F9CEE258B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C7E2-1582-4DDF-AF73-AA4038FA7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75BA-77BE-4CDE-8314-6DB1D2125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2D2C-70D4-4CE0-AE21-7D61A3FA2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EB5E-2FE3-42CD-AA09-551FB1496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29E5-161F-4706-AC93-6C4746C77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DD49-FF65-40F3-86DC-7A4F346B4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C14B-1FCD-411F-8F21-B5E154E03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D0FA-50D1-43B2-A044-02B04EAB4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D6BB-B454-4199-8D13-0093739E7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CB14-804B-4E72-9936-A3AAA5FB2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80AB-B16B-4BB0-B3EA-851DA4971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150C-49B5-41F0-9722-7E5FFB014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D9D0-1505-4974-9F86-A1F5A5C59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616B-838C-4C79-8D78-732B9ABD2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9E47-7C44-4BDB-8183-08FC29CC3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E97A-E0A7-46BE-AADC-3A1C86B33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964A-C765-43F9-B4FC-761F0DB69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E994-D15D-43DF-8D9A-73C0CF5B5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06BE-0182-4F77-9B8A-C7872C76E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6765-8608-44F8-BB8B-D4B38D130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D850-1965-4D0A-AF6D-07EB6271E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04880" y="152388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41400" y="761760"/>
            <a:ext cx="7261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WORDS TO THE ADVERTISING JINGLE OF ALKA-SELTZER IN THE 60'S AND 7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              (BE SPECIFIC!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FF  TANN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38080" y="762120"/>
            <a:ext cx="7467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AIN ANTAGONIST OF "BACK TO THE FUTURE" AND ITS FIRST SEQU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M  BEES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HARACTER PLAYED BY JENNA FISCHER ON "THE OFF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IG  BANG 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15880" y="762120"/>
            <a:ext cx="811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TWORK TV SHOW WAS THE MOST WATCHED PROGRAM FROM FALL OF 2016 TO SPRING OF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S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85920" y="762120"/>
            <a:ext cx="8372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 TENNIS PLAYER WON THE DOUBLES TOURNAMENTS AT THE U.S. OPEN IN 2018, AND AT WIMBLEDON IN 2014 AND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265400" y="762120"/>
            <a:ext cx="6607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BBREVIATION BECAME UBIQUITOUS ON HEADSTONES IN THE 1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STLÉ CHOCOLATE BAR IS THEIR VERSION OF THE HERSHEY KRACKEL B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WOO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857240" y="762120"/>
            <a:ext cx="5429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NIKE'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65080" y="762120"/>
            <a:ext cx="7413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AIN ANTAGONIST OF "BACK TO THE FUTURE" AND ITS FIRST SEQU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63720" y="762120"/>
            <a:ext cx="7216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 GROUP SANG "ROCK THE CASBA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314360" y="4343400"/>
            <a:ext cx="6515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OP,  PLOP,  FIZZ,  FIZZ,  OH  WHAT  A  RELIEF  IT 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69840" y="762120"/>
            <a:ext cx="720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WORDS TO THE ADVERTISING JINGLE OF ALKA-SELTZER IN THE 60'S AND 7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99960" y="4343400"/>
            <a:ext cx="8344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CARTOON  NOISES  FROM  THE  "BATMAN"  TV 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              (BE SPECIFIC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77960" y="761760"/>
            <a:ext cx="7586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HARACTER PLAYED BY JENNA FISCHER ON "THE OFF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81200" y="762120"/>
            <a:ext cx="758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TWORK TV SHOW WAS THE MOST WATCHED PROGRAM FROM FALL OF 2016 TO SPRING OF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76200" y="762120"/>
            <a:ext cx="8391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 TENNIS PLAYER WON THE DOUBLES TOURNAMENTS AT THE U.S. OPEN IN 2018, AND AT WIMBLEDON IN 2014 AND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BBREVIATION BECAME UBIQUITOUS ON HEADSTONES IN THE 1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12920" y="761760"/>
            <a:ext cx="8318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STLÉ CHOCOLATE BAR IS THEIR VERSION OF THE HERSHEY KRACKEL B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695600" y="761760"/>
            <a:ext cx="5752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NIKE'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 GROUP SANG "ROCK THE CASBA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1-24T23:36:23Z</dcterms:modified>
  <cp:revision>389</cp:revision>
  <dc:subject/>
  <dc:title>Slide 1</dc:title>
</cp:coreProperties>
</file>