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65A1-0E58-4BFC-838D-514E45620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5A66-CBA6-4BC5-8D40-0A3BDFED5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4765-ACBC-4B1C-948A-2F7584451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560C-5C1C-4BE1-BF59-279A64017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3512-7EFE-4DD7-BF6A-F02DCBC85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3412-AFFE-4CE6-A833-027229017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8D56-DA28-4DE5-ACF6-8C4B466A6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90E1-1C6C-43D2-AFA8-92A3E58C2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E7F7-4D9D-495E-AD4F-71DF86A73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D0CD-4CBC-4ADB-8C1B-18870D04E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C8BD-7AE3-48EE-8F95-0265A82DA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8B3C-166B-473F-855A-7AF6D6A49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A164-B78B-4ED1-96B0-AB8AFD88E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7247-C6D9-4265-8824-E60C8F9C9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8D64-93F6-42BD-AB05-3D1EC8782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E893-55ED-4C25-AC40-1B7EB61C3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145A-C86B-48B6-8025-8A143320A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F812-0C97-4D6E-9FED-26F3768B0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739D-AD5F-49D8-B59C-AB620A9EF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BE00-0A01-463F-9F90-A2ACE19DA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9200-C373-4D56-A826-333FE0E15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431D-E3F8-45B4-AB0E-33A1AEE87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B5AE-6EDF-41C1-8213-642BEEB64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41400" y="761760"/>
            <a:ext cx="726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WORDS TO THE ADVERTISING JINGLE OF ALKA-SELTZER IN THE 60'S AND 7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 (BE SPECIFIC!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FF  TANN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AIN ANTAGONIST OF "BACK TO THE FUTURE" AND ITS FIRST SEQU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  BEES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HARACTER PLAYED BY JENNA FISCHER ON "THE OFF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BANG 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15880" y="762120"/>
            <a:ext cx="811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WORK TV SHOW WAS THE MOST WATCHED PROGRAM FROM FALL OF 2016 TO SPRING OF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S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85920" y="762120"/>
            <a:ext cx="8372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TENNIS PLAYER WON THE DOUBLES TOURNAMENTS AT THE U.S. OPEN IN 2018, AND AT WIMBLEDON IN 2014 AND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65400" y="762120"/>
            <a:ext cx="660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BREVIATION BECAME UBIQUITOUS ON HEADSTONES IN THE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STLÉ CHOCOLATE BAR IS THEIR VERSION OF THE HERSHEY KRACKEL B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WOO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57240" y="762120"/>
            <a:ext cx="54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NIKE'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65080" y="762120"/>
            <a:ext cx="741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AIN ANTAGONIST OF "BACK TO THE FUTURE" AND ITS FIRST SEQU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63720" y="762120"/>
            <a:ext cx="7216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GROUP SANG "ROCK THE CASBA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343400"/>
            <a:ext cx="6515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OP,  PLOP,  FIZZ,  FIZZ,  OH  WHAT  A  RELIEF  IT 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69840" y="762120"/>
            <a:ext cx="720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WORDS TO THE ADVERTISING JINGLE OF ALKA-SELTZER IN THE 60'S AND 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99960" y="4343400"/>
            <a:ext cx="8344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CARTOON  NOISES  FROM  THE  "BATMAN"  TV 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7960" y="761760"/>
            <a:ext cx="7586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HARACTER PLAYED BY JENNA FISCHER ON "THE OFF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WORK TV SHOW WAS THE MOST WATCHED PROGRAM FROM FALL OF 2016 TO SPRING OF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76200" y="762120"/>
            <a:ext cx="8391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TENNIS PLAYER WON THE DOUBLES TOURNAMENTS AT THE U.S. OPEN IN 2018, AND AT WIMBLEDON IN 2014 AND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BREVIATION BECAME UBIQUITOUS ON HEADSTONES IN THE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2920" y="761760"/>
            <a:ext cx="8318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STLÉ CHOCOLATE BAR IS THEIR VERSION OF THE HERSHEY KRACKEL B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695600" y="761760"/>
            <a:ext cx="5752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NIKE'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GROUP SANG "ROCK THE CASBA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24T23:36:23Z</dcterms:modified>
  <cp:revision>389</cp:revision>
  <dc:subject/>
  <dc:title>Slide 1</dc:title>
</cp:coreProperties>
</file>