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F710-C4C2-4FB2-B139-11FF0C6F0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BB92-F36B-4639-A270-CD2D4DB1D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09DA-98E4-4622-A889-1905D1292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7DBA-B620-4096-9CC8-54C71ED95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F561-4408-4BE2-B40A-2C15698E3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87AE-2A82-4AF9-97A4-C3FA09E40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B97D-62B6-4AD7-943B-976009F2D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5332-C233-422C-87D3-C446B7205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6E3C-DD5A-4DC5-963D-F56E3B620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CF09-2044-44B4-A614-3AFA0ECC5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AC40-03FE-4EDA-A3D5-AA4FE56AC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6BFD-F180-42B3-942D-BD2EB1536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33D6-D9B5-4E65-B519-04C3D039F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6E9C-4746-49F9-9899-A38B88DB6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3A5F-78F4-41DF-A400-26CE4ED65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1B47-86AB-4CBA-9296-45B7D0150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B3DF-86EC-4CE9-ACE1-84162549E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0417-6C42-4500-B36F-76F76BC74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ED49-1F28-4366-82EC-8AA624DE2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E199-E09F-492A-A925-281B36C7D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E533-1191-443E-B291-9249B8463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16CC-743F-4C33-B6CF-0BCDAEA2A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6348-4AD8-4D01-A884-154CC3F13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04880" y="1523880"/>
            <a:ext cx="7734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76200" y="761760"/>
            <a:ext cx="8391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ROOSTER CALLED WHEN NOT PART OF A ROO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676520" y="4343400"/>
            <a:ext cx="5790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M  (ADJUSTABLE  RATE  MORTGAG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43040" y="762120"/>
            <a:ext cx="7657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RONYM IS USED FOR A HOME LOAN WITH A VARIABLE INTEREST R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N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114560" y="762120"/>
            <a:ext cx="6914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EXIBLE TOOL DOES A PLUMBER USE TO DISLODGE CLO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15880" y="762120"/>
            <a:ext cx="811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HAS VARIETIES CALLED BING AND RAI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19040" y="4876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EDDIE)  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96800" y="762120"/>
            <a:ext cx="8150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MUSICIAN WHO SANG "TWO TICKETS TO PARADI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01760" y="762120"/>
            <a:ext cx="8334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IMI HENDRIX SONG BEGINS "YOU DON'T CARE FOR ME, I DON'T A CARE ABOUT THAT, YOU GOT A NEW FOOL, HA! I LIKE TO LAUGH A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24000" y="762120"/>
            <a:ext cx="8496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"BABY" APPEARS IN AN UNCLE REMUS STORY FEATURING BR'ER RABB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762120" y="4876920"/>
            <a:ext cx="7619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ELECTRIC  LIGHT)  ORCHEST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500120" y="762120"/>
            <a:ext cx="6143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O" STAND FOR IN "EL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12800" y="762120"/>
            <a:ext cx="7718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RONYM IS USED FOR A HOME LOAN WITH A VARIABLE INTEREST R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BEC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80880" y="762120"/>
            <a:ext cx="8332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OKING METHOD IS USUALLY USED ON PORK IN GEORGIA, BEEF IN MARYLAND, AND MUTTON IN KENTUCK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314360" y="4876920"/>
            <a:ext cx="651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88800" y="762120"/>
            <a:ext cx="8366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ROOSTER CALLED WHEN NOT PART OF A ROO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647640" y="4853160"/>
            <a:ext cx="784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PIT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47680" y="761760"/>
            <a:ext cx="6848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EXIBLE TOOL DOES A PLUMBER USE TO DISLODGE CLO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81200" y="762120"/>
            <a:ext cx="7581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HAS VARIETIES CALLED BING AND RAI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4840" y="762120"/>
            <a:ext cx="8192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MUSICIAN WHO SANG "TWO TICKETS TO PARADI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61800" y="762120"/>
            <a:ext cx="8420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IMI HENDRIX SONG BEGINS "YOU DON'T CARE FOR ME, I DON'T A CARE ABOUT THAT, YOU GOT A NEW FOOL, HA! I LIKE TO LAUGH A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93760" y="761760"/>
            <a:ext cx="8556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"BABY" APPEARS IN AN UNCLE REMUS STORY FEATURING BR'ER RABB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419120" y="761760"/>
            <a:ext cx="6305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O" STAND FOR IN "EL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33360" y="762120"/>
            <a:ext cx="8477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OKING METHOD IS USUALLY USED ON PORK IN GEORGIA, BEEF IN MARYLAND, AND MUTTON IN KENTUCK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1-24T23:38:05Z</dcterms:modified>
  <cp:revision>394</cp:revision>
  <dc:subject/>
  <dc:title>Slide 1</dc:title>
</cp:coreProperties>
</file>