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93E6-B556-4051-9E5E-21269801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23EF-0FB2-44A5-A7BC-24A5844E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B23-DC90-4230-84FE-6886A3C1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9297-B4E7-4859-B843-308F3C75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3576-EC7A-4332-9140-697A21F3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349C-A4CF-4B85-BB6B-7D354E74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73D-6181-4498-8D68-712311CC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315-2698-4FA0-B12E-9393B65F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59C-2E9B-47C0-8083-9FD3466F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5FA9-CE6F-4D4F-AC46-01CCFB0B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0C1D-BD1E-4323-83EA-92E824B16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41E3-155B-4BB9-9EC5-AE59CC18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1390-4B83-4C65-8418-59320D5F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91F-B060-4942-A914-D81ABE575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FD8-E354-4C1C-B5BF-989F3DD7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6725-FCD5-43BB-9DAD-579D45E5A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0112-F45B-4021-9BED-C3554769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1C9D-9603-4670-9509-0B1C914D3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8CF5-837F-41CF-B235-275BFBAB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3AEB-E012-4B12-8701-9BB15BCF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022D-FCE0-4DCE-BB2A-7BE506DE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5528-5B2F-4812-9EED-BA09706B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B98-8B7E-4920-8ECB-0FBE0FE31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STER CALLED WHEN NOT PART OF A ROO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  (ADJUSTABLE  RATE  MORTGA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FOR A HOME LOAN WITH A VARIABLE INTERES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XIBLE TOOL DOES A PLUMBER USE TO DISLODGE CLO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HAS VARIETIES CALLED BING AND RAI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6800" y="762120"/>
            <a:ext cx="815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TWO TICKETS TO PARAD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1760" y="762120"/>
            <a:ext cx="8334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BABY" APPEARS IN AN UNCLE REMUS STORY FEATURING BR'ER RAB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LECTRIC  LIGHT)  ORCH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00120" y="762120"/>
            <a:ext cx="61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STAND FOR IN "EL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FOR A HOME LOAN WITH A VARIABLE INTERES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EC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3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METHOD IS USUALLY USED ON PORK IN GEORGIA, BEEF IN MARYLAND, AND MUTTON IN KENTUC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8800" y="762120"/>
            <a:ext cx="836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STER CALLED WHEN NOT PART OF A RO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5316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PI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7680" y="761760"/>
            <a:ext cx="6848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XIBLE TOOL DOES A PLUMBER USE TO DISLODGE CLO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HAS VARIETIES CALLED BING AND RAI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TWO TICKETS TO PARAD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3760" y="761760"/>
            <a:ext cx="855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BABY" APPEARS IN AN UNCLE REMUS STORY FEATURING BR'ER RAB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19120" y="761760"/>
            <a:ext cx="6305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STAND FOR IN "EL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METHOD IS USUALLY USED ON PORK IN GEORGIA, BEEF IN MARYLAND, AND MUTTON IN KENTUC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38:05Z</dcterms:modified>
  <cp:revision>394</cp:revision>
  <dc:subject/>
  <dc:title>Slide 1</dc:title>
</cp:coreProperties>
</file>