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311-B6B9-4F6A-A714-B93DAF26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370A-F8CE-47B6-8AA6-3BA52754E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F29-153C-42C3-9963-D4AAAA8A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0E18-7302-426C-A3D9-671A99CB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2B29-2FCD-4C2C-8421-7E913B9C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83A5-D7D1-4045-AAA7-AD38EE74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71A1-6BE0-41D2-8453-EE1EC79EC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6DAC-D19A-46F8-BBFD-8C04EFD5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6A70-FBD4-41AB-BFC9-D448EE8D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EEC9-EDD2-48D8-93DD-7E970A80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3264-3DD0-4232-88B2-6C2533AF3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6D03-2454-44E9-A07B-D7B7BC920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44A-1A25-4EDD-954D-00C7CEBD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E959-67EF-4B1D-9F86-D8B86F49A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FD25-056A-4634-BC6D-3E58B8A92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A1E4-E7C6-4825-81BA-F5DFCECA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E2F4-ABB9-47AB-9AB9-B18F5D634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04D8-8D42-452D-B140-6C8D6E396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AC1A-E2E9-43DD-AF1D-7000D3958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3607-5268-4443-B234-ADC50311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628-1E62-4016-83D7-BA815E1AA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CA2D-2BB9-4137-AAE3-CE2ABF94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CB5-D4D9-4C1A-B029-3A2234866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3120" y="761760"/>
            <a:ext cx="799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S. TRUMA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ND THAT BACKED UP BOB DYLAN 1965-19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7240" y="762120"/>
            <a:ext cx="7767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UTER PASSWORD THAT IS AN ENGLISH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4240" y="762120"/>
            <a:ext cx="897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BAD COMPANY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HAS THE LYRICS          "I WAS BORN, A SHOTGUN IN     MY HANDS, BEHIND THE GUN,   I'LL MAKE MY FINAL ST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82600" y="774720"/>
            <a:ext cx="857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NNIS PLAYER WHO WON 24 MAJOR TOURNAMENTS, AND HAS A COURT NAMED FOR HER AT THE AUSTRALIA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4480" y="762120"/>
            <a:ext cx="89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– • – •   – – –    – • •   •" MEAN IN MORSE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10-LETTER WORD CAN BE SPELLED USING ONLY THE TOP ROW OF LETTERS ON A TYPEWR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3400" y="762120"/>
            <a:ext cx="693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HOOPI GOLDBERG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ON-FICTION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2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ND THAT BACKED UP BOB DYLAN 1965-19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ELEANOR ROOSEVELT MARRIED FRANKLIN ROOSEVELT, WHAT WAS HER MAID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88960" y="762120"/>
            <a:ext cx="7964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S. TRUMA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90600" y="4876920"/>
            <a:ext cx="8362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PPEAR  IN  THE 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UTER PASSWORD THAT IS AN ENGLISH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2160" y="762120"/>
            <a:ext cx="895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BAD COMPANY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HAS THE LYRICS          "I WAS BORN, A SHOTGUN IN     MY HANDS, BEHIND THE GUN,   I'LL MAKE MY FINAL ST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NNIS PLAYER WHO WON 24 MAJOR TOURNAMENTS, AND HAS A COURT NAMED FOR HER AT THE AUSTRALIAN OP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– • – •   – – –    – • •   •" MEAN IN MORSE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10-LETTER WORD CAN BE SPELLED USING ONLY THE TOP ROW OF LETTERS ON A TYPEWRI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90440" y="761760"/>
            <a:ext cx="69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HOOPI GOLDBERG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ON-FICTION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5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ELEANOR  ROOSEVELT MARRIED FRANKLIN ROOSEVELT, WHAT WAS HER MAID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1-26T15:49:07Z</dcterms:modified>
  <cp:revision>526</cp:revision>
  <dc:subject/>
  <dc:title>Slide 1</dc:title>
</cp:coreProperties>
</file>