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7C50-44B2-47EC-946F-1C8B9D16B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96486-5013-455A-8A82-46CE3099B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6D5F-449B-4FA3-BC0E-89317C3DE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AC7F-2491-49A5-8D57-9B3FE7F1E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22A1-8835-4B03-AF63-320F64636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DC71-E99C-420E-9EE5-2E0C76B36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0E7F-DB34-4275-8070-AFBC4493A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E34C-E46D-4E12-BF45-4379D8004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F9B2-5681-4B64-B67F-2AD9A7988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CA20-9B12-46C9-9F14-BA8EC506E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94E6-61DE-4CE5-8FE4-95D0481FF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24FE-2946-4BCC-8F04-76D501B6E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44EE3-5C2D-4DE8-9932-C4CA448A2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9ACF-0022-40F5-948A-5C2EF4B39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FC80-E7BD-45CA-8B06-011BB6B266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C883-7F88-4E86-A19B-EECD18ADD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0002-C5DA-4AE8-87F9-52553D005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A757-B0B6-4400-8F5A-C8EC02F08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D920-8F14-4CAC-90B2-4DE372A52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BD969-F301-4A85-BA57-4F6BB27E5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EAD9-C9A2-4F2C-B76D-8754BC400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474-F99C-4DE8-B8DA-5EE316E6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F8B6-B787-4CE2-A59A-3626384A4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73120" y="761760"/>
            <a:ext cx="79977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S. TRUMAN'S MIDDLE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800280" y="4876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ND THAT BACKED UP BOB DYLAN 1965-196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SSW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87240" y="762120"/>
            <a:ext cx="77677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UTER PASSWORD THAT IS AN ENGLISH WOR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D  COMP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4240" y="762120"/>
            <a:ext cx="897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BAD COMPANY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THE LYRICS          "I WAS BORN, A SHOTGUN IN     MY HANDS, BEHIND THE GUN,   I'LL MAKE MY FINAL 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(MARGARET)  CO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282600" y="774720"/>
            <a:ext cx="8578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NNIS PLAYER WHO WON 24 MAJOR TOURNAMENTS, AND HAS A COURT NAMED FOR HER AT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14480" y="762120"/>
            <a:ext cx="89154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– • – •   – – –    – • •   •" MEAN IN MORSE CO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YPEWRI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438120" y="762120"/>
            <a:ext cx="8267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1103400" y="762120"/>
            <a:ext cx="69357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HOOPI GOLDBERG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N-FICTION BOO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04960" y="762120"/>
            <a:ext cx="7532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THE BAND THAT BACKED UP BOB DYLAN 1965-196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257480" y="4876920"/>
            <a:ext cx="6629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OSEVE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ELEANOR ROOSEVELT MARRIED FRANKLIN ROOSEVELT, WHAT WAS HER MAIDEN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88960" y="762120"/>
            <a:ext cx="7964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HARRY S. TRUMAN'S MIDDLE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390600" y="4876920"/>
            <a:ext cx="8362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APPEAR  IN  THE  QUES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03440" y="761760"/>
            <a:ext cx="7735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UTER PASSWORD THAT IS AN ENGLISH WOR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92160" y="762120"/>
            <a:ext cx="895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BAD COMPANY'S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LBUM HAS THE LYRICS          "I WAS BORN, A SHOTGUN IN     MY HANDS, BEHIND THE GUN,   I'LL MAKE MY FINAL STAN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44520" y="762120"/>
            <a:ext cx="8454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LAST NAME OF THE TENNIS PLAYER WHO WON 24 MAJOR TOURNAMENTS, AND HAS A COURT NAMED FOR HER AT THE AUSTRALIAN OP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– • – •   – – –    – • •   •" MEAN IN MORSE CO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ON 10-LETTER WORD CAN BE SPELLED USING ONLY THE TOP ROW OF LETTERS ON A TYPEWRI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090440" y="761760"/>
            <a:ext cx="69631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NAME OF WHOOPI GOLDBERG'S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NON-FICTION BOOK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84200" y="762120"/>
            <a:ext cx="8175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EFORE ELEANOR  ROOSEVELT MARRIED FRANKLIN ROOSEVELT, WHAT WAS HER MAIDEN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1-11-26T15:49:07Z</dcterms:modified>
  <cp:revision>526</cp:revision>
  <dc:subject/>
  <dc:title>Slide 1</dc:title>
</cp:coreProperties>
</file>