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8A2C-F5F4-4147-805C-5E69CDA98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5151-B16D-4C4C-9655-E2065A4CE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D1BC-6E2E-4099-A035-2DE5CE1E3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E303-A29A-4C24-93A9-F21BB627D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60BD-B098-4458-8DB3-88C04D788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0429-F575-4B38-9B75-48D823348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CA64-7EC4-4773-ACC0-E78F3A2E4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1941-1E34-4CCD-B278-8038DCC43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CFF5-5D5A-4F74-9F45-3451B7200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EB07-A576-4BC5-9884-1EE045D48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BDE8-310B-415A-B19E-990BEBE04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42A6-BD7C-4799-8B60-66B5485D6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A491-D16A-4D02-9D93-84441A2BB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D9B8-159C-4F98-BC84-6632662AB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F024-242D-415D-94A8-3C3E02BF9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C27F-FDFE-486C-A76A-8AC0D38E0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724C-E04A-4368-B253-8F220C15B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E2CF-6CC1-4D26-B6C6-C891EE188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B77D-1208-4C5D-8595-1B486ED98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A82F-3B17-4951-94EE-D152A1E4E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6298-3CA8-4D0E-91E9-D0472AEDD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1880-41C6-495C-ACA2-E40050F4B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5D5D-2EA7-4F0A-9781-3A0369881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00000" y="1523880"/>
            <a:ext cx="734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7800" y="761760"/>
            <a:ext cx="7988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SIMON &amp; GARFUNKEL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T SONG, CAUSING THEM TO REUNITE AND RECORD A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WITH A SIMILAR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333440" y="4876920"/>
            <a:ext cx="6477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LANDS  IN  THE  ST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20640" y="762120"/>
            <a:ext cx="7900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NNY ROGERS AND DOLLY PARTON SONG WAS VOTED IN 2005 TO BE THE BEST COUNTRY DUET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  ON  CRIPPLE  CR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81040" y="762120"/>
            <a:ext cx="7981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BAND CONTAINS THE LYRICS "IF I SPRING A LEAK SHE MENDS ME, I DON'T HAVE TO SPEAK SHE DEFENDS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KE  ME  TO  THE 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46240" y="762120"/>
            <a:ext cx="865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AL GREEN REACHED THE R&amp;B CHARTS WHEN SUNG BY SYL JOHNSON, AND THE ROCK CHARTS WHEN  SUNG BY THE TALKING HE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PARTICULAR  HARB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66720" y="762120"/>
            <a:ext cx="7810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MY BUFFETT SONG BEGINS WITH THE TAHITIAN LYRICS "IA ORA TE NA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 MEA AROFA TEIE AO NE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OCK  OF  THE  B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4960" y="762120"/>
            <a:ext cx="8067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TIS REDDING SONG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OSTHUMOUS SINGLE TO TOP THE CH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  OF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A #1 HIT IN 1959 FOR PHIL PHILLIPS,    AND AGAIN IN 1984 WHEN COVERED BY ROBERT PL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LTA  DA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38040" y="762120"/>
            <a:ext cx="8467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BOUT A WOMAN OBSESSED WITH A SUITOR WHO JILTED HER WAS A TOP-10 HIT FOR TANYA TUCKER, AND   A #1 HIT FOR HELEN RED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97960" y="762120"/>
            <a:ext cx="794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NNY ROGERS AND DOLLY PARTON SONG WAS VOTED IN 2005 TO BE THE BEST COUNTRY DUET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  MIGHT  AS  WELL  BE  SP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82560" y="762120"/>
            <a:ext cx="777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DGERS AND HAMMERSTEIN SONG WON THE OSCAR FOR BEST ORIGINAL SONG IN 1945 IN THE FILM "STATE FAI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14360" y="487692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OUND  OF  SI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76440" y="762120"/>
            <a:ext cx="779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SIMON &amp; GARFUNKEL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T SONG, CAUSING THEM TO REUNITE AND RECORD A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WITH A SIMILAR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85840" y="4876920"/>
            <a:ext cx="8572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BODIES  OF 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90480" y="761760"/>
            <a:ext cx="7763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BAND CONTAINS THE LYRICS "IF I SPRING A LEAK SHE MENDS ME, I DON'T HAVE TO SPEAK SHE DEFENDS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06360" y="762120"/>
            <a:ext cx="852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AL GREEN REACHED THE R&amp;B CHARTS WHEN SUNG BY SYL JOHNSON, AND THE ROCK CHARTS WHEN  SUNG BY THE TALKING HE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88960" y="762120"/>
            <a:ext cx="7964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MY BUFFETT SONG BEGINS WITH THE TAHITIAN LYRICS "IA ORA TE NATU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 MEA AROFA TEIE AO NE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TIS REDDING SONG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OSTHUMOUS SINGLE TO TOP THE CH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0" y="761760"/>
            <a:ext cx="82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A #1 HIT IN 1959 FOR PHIL PHILLIPS,    AND AGAIN IN 1984 WHEN COVERED BY ROBERT PL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97000" y="761760"/>
            <a:ext cx="8548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BOUT A WOMAN OBSESSED WITH A SUITOR WHO JILTED HER WAS A TOP-10 HIT FOR TANYA TUCKER, AND   A #1 HIT FOR HELEN RED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19280" y="762120"/>
            <a:ext cx="7705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DGERS AND HAMMERSTEIN SONG WON THE OSCAR FOR BEST ORIGINAL SONG IN 1945 IN THE FILM "STATE FAI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1-08T13:41:44Z</dcterms:modified>
  <cp:revision>408</cp:revision>
  <dc:subject/>
  <dc:title>Slide 1</dc:title>
</cp:coreProperties>
</file>