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31F-7924-4113-B5F4-199AB564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3C7D-F918-46CD-A76B-CB1BD09F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1EC7-18F1-4E22-8ED9-7C4CA5C3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F1AA-D8EF-4493-B06C-4DAC83F3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B69-DA2B-49C2-82EC-8A0ACC2F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708-0D59-46F9-A94F-B61F45E1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70C8-5DBC-4339-A71B-129DE977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9C8C-440C-461A-91B7-50D38985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CCA-B1E7-4CD6-A943-89FCAFD6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008-9648-4521-9320-80796C98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FEE3-4EC5-42E3-9B0E-A05728D3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FF7-9053-4E53-B9E8-DFDB6D87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3A18-AD13-498B-B9CB-2C90F654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2E7-4D52-4A42-8BA0-B807E4A2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750-91A5-4D61-A9F4-56C21AC8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C923-3072-4AE2-A096-24CFF531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DAB-6A5E-4425-AE2D-57AF4ED53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0BA-658E-428B-B5B3-2D70E5D2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1C47-AC48-4C82-839C-AF5256C1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9D01-3B22-4693-B01B-2455BA14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D17-B12F-4CA7-A473-93B667AE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64B-A154-4BC6-B361-C050F723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9DDF-FC7B-47A5-8116-5CEBBD5B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00000" y="1523880"/>
            <a:ext cx="73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7800" y="761760"/>
            <a:ext cx="798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NDS  IN  THE 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0640" y="762120"/>
            <a:ext cx="790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  ON  CRIPPLE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TO  TH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PARTICULAR  HAR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496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8040" y="762120"/>
            <a:ext cx="846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97960" y="762120"/>
            <a:ext cx="794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MIGHT  AS  WELL  BE 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2560" y="762120"/>
            <a:ext cx="777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DIES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48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1:44Z</dcterms:modified>
  <cp:revision>408</cp:revision>
  <dc:subject/>
  <dc:title>Slide 1</dc:title>
</cp:coreProperties>
</file>