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27A0-8FD3-40B6-8F09-597B661F8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EA21-45AC-474C-9A25-3FC6D3C89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E1A4-A853-4E34-B1BB-16C660314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E97E-7D55-4F92-BF57-213373CB4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F6E8-76AE-4707-8773-65C619635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F865-AB47-457A-9E04-916E0CF73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AF69-FB1B-4D81-ACBB-6A297F0A7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321A-B62C-4708-ADA3-FB3AE0D63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52A0-B6D8-400B-B05D-81E33C4B8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9187-9704-4896-B4FD-01434509D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F3B6-E7C9-4E47-AE51-5AF936BF7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52C6-DC1F-4EE9-A31D-04F5FE465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2257-4C55-4CFD-8926-6A1939DF5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632B-5792-4EB8-ACB3-C4C3141D2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4E16-4B29-4FFB-A1A7-E539B60E5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444E-4344-44A4-BFD2-9A23935F0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B6D6-D7E7-4FAC-ABE3-362F57C02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BA9F-49F4-4D9F-9A99-1D902F699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06C7-07B0-4EE0-9FB2-63276FB82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6605-6D1A-495E-A7DB-F1D7A6632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B8E3-4C3B-4020-837D-1B91013BC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7D26-996F-47ED-AAEE-0B0B250E2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F323-E0E2-43AC-9F2F-EADCD7499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6280" y="1523880"/>
            <a:ext cx="8191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-NOMINATED AND MOST-AWARDED ACTRESS IN PRIMETIME EMMY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IN  P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7240" y="762120"/>
            <a:ext cx="7769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SECRETARY OF STATE UNDER GEORGE W. BUSH AND GOT 3 ELECTORAL VOTES FOR PRESIDENT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WN  W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49400" y="830160"/>
            <a:ext cx="7043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Y ANN ON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P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824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WON 2 GRAMMYS FOR "BEST CONTEMPORARY FOLK ALBUM", FOR "THE MISSING YEARS" AND "FAIR &amp; SQU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AN  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31920" y="752400"/>
            <a:ext cx="847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O OF GODFATHER'S PIZZA 1986-1996 RAN FOR PRESIDENT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11280" y="762120"/>
            <a:ext cx="7920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ITCHER   IN THE BASEBALL HALL OF FAME WEARING A NEW YORK METS HAT ON HIS PLA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SP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68320" y="762120"/>
            <a:ext cx="74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PRODUCER WAS FOUND GUILTY OF MURDERING ACTRESS LANA CLARKSON IN 200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RRY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5400" y="762120"/>
            <a:ext cx="7691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NN PERSONALITY DID MORE EPISODES OF HIS NIGHTLY INTERVIEW SHOW  THAN JOHNNY CA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1120" y="762120"/>
            <a:ext cx="7781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SECRETARY OF STATE UNDER GEORGE W. BUSH AND GOT 3 ELECTORAL VOTES FOR PRESIDENT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Y  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62040" y="762120"/>
            <a:ext cx="78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HAVE ONLY BEEN 3 AFRICAN-AMERICAN MEMBERS OF THE GRAND OLE OPRY: DEFORD BAILEY, DARIUS RUCKER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RIS  LEACH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760" y="762120"/>
            <a:ext cx="904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-NOMINATED AND MOST-AWARDED ACTRESS IN PRIMETIME EMMY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4480" y="495288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OF  COVID–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00160" y="761760"/>
            <a:ext cx="6943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Y ANN ON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63600" y="762120"/>
            <a:ext cx="841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WON 2 GRAMMYS FOR "BEST CONTEMPORARY FOLK ALBUM", FOR "THE MISSING YEARS" AND "FAIR &amp; SQU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O OF GODFATHER'S PIZZA 1986-1996 RAN FOR PRESIDENT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4800" y="762120"/>
            <a:ext cx="7934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ITCHER   IN THE BASEBALL HALL OF FAME WEARING A NEW YORK METS HAT ON HIS PLAQ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5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PRODUCER WAS FOUND GUILTY OF MURDERING ACTRESS LANA CLARKSON IN 200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NN PERSONALITY DID MORE EPISODES OF HIS NIGHTLY INTERVIEW SHOW  THAN JOHNNY CA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4840" y="762120"/>
            <a:ext cx="819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HAVE ONLY BEEN 3 AFRICAN-AMERICAN MEMBERS OF THE GRAND OLE OPRY: DEFORD BAILEY, DARIUS RUCKER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11-26T15:52:02Z</dcterms:modified>
  <cp:revision>539</cp:revision>
  <dc:subject/>
  <dc:title>Slide 1</dc:title>
</cp:coreProperties>
</file>