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97060-87E2-475C-BA15-DBB40FAD43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CF994-1B56-431E-AB2F-F66EBC39F2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3BDE5-6E08-4CF6-91C4-A38641D018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82220-7353-4FD6-A8EC-98DB44AF49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0E093-F282-47BB-A360-BBAC9A56B6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51BC6-594B-47BE-9DCF-6500C15D33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1285B-218F-4897-BA0D-24BE28AB9B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19580-ED0E-4581-A131-64877D07A5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1113A-528C-45DA-BB27-7F9B4DD848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4E0B6-22A8-4D5C-A2EF-22A7BE9CC4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B1F72-DDD1-4C66-B412-C5C6D1CC3E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C0C33-FCF1-49F9-8E4E-5625A82A2A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BB785-9170-4F50-A372-68DF77B60C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DDDE9-5B3A-4F93-A0DF-1E69D36955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CDE99-A6B7-4EC3-9C77-F10F1AA21F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75981-C21B-4BCD-8436-23F929EC26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4ED83-CE9A-44FB-938A-738C14E82F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E539B-5619-4B6A-912B-18D471B3D9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3FEFC-DBA3-47CE-83EA-DFD2766821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C0801-7B29-41F6-BD8D-AE136EB429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33FD5-C072-4A7A-B8D3-E080AC5034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CDC29-9BCA-461D-9FDD-BCCC8EFC39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707B1-8A3A-48D8-975F-53A26E9369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6280" y="1523880"/>
            <a:ext cx="819144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OPLE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52280" y="761760"/>
            <a:ext cx="88394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MOST-NOMINATED AND MOST-AWARDED ACTRESS IN PRIMETIME EMMY HISTOR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PEOPLE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800280" y="4876920"/>
            <a:ext cx="7543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LIN  POW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687240" y="762120"/>
            <a:ext cx="77695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ERVED AS SECRETARY OF STATE UNDER GEORGE W. BUSH AND GOT 3 ELECTORAL VOTES FOR PRESIDENT IN 2016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571680" y="4876920"/>
            <a:ext cx="8001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WN  WEL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1049400" y="830160"/>
            <a:ext cx="704376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MARY ANN ON "GILLIGAN'S ISLAN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  PR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380880" y="768240"/>
            <a:ext cx="8382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OLK SINGER WON 2 GRAMMYS FOR "BEST CONTEMPORARY FOLK ALBUM", FOR "THE MISSING YEARS" AND "FAIR &amp; SQUAR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419040" y="4876920"/>
            <a:ext cx="8305920" cy="6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ERMAN  C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331920" y="752400"/>
            <a:ext cx="8478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EO OF GODFATHER'S PIZZA 1986-1996 RAN FOR PRESIDENT IN 2012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685880" y="4876920"/>
            <a:ext cx="5772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M  SEA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611280" y="762120"/>
            <a:ext cx="79200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ONLY PITCHER   IN THE BASEBALL HALL OF FAME WEARING A NEW YORK METS HAT ON HIS PLAQU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114480" y="4876920"/>
            <a:ext cx="89154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HIL  SPEC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868320" y="762120"/>
            <a:ext cx="74055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USIC PRODUCER WAS FOUND GUILTY OF MURDERING ACTRESS LANA CLARKSON IN 2009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210960" y="4876920"/>
            <a:ext cx="87220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ARRY  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725400" y="762120"/>
            <a:ext cx="7691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NN PERSONALITY DID MORE EPISODES OF HIS NIGHTLY INTERVIEW SHOW  THAN JOHNNY CARS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81120" y="762120"/>
            <a:ext cx="77817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ERVED AS SECRETARY OF STATE UNDER GEORGE W. BUSH AND GOT 3 ELECTORAL VOTES FOR PRESIDENT IN 2016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876920"/>
            <a:ext cx="8382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ARLEY  PR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62040" y="762120"/>
            <a:ext cx="78199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RE HAVE ONLY BEEN 3 AFRICAN-AMERICAN MEMBERS OF THE GRAND OLE OPRY: DEFORD BAILEY, DARIUS RUCKER, AND WH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190440" y="4876920"/>
            <a:ext cx="8763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LORIS  LEACHM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50760" y="762120"/>
            <a:ext cx="90424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MOST-NOMINATED AND MOST-AWARDED ACTRESS IN PRIMETIME EMMY HISTO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114480" y="4952880"/>
            <a:ext cx="8915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DIED  OF  COVID–1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PEOPLE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100160" y="761760"/>
            <a:ext cx="6943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MARY ANN ON "GILLIGAN'S ISLAN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363600" y="762120"/>
            <a:ext cx="8416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OLK SINGER WON 2 GRAMMYS FOR "BEST CONTEMPORARY FOLK ALBUM", FOR "THE MISSING YEARS" AND "FAIR &amp; SQUAR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266760" y="762120"/>
            <a:ext cx="86104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EO OF GODFATHER'S PIZZA 1986-1996 RAN FOR PRESIDENT IN 2012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04800" y="762120"/>
            <a:ext cx="7934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ONLY PITCHER   IN THE BASEBALL HALL OF FAME WEARING A NEW YORK METS HAT ON HIS PLAQU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754200" y="761760"/>
            <a:ext cx="7635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USIC PRODUCER WAS FOUND GUILTY OF MURDERING ACTRESS LANA CLARKSON IN 2009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723960" y="761760"/>
            <a:ext cx="76960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NN PERSONALITY DID MORE EPISODES OF HIS NIGHTLY INTERVIEW SHOW  THAN JOHNNY CARS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74840" y="762120"/>
            <a:ext cx="81943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RE HAVE ONLY BEEN 3 AFRICAN-AMERICAN MEMBERS OF THE GRAND OLE OPRY: DEFORD BAILEY, DARIUS RUCKER, AND WH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8T16:34:55Z</dcterms:created>
  <dc:creator>Jennifer Budzinski</dc:creator>
  <dc:description/>
  <dc:language>en-US</dc:language>
  <cp:lastModifiedBy>Erich Friedman</cp:lastModifiedBy>
  <dcterms:modified xsi:type="dcterms:W3CDTF">2021-11-26T15:52:02Z</dcterms:modified>
  <cp:revision>539</cp:revision>
  <dc:subject/>
  <dc:title>Slide 1</dc:title>
</cp:coreProperties>
</file>