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4013B-106F-4A2F-9974-828C9F70C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1BA33-0754-4172-AC02-0B28FCA3C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C3230-C795-4464-952E-1D7570F88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F3413-7B4D-43F1-9F52-0D7E3538C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72EF6-7C4A-4CBB-9E27-B2A70DDA9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FA550-7C3C-49C4-B3FB-964C7972C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172BA-9E72-44AE-B85E-6E75E8228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92F78-F203-4C58-A158-0A730CFA9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5DBE2-AB0C-464E-A66E-A228BC0CC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FA4E7-CFDC-426C-A685-B2DED3125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D02AC-6175-4933-B435-E549DA621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ABC52-B4F9-4F2C-8211-596A76087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7AC6C-33BB-47E5-8185-2FE77CC32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B7646-437E-47E2-BED3-5D6462A95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A7FDD-C740-4693-8DED-FEC28748D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60E5B-120C-4918-BAE1-3044C015C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B610D-98B5-4C65-8E3E-8833C24AA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549CB-21E7-45C4-AC8E-F2F96983C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4E753-E0AE-4BB7-A326-4F3F559AA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2619C-FA33-470A-8EDC-53E3026F6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9BBBA-1895-4476-B082-618297A36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466C0-2BD6-40A5-844A-D2F145C93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7AA8C-AA93-40DF-89FC-3C1119B7C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51920" y="1523880"/>
            <a:ext cx="86108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12760" y="761760"/>
            <a:ext cx="871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ONY AWARDS FOR ACTING IN "A FUNNY THING HAPPENED ON THE WAY TO THE FORUM", "THE PRODUCERS", AND "ANGELS IN AMERIC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SPELLED WITH CAPITAL LETTERS, WHAT DO ALL THESE PEOPLE'S NAME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333440" y="4876920"/>
            <a:ext cx="6477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EX  HA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271440" y="762120"/>
            <a:ext cx="85996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BOOK "ROOTS: THE SAGA OF AN AMERICAN FAMILY" HELPED INSPIRE A BROAD INTEREST IN GENEALOG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838080" y="4876920"/>
            <a:ext cx="7467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ZA  MINNEL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581040" y="762120"/>
            <a:ext cx="7981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OSCAR AND GOLDEN GLOBE AWARDS FOR BEST ACTRESS FOR HER ROLE IN "CABARE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LT  WHIT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246240" y="762120"/>
            <a:ext cx="865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POETRY COLLECTION "LEAVES OF GRASS" WAS REVISED REPEATEDLY FROM 1855 TO 1892, CONTAINING BETWEEN 12 AND 400 POE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419040" y="4876920"/>
            <a:ext cx="8305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VIN  K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790560" y="762120"/>
            <a:ext cx="7562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3 TONY AWARDS BEFORE WINNING BEST SUPPORTING ACTOR FOR "A FISH CALLED WAND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21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A  HAM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12840" y="762120"/>
            <a:ext cx="8518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2-TIME OLYMPIC GOLD MEDALIST AND 2-TIME WORLD CUP CHAMPION WAS THE 1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WOMAN INDUCTED INTO THE WORLD FOOTBALL HALL OF FAM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NA  F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285840" y="762120"/>
            <a:ext cx="8572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2008 AP ENTERTAINER OF THE YEAR AWARD FOR HER IMPRESSIONS OF SARAH PALIN ON "SN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95280" y="4876920"/>
            <a:ext cx="6553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NE  HATHA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69920" y="762120"/>
            <a:ext cx="8804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WHO WON AN OSCAR FOR "LES MISÉRABLES" SHARES HER NAME WITH WILLIAM SHAKESPEARE'S WI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62080" y="762120"/>
            <a:ext cx="8619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BOOK "ROOTS: THE SAGA OF AN AMERICAN FAMILY" HELPED INSPIRE A BROAD INTEREST IN GENEALOG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ITH  H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31720" y="762120"/>
            <a:ext cx="8080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COUNTRY ARTIST SANG "THIS KISS" AND "THE WAY YOU LOVE 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314360" y="4876920"/>
            <a:ext cx="651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THAN  L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262080" y="762120"/>
            <a:ext cx="8619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ONY AWARDS FOR ACTING IN "A FUNNY THING HAPPENED ON THE WAY TO THE FORUM", "THE PRODUCERS", AND "ANGELS IN AMERIC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89000" y="4876920"/>
            <a:ext cx="8764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NLY  STRAIGHT  LETTERS  U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SPELLED WITH CAPITAL LETTERS, WHAT DO ALL THESE PEOPLE'S NAME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90480" y="761760"/>
            <a:ext cx="7763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OSCAR AND GOLDEN GLOBE AWARDS FOR BEST ACTRESS FOR HER ROLE IN "CABARE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06360" y="762120"/>
            <a:ext cx="8529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POETRY COLLECTION "LEAVES OF GRASS" WAS REVISED REPEATEDLY FROM 1855 TO 1892, CONTAINING BETWEEN 12 AND 400 POE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26560" y="762120"/>
            <a:ext cx="74883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3 TONY AWARDS BEFORE WINNING BEST SUPPORTING ACTOR FOR "A FISH CALLED WAND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30120" y="762120"/>
            <a:ext cx="848376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2-TIME OLYMPIC GOLD MEDALIST AND 2-TIME WORLD CUP CHAMPION WAS THE 1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WOMAN INDUCTED INTO THE WORLD FOOTBALL HALL OF FAM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12840" y="761760"/>
            <a:ext cx="8518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2008 AP ENTERTAINER OF THE YEAR AWARD FOR HER IMPRESSIONS OF SARAH PALIN ON "SN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23920" y="761760"/>
            <a:ext cx="8694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WHO WON AN OSCAR FOR "LES MISÉRABLES" SHARES HER NAME WITH WILLIAM SHAKESPEARE'S WIF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12640" y="762120"/>
            <a:ext cx="81187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COUNTRY ARTIST SANG "THIS KISS" AND "THE WAY YOU LOVE 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1T13:59:04Z</dcterms:created>
  <dc:creator>Jennifer Budzinski</dc:creator>
  <dc:description/>
  <dc:language>en-US</dc:language>
  <cp:lastModifiedBy>Erich Friedman</cp:lastModifiedBy>
  <dcterms:modified xsi:type="dcterms:W3CDTF">2021-12-02T13:39:24Z</dcterms:modified>
  <cp:revision>416</cp:revision>
  <dc:subject/>
  <dc:title>Slide 1</dc:title>
</cp:coreProperties>
</file>