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109-512C-47F0-BBD5-C73F67D8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6AA-3F3F-46F5-8DDB-C4ACF57C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088-9EFE-468A-98F0-93965CD0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644-F037-41A8-8B8B-37858068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9916-B906-4BDA-BF7C-867BADCA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389-F9EF-492F-A59E-F2701906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50B6-606C-405E-BDB0-C525C406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DDFF-AC20-4C01-BCF8-8F37645B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7FA-5ADB-42E8-92F5-657B73F8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F6F-DA77-494B-8C05-479E21A1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D649-5E4F-4871-8A75-2D45CD9A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CA61-2B0E-417B-BA58-03892486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2DA-C502-4746-94CF-EE049D7D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FF5E-8B1E-4913-AC4F-7D9FB136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A2EA-03B8-4B4C-A3A7-6585F105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732-8FC5-410F-A257-959ECCF6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7A7D-3125-461C-9DBD-395EE9A38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F8FB-88A7-4B6F-B938-3630B62B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D8A-A8B0-4DAC-965F-340BB239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68A-7C94-4E7F-BFE9-DCBB296C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2C8-4DA4-4897-AE20-6DF859E2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77B-EC14-43FF-8706-4569F6E6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FF3C-1886-41D3-A237-B5460228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610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2760" y="761760"/>
            <a:ext cx="87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1440" y="762120"/>
            <a:ext cx="8599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A  MINN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0560" y="762120"/>
            <a:ext cx="75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9920" y="762120"/>
            <a:ext cx="880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1720" y="762120"/>
            <a:ext cx="808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000" y="4876920"/>
            <a:ext cx="8764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LY  STRAIGHT  LETTERS 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3920" y="761760"/>
            <a:ext cx="869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02T13:39:24Z</dcterms:modified>
  <cp:revision>416</cp:revision>
  <dc:subject/>
  <dc:title>Slide 1</dc:title>
</cp:coreProperties>
</file>