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D18F-773B-4E2E-BC69-9AAB1DE64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F697-EEAA-4B2F-A42D-E498057FA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D988C-2352-45EC-80A9-87BB5E6F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1E3B-FFAC-4621-B408-542E018C5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0E58-E53A-4C8B-B5EF-31A727D8D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68171-53A9-4751-8764-72D31D39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F2AD-4C21-4E27-8AF0-2A87D2C5C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455F-230D-4EBF-BA38-8937B15B4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7198-DDF8-489D-BF35-5EE2CE14D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4C20-3C66-424C-96FC-BC8EB384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D989-15F2-46EC-89FB-E32386B4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26E9-A599-4847-9CAD-F0DE68241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8F2E-C403-4BD8-89E7-1BE359DF4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92E-C489-4E4F-BD69-B4C193CF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FE20-F91B-49CF-9C50-5EA6EE8D0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6B67-8FF9-4789-98BC-7FFD33B6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40C4-112C-4F01-9360-4691CF8E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016A0-4CA0-47B9-B7F9-35ACC5788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6FE1-D062-4EE4-9920-B1C9F92A1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9C29-0673-4E29-9F08-BCFDB23F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482A-B861-4226-88F4-80A50A7C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35ED-0D1A-4860-8D36-23B2BF03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09A4-4F20-4C63-8AC1-DF18EB266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447560"/>
            <a:ext cx="645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7000" y="761760"/>
            <a:ext cx="729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3320" y="762120"/>
            <a:ext cx="7677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REW)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1360" y="762120"/>
            <a:ext cx="8205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IR,  EARTH,  FIRE,)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ARD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7:26Z</dcterms:modified>
  <cp:revision>402</cp:revision>
  <dc:subject/>
  <dc:title>Slide 1</dc:title>
</cp:coreProperties>
</file>