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78DA-33E4-4364-8A7D-FFB75D595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E1BB-202E-49FC-B55B-8D9CC16FD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26E0-FBB5-4481-8648-29DE25B6E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F525-78D3-4428-8319-D24B10E6F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569E-5B84-4830-B184-1CF0C7E45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95B5-9D1E-4CB5-AA1F-AB7CF3301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8F53-5B46-4DFA-A1C8-F5C44851F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A2CB-6B9A-4AC8-97EA-2B825A54D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8ABF-7B40-4FBA-8547-A4C1C1684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78D4-7051-42F9-AFC1-FAA2651D4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7F61-69ED-4DA6-8231-CD3E4E27E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2AA1-D340-424D-AE25-22337D7CD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9733-B572-4084-B4EF-DFE9F511C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BCFB-45E0-41C1-96C6-939D87319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4282-73B0-411B-8B50-109F0E898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5408-76B3-4FFA-A1BA-796187C36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29CA-A1D6-4DB5-90FE-16CFF40BD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F10A-306B-46A5-8AFD-45608B396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A158-2413-4589-B2F9-C67B447D2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6BDC-147C-420F-9430-EC0336208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2D02-B8B8-41F0-A8CA-674E7A49C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187C-919E-4FA7-8560-5391F55D2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0B30-CD0C-4D6A-A510-AD9EDE897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43160" y="1447560"/>
            <a:ext cx="6457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27000" y="761760"/>
            <a:ext cx="7290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RENCH DISH CANARD À LA ROUENNAISE IS KNOWN IN ENGLISH AS WHAT SORT OF DU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33320" y="762120"/>
            <a:ext cx="7677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SHORTCUTS CONTROL-C ON A PC AND COMMAND-C ON A MAC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76040" y="762120"/>
            <a:ext cx="8791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XIMATELY ONCE PER MOVIE, WHAT ITEM OF CLOTHING DOES INDIANA JONES ACCIDENTALLY DROP AND RISK HIS LIFE TO GET BA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95240" y="762120"/>
            <a:ext cx="7553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PIXAR FILM WAS ONLY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IMATED FILM TO BE NOMINATED FOR BEST PICTURE, AFTER "BEAUTY AND THE BEA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66720" y="762120"/>
            <a:ext cx="7810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AGRAM OF "WEIRD" IS THE TITLE OF A MONTHLY TECHNOLOGY MAGAZ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NDREW)  L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41360" y="762120"/>
            <a:ext cx="8205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STARTING QUARTERBACK FOR THE INDIANAPOLIS COLTS 2012-2016 AND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238400" y="762120"/>
            <a:ext cx="6667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W" STAND FOR IN THE PHYSICS FORMULAS W=F⋅s  AND  W=𝜏𝜃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26920" y="763560"/>
            <a:ext cx="7490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1 FILM DOES RYAN GOSLING PLAY THE WHEEL MAN FOR A HEIST GONE WR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20720" y="762120"/>
            <a:ext cx="770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SHORTCUTS CONTROL-C ON A PC AND COMMAND-C ON A MAC D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IR,  EARTH,  FIRE,) 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11200" y="762120"/>
            <a:ext cx="8121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4 CLASSICAL ELEMENTS OF THE ANCIENT GREEKS, WHICH ONE COMES LAST ALPHABETICA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314360" y="4876920"/>
            <a:ext cx="651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E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95320" y="762120"/>
            <a:ext cx="7351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RENCH DISH CANARD À LA ROUENNAISE IS KNOWN IN ENGLISH AS WHAT SORT OF DU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85840" y="4876920"/>
            <a:ext cx="8572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HARD"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7320" y="761760"/>
            <a:ext cx="8829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XIMATELY ONCE PER MOVIE, WHAT ITEM OF CLOTHING DOES INDIANA JONES ACCIDENTALLY DROP AND RISK HIS LIFE TO GET BA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43120" y="762120"/>
            <a:ext cx="745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PIXAR FILM WAS ONLY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IMATED FILM TO BE NOMINATED FOR BEST PICTURE, AFTER "BEAUTY AND THE BEA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88960" y="762120"/>
            <a:ext cx="7964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AGRAM OF "WEIRD" IS THE TITLE OF A MONTHLY TECHNOLOGY MAGAZ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STARTING QUARTERBACK FOR THE INDIANAPOLIS COLTS 2012-2016 AND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398600" y="761760"/>
            <a:ext cx="634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W" STAND FOR IN THE PHYSICS FORMULAS W=F⋅s  AND  W=𝜏𝜃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24040" y="761760"/>
            <a:ext cx="749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1 FILM DOES RYAN GOSLING PLAY THE WHEEL MAN FOR A HEIST GONE WR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0120" y="762120"/>
            <a:ext cx="7943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4 CLASSICAL ELEMENTS OF THE ANCIENT GREEKS, WHICH ONE COMES LAST ALPHABETICAL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1-08T13:47:26Z</dcterms:modified>
  <cp:revision>402</cp:revision>
  <dc:subject/>
  <dc:title>Slide 1</dc:title>
</cp:coreProperties>
</file>