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88D9-76C8-461A-BB23-796E3766D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2DD-A678-4E57-A36D-A32FD0C58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B910-729B-4CB8-BECA-535D85C9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CC6B-9449-4992-8D1A-8A220EE6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B9EE-D158-4E01-9A19-E9A0F13C5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AA66-8E8D-4990-A691-6AB1ABA05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AE41-C777-4B20-8D80-C2F90FB7A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2EC8-C2F6-407F-85D8-6E150CB7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01C0-5A1E-43DB-9886-818F8C879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CE62-0C92-4602-8CDA-880C62F74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EFFD-8C6E-400E-9639-97573A5C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EF85-0A94-49A7-A436-6C4F010FE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92A-70D5-42FA-8381-011BDBFF2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DE3-B6F4-4944-99F2-B1468B8B4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415D-20BD-46FC-9F55-C4C646E63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1B7C-D672-4DAB-88DA-B2072C9C2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6C7D-56EB-42F3-95B7-03DF40B6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23AF-77E5-4B07-8546-9614F5871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6418-E338-4F11-B99B-4323B14F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D578-BB30-4E69-92CE-439126806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231F-86D9-4FF4-89BB-A109AF33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50EA-7875-45E5-AB52-AA041130B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A95F-8716-47B7-937C-8E37E148B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WO OSCARS, ONE FOR ACTING IN "SYRIANA" AND ONE FOR PRODUCING "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ROY" AND "WORLD WAR Z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OTT  G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RAPPER JOHN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95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THE ORIGINAL KINGS OF COMEDY" WITH STEVE HARVEY, CEDRIC THE ENTERTAINER, AND D.L. HUGH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CHE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EY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5096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NCHESTER BY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GA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EN A MAN LOVES A WOMAN" AND "INTERNAL AFFAI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ERIN BROCKOVI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ROY" AND "WORLD WAR Z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1932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A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THE MAR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WO OSCARS, ONE FOR ACTING IN "SYRIANA" AND ONE FOR PRODUCING "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TARRED  IN  "OCEANS 11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RAPPER JOHN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THE ORIGINAL KINGS OF COMEDY" WITH STEVE HARVEY, CEDRIC THE ENTERTAINER, AND D.L. HUGH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NCHESTER BY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EN A MAN LOVES A WOMAN" AND "INTERNAL AFFAI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ERIN BROCKOVI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THE MART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7T21:55:59Z</dcterms:created>
  <dc:creator>Jennifer Budzinski</dc:creator>
  <dc:description/>
  <dc:language>en-US</dc:language>
  <cp:lastModifiedBy>Erich Friedman</cp:lastModifiedBy>
  <dcterms:modified xsi:type="dcterms:W3CDTF">2020-08-24T23:09:24Z</dcterms:modified>
  <cp:revision>399</cp:revision>
  <dc:subject/>
  <dc:title>Slide 1</dc:title>
</cp:coreProperties>
</file>