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3567-CF6C-435D-B36E-B365421CD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F610-B3A0-4645-A2AF-39F8F7C24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7ABE-A423-4EB5-9B75-1F4853F17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26BE-5A7F-4289-AB28-02BCE7792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A482-C23D-43F5-9B89-4959400EB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04E6-DFEE-437F-931A-3A92F5CD2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2F51-92F5-4E95-9388-A07153B4A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C757-793A-4324-AA60-586C6A6D1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07F1-97EA-422C-BC97-EBF596D7B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FBFD-E1CB-420F-A3DB-F2163B75C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4D76-EAB6-4D61-B74A-DBFBE0B13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9FCC-93E1-4BCE-AB7C-7A399C18B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E56E-2CF6-4429-9731-D436C38EF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313E-7E57-4727-BE2C-9936E0405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4B84-8066-4363-B7A5-996CBDA07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07C7-5FF7-4D81-9FFF-2436BC774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3A05-D86F-4DAB-939D-82CDDBE6E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854C-9DA1-4939-BDEE-BD1E59B2D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EAD6-5E8E-4888-8E3F-897A1797C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453F-1E12-4FFF-940C-5FE778B00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6E96-2E20-4B37-A183-FE9728072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808E-24E7-4785-B947-11AFA5290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5CE6-9E37-4539-8780-9E1F6D413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WO OSCARS, ONE FOR ACTING IN "SYRIANA" AND ONE FOR PRODUCING "AR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D  P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ROY" AND "WORLD WAR Z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IOTT  G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RAPPER JOHN IN THE FILM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952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IE  M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ARRED IN "THE ORIGINAL KINGS OF COMEDY" WITH STEVE HARVEY, CEDRIC THE ENTERTAINER, AND D.L. HUGH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CHEA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HOTEL RWA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EY  AFFL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5096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MANCHESTER BY THE SE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GAR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WHEN A MAN LOVES A WOMAN" AND "INTERNAL AFFAI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ERIN BROCKOVI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ROY" AND "WORLD WAR Z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1932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  DA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"THE MARTI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WO OSCARS, ONE FOR ACTING IN "SYRIANA" AND ONE FOR PRODUCING "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STARRED  IN  "OCEANS 11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RAPPER JOHN IN THE FILM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ARRED IN "THE ORIGINAL KINGS OF COMEDY" WITH STEVE HARVEY, CEDRIC THE ENTERTAINER, AND D.L. HUGH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HOTEL RWAND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MANCHESTER BY THE SE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WHEN A MAN LOVES A WOMAN" AND "INTERNAL AFFAI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ERIN BROCKOVI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"THE MARTI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7T21:55:59Z</dcterms:created>
  <dc:creator>Jennifer Budzinski</dc:creator>
  <dc:description/>
  <dc:language>en-US</dc:language>
  <cp:lastModifiedBy>Erich Friedman</cp:lastModifiedBy>
  <dcterms:modified xsi:type="dcterms:W3CDTF">2020-08-24T23:09:24Z</dcterms:modified>
  <cp:revision>399</cp:revision>
  <dc:subject/>
  <dc:title>Slide 1</dc:title>
</cp:coreProperties>
</file>