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CEAE-DB0E-493A-B4C1-10D79DF62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912-7756-4F06-9722-FE3795988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4A54-60D1-4669-9D8C-2F88EED4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7072-4E93-4635-9DEC-8388749E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0880-7595-499B-B3FB-B93B3F88A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A3BE-7D00-450D-9B7A-95C16062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CAFC-728A-4BFD-8E2F-C18B9B83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2E26-3A68-41DA-A76D-AC5167E9E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77B6-F688-4D79-B85F-49C0C7BCF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B98-70F0-4F10-9D57-94659E01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DDEF-91A9-42DC-B543-A9FEE9989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FE4-2F8D-4198-B193-2DC02A0D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48E7-7147-4BD5-AE70-0A3E95588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861B-C213-4D96-9EA5-C259B928F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6228-1304-4855-90EC-C50DC154D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BD7E-B336-473F-B410-A6F05842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E2D-E7F6-45EC-B128-EDB92AA82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C971-3E04-49E6-99B2-FE2DAC74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0EE6-AEF4-4C71-AC08-C568D5C7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2B7D-8130-4269-8607-B103E6DE3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08EE-2936-4AD4-8E9D-68443980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118E-56E0-46C0-A6E5-58EE02107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AD8B-00A5-4AFF-ACC1-66BEA8FA7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WO OSCARS, ONE FOR ACTING IN "SYRIANA" AND ONE FOR PRODUCING "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ROY" AND "WORLD WAR Z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OTT  G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RAPPER JOHN IN THE FILM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95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THE ORIGINAL KINGS OF COMEDY" WITH STEVE HARVEY, CEDRIC THE ENTERTAINER, AND D.L. HUGH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CHE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EY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5096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NCHESTER BY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GA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EN A MAN LOVES A WOMAN" AND "INTERNAL AFFAI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ERIN BROCKOVI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ROY" AND "WORLD WAR Z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1932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  DA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THE MART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WO OSCARS, ONE FOR ACTING IN "SYRIANA" AND ONE FOR PRODUCING "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TARRED  IN  "OCEANS 11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RAPPER JOHN IN THE FILM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THE ORIGINAL KINGS OF COMEDY" WITH STEVE HARVEY, CEDRIC THE ENTERTAINER, AND D.L. HUGH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NCHESTER BY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EN A MAN LOVES A WOMAN" AND "INTERNAL AFFAI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ERIN BROCKOVI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THE MART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21:55:59Z</dcterms:created>
  <dc:creator>Jennifer Budzinski</dc:creator>
  <dc:description/>
  <dc:language>en-US</dc:language>
  <cp:lastModifiedBy>Erich Friedman</cp:lastModifiedBy>
  <dcterms:modified xsi:type="dcterms:W3CDTF">2020-08-24T23:09:24Z</dcterms:modified>
  <cp:revision>399</cp:revision>
  <dc:subject/>
  <dc:title>Slide 1</dc:title>
</cp:coreProperties>
</file>