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41702-449F-4CD8-A2D8-5E0E1D2506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5ACED-7511-4DD9-9CF4-242FEED249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48854-EB10-4408-9BE6-5EAB2B58FB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95BDD-AD79-409D-84F2-8B1A61BE07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7E0D7-5F18-4AF4-AD7C-AACA997C64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81F93-B1DF-40EC-B38A-3C644AB12C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02B7C-D462-45DC-9E48-B904455F25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ACABA-E046-4BFD-89C6-03463C0301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441C9-E0FF-476D-9483-C098C84615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40321-F785-45EB-94E7-1D3311ECA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49330-71B9-4B1B-AAA1-FB21FDA702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2EFAD-F8B0-44FC-B212-C5CAA08618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274B9-D5ED-463C-8DB2-CBED13EB4A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9F054-4220-4CD2-B480-922C54649A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1A308-9998-474A-90DB-EC147F08DE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A1F0A-E8EE-4885-8ED1-61BBDA9CF1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4EC4B-06CE-436F-A661-504680C7DB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25C26-4F7D-495D-BEEB-524B892D2D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5528B-0416-432D-8B25-C97C90BB23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B98BF-40CA-48C9-9F93-C9C872F6C5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EEDF2-7897-4794-BDE0-5F9172A33B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B3F54-3708-4491-9EA1-EF4752FB98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51C49-6AED-43FA-82F6-33C4E5E565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900000" y="1523880"/>
            <a:ext cx="7344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NG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77800" y="761760"/>
            <a:ext cx="7988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SIMON &amp; GARFUNKEL'S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HIT SONG, CAUSING THEM TO REUNITE AND RECORD A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LBUM WITH A SIMILAR 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333440" y="4876920"/>
            <a:ext cx="6477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SLANDS  IN  THE  STRE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20640" y="762120"/>
            <a:ext cx="79009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ENNY ROGERS AND DOLLY PARTON SONG WAS VOTED IN 2005 TO BE THE BEST COUNTRY DUET EV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838080" y="4876920"/>
            <a:ext cx="7467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P  ON  CRIPPLE  CRE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581040" y="762120"/>
            <a:ext cx="79819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BY THE BAND CONTAINS THE LYRICS "IF I SPRING A LEAK SHE MENDS ME, I DON'T HAVE TO SPEAK SHE DEFENDS 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AKE  ME  TO  THE  RI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246240" y="762120"/>
            <a:ext cx="865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BY AL GREEN REACHED THE R&amp;B CHARTS WHEN SUNG BY SYL JOHNSON, AND THE ROCK CHARTS WHEN  SUNG BY THE TALKING HEA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419040" y="4876920"/>
            <a:ext cx="8305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NE  PARTICULAR  HARB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666720" y="762120"/>
            <a:ext cx="78105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IMMY BUFFETT SONG BEGINS WITH THE TAHITIAN LYRICS "IA ORA TE NATU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 MEA AROFA TEIE AO NEI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212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DOCK  OF  THE  B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34960" y="762120"/>
            <a:ext cx="8067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TIS REDDING SONG WA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OSTHUMOUS SINGLE TO TOP THE CHAR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A  OF  L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457200" y="762120"/>
            <a:ext cx="8229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WAS A #1 HIT IN 1959 FOR PHIL PHILLIPS,    AND AGAIN IN 1984 WHEN COVERED BY ROBERT PLA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295280" y="4876920"/>
            <a:ext cx="6553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LTA  DA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338040" y="762120"/>
            <a:ext cx="84679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ABOUT A WOMAN OBSESSED WITH A SUITOR WHO JILTED HER WAS A TOP-10 HIT FOR TANYA TUCKER, AND   A #1 HIT FOR HELEN REDD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97960" y="762120"/>
            <a:ext cx="7945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ENNY ROGERS AND DOLLY PARTON SONG WAS VOTED IN 2005 TO BE THE BEST COUNTRY DUET EV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T  MIGHT  AS  WELL  BE  SP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82560" y="762120"/>
            <a:ext cx="77788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ODGERS AND HAMMERSTEIN SONG WON THE OSCAR FOR BEST ORIGINAL SONG IN 1945 IN THE FILM "STATE FAI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314360" y="4876920"/>
            <a:ext cx="6515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SOUND  OF  SIL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76440" y="762120"/>
            <a:ext cx="77911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SIMON &amp; GARFUNKEL'S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HIT SONG, CAUSING THEM TO REUNITE AND RECORD A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LBUM WITH A SIMILAR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285840" y="4876920"/>
            <a:ext cx="8572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BODIES  OF  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90480" y="761760"/>
            <a:ext cx="7763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BY THE BAND CONTAINS THE LYRICS "IF I SPRING A LEAK SHE MENDS ME, I DON'T HAVE TO SPEAK SHE DEFENDS M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306360" y="762120"/>
            <a:ext cx="8529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BY AL GREEN REACHED THE R&amp;B CHARTS WHEN SUNG BY SYL JOHNSON, AND THE ROCK CHARTS WHEN  SUNG BY THE TALKING HEA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88960" y="762120"/>
            <a:ext cx="79646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IMMY BUFFETT SONG BEGINS WITH THE TAHITIAN LYRICS "IA ORA TE NATUR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 MEA AROFA TEIE AO NEI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6280" y="762120"/>
            <a:ext cx="81914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TIS REDDING SONG WA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OSTHUMOUS SINGLE TO TOP THE CHAR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71600" y="761760"/>
            <a:ext cx="8200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WAS A #1 HIT IN 1959 FOR PHIL PHILLIPS,    AND AGAIN IN 1984 WHEN COVERED BY ROBERT PLA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97000" y="761760"/>
            <a:ext cx="85485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ABOUT A WOMAN OBSESSED WITH A SUITOR WHO JILTED HER WAS A TOP-10 HIT FOR TANYA TUCKER, AND   A #1 HIT FOR HELEN REDD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19280" y="762120"/>
            <a:ext cx="77054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ODGERS AND HAMMERSTEIN SONG WON THE OSCAR FOR BEST ORIGINAL SONG IN 1945 IN THE FILM "STATE FAI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01T13:59:04Z</dcterms:created>
  <dc:creator>Jennifer Budzinski</dc:creator>
  <dc:description/>
  <dc:language>en-US</dc:language>
  <cp:lastModifiedBy>Erich Friedman</cp:lastModifiedBy>
  <dcterms:modified xsi:type="dcterms:W3CDTF">2021-11-08T13:41:44Z</dcterms:modified>
  <cp:revision>408</cp:revision>
  <dc:subject/>
  <dc:title>Slide 1</dc:title>
</cp:coreProperties>
</file>