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8166-0E15-4F58-BEC2-E3D4A6448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4259-4CF7-4F0B-8C1E-9704CB57C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0DCA-DD45-4D63-B263-758CB2D13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7FFA-0CCB-4DA2-8099-2E227807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8B9B-8F1B-43A7-97D3-783E14FEE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C954-BFCF-439C-8D75-E1E6FB502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ACE6-C6D4-4958-B410-A8BFAF6D0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AA01-166C-4AAB-B7CD-1A5F78E87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7955-D6B2-4DED-9847-85E36858A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C838-967F-49BE-A709-EFF29CE97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3D85-8908-4A3B-A3CF-93F6A5E56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4D97-26BD-459E-AE0F-14CC018FE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7469-7FEE-4E14-B3DF-855FD191B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7C67-08B8-41F2-9108-BC94ADCCE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6BEE-DA7D-4F0F-8DAD-E3CE6BBE0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6390-0190-47A8-B935-8064F50E7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2A13-8EDF-4781-9A58-D5E5AD8F4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0B931-2897-49A8-953B-592E82EAE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47D2-4016-416D-B39A-DF7039CA7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D6E8-E931-49E7-8B5E-E9B8774A1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03C1-3F58-4C2E-ADA8-13030B9AC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01EE-F1C3-4722-8169-178A6AA92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DC7D-5655-41E6-A603-9D6259788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00000" y="1523880"/>
            <a:ext cx="7344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7800" y="761760"/>
            <a:ext cx="7988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IMON &amp; GARFUNKEL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SONG, CAUSING THEM TO REUNITE AND RECORD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WITH A SIMILAR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333440" y="48769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LANDS  IN  THE  ST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0640" y="762120"/>
            <a:ext cx="7900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ROGERS AND DOLLY PARTON SONG WAS VOTED IN 2005 TO BE THE BEST COUNTRY DUE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  ON  CRIPPLE  CR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1040" y="762120"/>
            <a:ext cx="7981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BAND CONTAINS THE LYRICS "IF I SPRING A LEAK SHE MENDS ME, I DON'T HAVE TO SPEAK SHE DEFENDS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KE  ME  TO  THE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46240" y="762120"/>
            <a:ext cx="865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AL GREEN REACHED THE R&amp;B CHARTS WHEN SUNG BY SYL JOHNSON, AND THE ROCK CHARTS WHEN  SUNG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PARTICULAR  HAR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MY BUFFETT SONG BEGINS WITH THE TAHITIAN LYRICS "IA ORA TE NAT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MEA AROFA TEIE AO NE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OCK  OF  THE  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4960" y="762120"/>
            <a:ext cx="8067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STHUMOUS SINGLE TO TOP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  OF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#1 HIT IN 1959 FOR PHIL PHILLIPS,    AND AGAIN IN 1984 WHEN COVERED BY ROBERT PL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TA  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8040" y="762120"/>
            <a:ext cx="846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WOMAN OBSESSED WITH A SUITOR WHO JILTED HER WAS A TOP-10 HIT FOR TANYA TUCKER, AND   A #1 HIT FOR HELEN RE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97960" y="762120"/>
            <a:ext cx="794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ROGERS AND DOLLY PARTON SONG WAS VOTED IN 2005 TO BE THE BEST COUNTRY DUET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MIGHT  AS  WELL  BE  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2560" y="762120"/>
            <a:ext cx="777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GERS AND HAMMERSTEIN SONG WON THE OSCAR FOR BEST ORIGINAL SONG IN 1945 IN THE FILM "STATE F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UND  OF  SI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76440" y="762120"/>
            <a:ext cx="779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IMON &amp; GARFUNKEL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SONG, CAUSING THEM TO REUNITE AND RECORD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WITH A SIMILAR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ODIES  OF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BAND CONTAINS THE LYRICS "IF I SPRING A LEAK SHE MENDS ME, I DON'T HAVE TO SPEAK SHE DEFENDS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6360" y="762120"/>
            <a:ext cx="85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AL GREEN REACHED THE R&amp;B CHARTS WHEN SUNG BY SYL JOHNSON, AND THE ROCK CHARTS WHEN  SUNG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MY BUFFETT SONG BEGINS WITH THE TAHITIAN LYRICS "IA ORA TE NATU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 MEA AROFA TEIE AO NE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STHUMOUS SINGLE TO TOP THE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2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#1 HIT IN 1959 FOR PHIL PHILLIPS,    AND AGAIN IN 1984 WHEN COVERED BY ROBERT PL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48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WOMAN OBSESSED WITH A SUITOR WHO JILTED HER WAS A TOP-10 HIT FOR TANYA TUCKER, AND   A #1 HIT FOR HELEN RED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5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GERS AND HAMMERSTEIN SONG WON THE OSCAR FOR BEST ORIGINAL SONG IN 1945 IN THE FILM "STATE F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08T13:41:44Z</dcterms:modified>
  <cp:revision>408</cp:revision>
  <dc:subject/>
  <dc:title>Slide 1</dc:title>
</cp:coreProperties>
</file>