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E28F-A4AD-46CA-B071-16B65B5A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D05-EC04-4A7F-B7CD-1393C85EE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FBA-3703-4DE8-92C5-C5F7219E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804-150E-4506-AD9C-8104F9A18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D43-14BF-4AFA-9A58-D4823F28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6CBA-9B93-4C53-AB6F-42BD4E0F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53E-0EF9-4C7A-A9B5-D79E3E6F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ECB-6742-455A-9A9E-254B5707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AF0-373B-447D-B9B4-C2B762B2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CC4-3831-4562-9D34-F85D627C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425-D54E-4720-81A0-F4EE3C67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4D31-A96F-4CE4-A036-99099942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A74E-7454-47C2-B33E-913737BC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6F6-3F0D-4FAB-97A7-66F82670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0A6-9F5E-4393-8CE0-9DA84741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82B0-6DAD-4061-9F01-7FE6B331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C30-7BCD-4C25-ABB9-4AC8F16E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903-E7EF-4608-A86A-469B8BD4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5ADC-F3EF-4837-BC4A-461F5F4A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4A4A-C356-4079-A799-05ACB431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1FF2-D348-4D11-902C-55D8954D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698-80FC-4890-B079-EB145032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504B-E7E7-423E-98C2-33B64C2F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P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830160"/>
            <a:ext cx="704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824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52400"/>
            <a:ext cx="847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1280" y="762120"/>
            <a:ext cx="79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8320" y="762120"/>
            <a:ext cx="74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5400" y="762120"/>
            <a:ext cx="7691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 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RIS  LEAC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760" y="762120"/>
            <a:ext cx="90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9528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OF  COVID–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0160" y="761760"/>
            <a:ext cx="694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3600" y="762120"/>
            <a:ext cx="84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52:02Z</dcterms:modified>
  <cp:revision>539</cp:revision>
  <dc:subject/>
  <dc:title>Slide 1</dc:title>
</cp:coreProperties>
</file>