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6F91-5F3E-4B70-8D91-E4E7F20A5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4AF4-AA5F-4FCF-B282-985AE0002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173F-A38D-46FB-B72D-9B10A4CB0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EA87-C9F3-494A-813C-A40D82E6D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F4F0-113E-4483-9C5F-C2F5E75EB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85D7-090B-4FE2-8902-E695CC9A5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13F8-32F4-4A41-B458-D2FF69550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9519-3828-439E-B89A-6DD9606A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8587-B420-4710-B0F7-293204D9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1580-0E0A-416D-AAE0-0418C3DE6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6147-0156-4E09-851C-F4342F3D7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8F26-0045-4D3F-85CC-3E843B45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E548-E6FA-4C6F-AB60-A4ADC8562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C4B-3A21-455B-B4C7-F196E1675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41B4-926D-4332-A04A-2D4EA8F6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E8ED-6246-4264-8301-7B61D6BB8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CAD0-106C-498E-AE37-906B5C2EE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759A-B46E-49B2-A23D-E71C3BCD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673-FD7E-433C-9EA0-526956C6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D7B2-8B4E-4759-9186-2B034DF7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44D8-62C6-47CF-8870-FC2A3A8E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DC89-8EBD-4ED2-BB97-72BDFC02A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6D0B-7881-4F78-87ED-BF4DD856B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P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830160"/>
            <a:ext cx="704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824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52400"/>
            <a:ext cx="847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1280" y="762120"/>
            <a:ext cx="79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8320" y="762120"/>
            <a:ext cx="74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5400" y="762120"/>
            <a:ext cx="7691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 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RIS  LEAC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760" y="762120"/>
            <a:ext cx="90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9528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OF  COVID–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0160" y="761760"/>
            <a:ext cx="694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3600" y="762120"/>
            <a:ext cx="84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52:02Z</dcterms:modified>
  <cp:revision>539</cp:revision>
  <dc:subject/>
  <dc:title>Slide 1</dc:title>
</cp:coreProperties>
</file>