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03FA5-E169-462F-BEDF-1FBA28501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5205-9293-4409-9450-45F63EA74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5F62-5035-421D-9A91-C7873EF58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5C42-6465-45A2-A8FC-9D6D3653F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3946-E1BE-4B50-A7FA-5411A5925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3006-2D6A-4BCF-8FDB-92B5E38C8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CACC-CF75-429A-BC56-EC9BBC791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2C83-AB0B-4FBB-A348-C79EBB9A7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F5FA-1E35-47D6-9D65-C26B59FCD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62AD-1081-45B0-AA16-E8DAEF9D8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ABAA-D125-414A-9437-7BEA7B5C3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629F-C8DE-45CE-AB55-8B8FA3065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7883-2AF0-49F9-92AF-36D4A6EC0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C751-A7CC-4516-A4F4-575FE1B84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FC2F-7EB1-48DA-B064-19840A77B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887F-D769-46EB-80F1-930779980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4D0F-6529-4590-905F-F97DA9742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84AF-C5E4-4B39-B542-3A6752058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A01B-41B8-4B13-9AD2-EAB5AE8AB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2F09-BBE6-4758-8480-A2EDD255D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052A-F954-464E-BB06-7FBD14F4D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B8DB-2353-4B64-B73C-321AF50EA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C25C-2099-4DCA-BE9E-EF83FD9CB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1920" y="1523880"/>
            <a:ext cx="86108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2760" y="761760"/>
            <a:ext cx="871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ONY AWARDS FOR ACTING IN "A FUNNY THING HAPPENED ON THE WAY TO THE FORUM", "THE PRODUCERS", AND "ANGELS IN AMERIC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SPELLED WITH CAPITAL LETTERS, WHAT DO ALL THESE PEOPLE'S NAM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333440" y="4876920"/>
            <a:ext cx="6477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HA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71440" y="762120"/>
            <a:ext cx="8599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OOK "ROOTS: THE SAGA OF AN AMERICAN FAMILY" HELPED INSPIRE A BROAD INTEREST IN GENEA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ZA  MINNE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81040" y="762120"/>
            <a:ext cx="7981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AND GOLDEN GLOBE AWARDS FOR BEST ACTRESS FOR HER ROLE IN "CABAR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  WHI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46240" y="762120"/>
            <a:ext cx="865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OETRY COLLECTION "LEAVES OF GRASS" WAS REVISED REPEATEDLY FROM 1855 TO 1892, CONTAINING BETWEEN 12 AND 400 PO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K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90560" y="762120"/>
            <a:ext cx="7562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TONY AWARDS BEFORE WINNING BEST SUPPORTING ACTOR FOR "A FISH CALLED WA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  HA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12840" y="762120"/>
            <a:ext cx="8518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-TIME OLYMPIC GOLD MEDALIST AND 2-TIME WORLD CUP CHAMPION WAS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OMAN INDUCTED INTO THE WORLD FOOTBALL HALL OF F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F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2008 AP ENTERTAINER OF THE YEAR AWARD FOR HER IMPRESSIONS OF SARAH PALIN ON "SN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HATH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69920" y="762120"/>
            <a:ext cx="880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HO WON AN OSCAR FOR "LES MISÉRABLES" SHARES HER NAME WITH WILLIAM SHAKESPEARE'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62080" y="762120"/>
            <a:ext cx="8619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OOK "ROOTS: THE SAGA OF AN AMERICAN FAMILY" HELPED INSPIRE A BROAD INTEREST IN GENEA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TH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1720" y="762120"/>
            <a:ext cx="8080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SANG "THIS KISS" AND "THE WAY YOU LOVE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HAN  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62080" y="762120"/>
            <a:ext cx="8619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ONY AWARDS FOR ACTING IN "A FUNNY THING HAPPENED ON THE WAY TO THE FORUM", "THE PRODUCERS", AND "ANGELS IN AMERIC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89000" y="4876920"/>
            <a:ext cx="8764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LY  STRAIGHT  LETTERS 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SPELLED WITH CAPITAL LETTERS, WHAT DO ALL THESE PEOPLE'S NAM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AND GOLDEN GLOBE AWARDS FOR BEST ACTRESS FOR HER ROLE IN "CABAR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6360" y="762120"/>
            <a:ext cx="852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OETRY COLLECTION "LEAVES OF GRASS" WAS REVISED REPEATEDLY FROM 1855 TO 1892, CONTAINING BETWEEN 12 AND 400 PO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6560" y="762120"/>
            <a:ext cx="7488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TONY AWARDS BEFORE WINNING BEST SUPPORTING ACTOR FOR "A FISH CALLED WAND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30120" y="762120"/>
            <a:ext cx="84837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-TIME OLYMPIC GOLD MEDALIST AND 2-TIME WORLD CUP CHAMPION WAS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OMAN INDUCTED INTO THE WORLD FOOTBALL HALL OF FA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2840" y="761760"/>
            <a:ext cx="851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2008 AP ENTERTAINER OF THE YEAR AWARD FOR HER IMPRESSIONS OF SARAH PALIN ON "SN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3920" y="761760"/>
            <a:ext cx="869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HO WON AN OSCAR FOR "LES MISÉRABLES" SHARES HER NAME WITH WILLIAM SHAKESPEARE'S 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12640" y="762120"/>
            <a:ext cx="811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SANG "THIS KISS" AND "THE WAY YOU LOVE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2-02T13:39:24Z</dcterms:modified>
  <cp:revision>416</cp:revision>
  <dc:subject/>
  <dc:title>Slide 1</dc:title>
</cp:coreProperties>
</file>