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A82-6212-4ECD-8518-F56853E9A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DAF2-A11A-4CE7-8AC1-E93EB7C13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74D7-DA87-4448-99CE-8C4578158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742-625D-41B6-8FFA-A96D6B95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EDB-F45A-44EF-AACE-6A2C2456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D214-A625-47C0-BE6D-FCE28E68D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786E-594C-41CE-8C35-E8F170F35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011-B61C-460D-A433-A77ED2154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A120-73B6-4D58-8290-C1EBB6E2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1682-7FF8-47D7-B9B2-B03DAB6C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ABD9-CBF3-4EA0-A0CB-6EEC08D7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F3FF-D667-4C8A-B35C-EB8D8164E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8EE9-A099-46D6-AE50-8DD039C19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A73-3187-4392-B027-BCA531CC9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E3AA-87D6-42EE-B89D-36DCE71D1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6587-26FF-45CD-BC71-21AAC527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F401-C838-4DC1-AC7F-7679DBFA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E191-9BE8-4A87-AD61-066CD4693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8B43-7F89-4DDB-99CA-87D59A03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361-DCC7-4ED7-8CE7-5D97BD74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FF5A-BAF9-46CC-A9FB-D9125AD99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AE38-0F6B-4A9D-95AE-0DED3C6E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4B33-C5C8-4C80-BD19-23ABE15AC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8610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2760" y="761760"/>
            <a:ext cx="871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ACTING IN "A FUNNY THING HAPPENED ON THE WAY TO THE FORUM", "THE PRODUCERS", AND "ANGELS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PELLED WITH CAPITAL LETTERS, WHAT DO ALL THESE PEOPLE'S NAM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33440" y="48769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71440" y="762120"/>
            <a:ext cx="8599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ROOTS: THE SAGA OF AN AMERICAN FAMILY" HELPED INSPIRE A BROAD INTEREST IN GENEA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ZA  MINNE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AND GOLDEN GLOBE AWARDS FOR BEST ACTRESS FOR HER ROLE IN "CABAR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 "LEAVES OF GRASS" WAS REVISED REPEATEDLY FROM 1855 TO 1892, CONTAINING BETWEEN 12 AND 400 PO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90560" y="762120"/>
            <a:ext cx="7562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TONY AWARDS BEFORE WINNING BEST SUPPORTING ACTOR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  HA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-TIME OLYMPIC GOLD MEDALIST AND 2-TIME WORLD CUP CHAMPION WAS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OMAN INDUCTED INTO THE WORLD FOOTBALL HALL OF F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2008 AP ENTERTAINER OF THE YEAR AWARD FOR HER IMPRESSIONS OF SARAH PALIN ON "SN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9920" y="762120"/>
            <a:ext cx="880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HO WON AN OSCAR FOR "LES MISÉRABLES" SHARES HER NAME WITH WILLIAM SHAKESPEARE'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2080" y="762120"/>
            <a:ext cx="861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ROOTS: THE SAGA OF AN AMERICAN FAMILY" HELPED INSPIRE A BROAD INTEREST IN GENEA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1720" y="762120"/>
            <a:ext cx="808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THIS KISS" AND "THE WAY YOU LOVE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HAN  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62080" y="762120"/>
            <a:ext cx="86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ACTING IN "A FUNNY THING HAPPENED ON THE WAY TO THE FORUM", "THE PRODUCERS", AND "ANGELS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89000" y="4876920"/>
            <a:ext cx="8764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LY  STRAIGHT  LETTERS 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PELLED WITH CAPITAL LETTERS, WHAT DO ALL THESE PEOPLE'S NAM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AND GOLDEN GLOBE AWARDS FOR BEST ACTRESS FOR HER ROLE IN "CABAR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360" y="762120"/>
            <a:ext cx="85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 "LEAVES OF GRASS" WAS REVISED REPEATEDLY FROM 1855 TO 1892, CONTAINING BETWEEN 12 AND 400 PO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6560" y="762120"/>
            <a:ext cx="748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TONY AWARDS BEFORE WINNING BEST SUPPORTING ACTOR FOR "A FISH CALLED WA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0120" y="762120"/>
            <a:ext cx="8483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-TIME OLYMPIC GOLD MEDALIST AND 2-TIME WORLD CUP CHAMPION WAS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OMAN INDUCTED INTO THE WORLD FOOTBALL HALL OF F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2840" y="761760"/>
            <a:ext cx="851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2008 AP ENTERTAINER OF THE YEAR AWARD FOR HER IMPRESSIONS OF SARAH PALIN ON "SN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3920" y="761760"/>
            <a:ext cx="869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HO WON AN OSCAR FOR "LES MISÉRABLES" SHARES HER NAME WITH WILLIAM SHAKESPEARE'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2640" y="762120"/>
            <a:ext cx="811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THIS KISS" AND "THE WAY YOU LOVE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2-02T13:39:24Z</dcterms:modified>
  <cp:revision>416</cp:revision>
  <dc:subject/>
  <dc:title>Slide 1</dc:title>
</cp:coreProperties>
</file>