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262-0362-4008-89A0-00B1ED16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DF6-F004-4800-8FD7-DC32184E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00DD-3B2C-449D-98DE-C4798F0E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53C5-FE04-4129-A6D3-4FD28BD0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2FBD-7C77-4221-B278-995518A7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B37-2E72-496D-BFD9-84890B33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DBF9-87F0-484D-AD0F-C45ECAAC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607C-BBFD-4D42-9641-33B546C5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F1A7-CF23-4CFE-8104-B98561E4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4E1-B2F5-4D0F-B329-1ED7893F8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1772-CC49-4EDB-8647-5CA646C8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9BE-EDF1-423A-9584-4B1C69800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AD05-31DC-478C-8DF1-6422A24A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318C-1A5E-4021-AF3E-2CEE775C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218-7EBE-4CC0-B4AF-5AF4C141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B388-EB07-4292-AE73-C67F643D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E72-A4D8-460F-B487-4BC3ACA5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C97-06B9-42A1-9A02-A6088E3F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2CC-DBCD-4BA4-A9BF-DB19757D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015-0302-436A-9363-4A198297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5C6-9844-46AD-A59D-C0E0DD7B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9AF3-B67E-4160-9DF3-3602D3DA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9EEC-A306-4DB6-B1DE-2D92C4FB2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447560"/>
            <a:ext cx="645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7000" y="761760"/>
            <a:ext cx="729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3320" y="762120"/>
            <a:ext cx="7677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6040" y="762120"/>
            <a:ext cx="879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DREW)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1360" y="762120"/>
            <a:ext cx="8205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356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IR,  EARTH,  FIRE,)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11200" y="762120"/>
            <a:ext cx="812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ARD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7320" y="761760"/>
            <a:ext cx="88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7:26Z</dcterms:modified>
  <cp:revision>402</cp:revision>
  <dc:subject/>
  <dc:title>Slide 1</dc:title>
</cp:coreProperties>
</file>