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5749E-9F55-4E83-8E95-C1F295992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31997-EA80-42CB-A37C-DF95FFA53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0906C-39AC-4640-8E80-ED63C6833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16D44-9250-48A1-B20D-41B630CD11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5D7C6-D4BB-4DD2-8D28-7EFD58653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04818-07C6-4168-BD4C-AA9A227E28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7D54D-751A-4188-97DE-268D2223E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8835C-2F05-4A73-BC0E-3EA981414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DDA48-6AE1-4561-A6EB-E81959BFC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48A92-237C-4E4D-A16D-B57870EE4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5A6F3-1282-4232-AA2D-E1B532876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A9C48-86FC-42EE-A2A5-D848B08FA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19566-57DC-472E-AB91-F8A23FCCC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714AE-7ACB-4570-A7DE-0D435FC899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B36A7-E4E3-485E-8C6C-FA99F725C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48E96-B960-4E4F-AF8B-B4F8DFAEF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9A963-1616-49B9-B820-502258E36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A3F17-E9D7-44C9-9753-392F4024C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DAD5D-3D27-4C58-82A6-B2843066F7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B420F-7BA8-49C5-B633-A267B6259B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985F9-6DD2-4A5E-811C-51EB84AE97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9C5EF-E44F-43EF-B62B-ACC86BEA2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92D88-40B6-4A1A-9841-0F91A57C37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43160" y="1447560"/>
            <a:ext cx="64576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927000" y="761760"/>
            <a:ext cx="7290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RENCH DISH CANARD À LA ROUENNAISE IS KNOWN IN ENGLISH AS WHAT SORT OF DUC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676520" y="4876920"/>
            <a:ext cx="5790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P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733320" y="762120"/>
            <a:ext cx="76773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THE SHORTCUTS CONTROL-C ON A PC AND COMMAND-C ON A MAC 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838080" y="4876920"/>
            <a:ext cx="7467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76040" y="762120"/>
            <a:ext cx="8791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PPROXIMATELY ONCE PER MOVIE, WHAT ITEM OF CLOTHING DOES INDIANA JONES ACCIDENTALLY DROP AND RISK HIS LIFE TO GET BAC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795240" y="762120"/>
            <a:ext cx="7553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9 PIXAR FILM WAS ONLY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NIMATED FILM TO BE NOMINATED FOR BEST PICTURE, AFTER "BEAUTY AND THE BEAS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419040" y="4876920"/>
            <a:ext cx="8305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666720" y="762120"/>
            <a:ext cx="78105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AGRAM OF "WEIRD" IS THE TITLE OF A MONTHLY TECHNOLOGY MAGAZI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21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ANDREW)  LU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441360" y="762120"/>
            <a:ext cx="8205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STARTING QUARTERBACK FOR THE INDIANAPOLIS COLTS 2012-2016 AND 201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238400" y="762120"/>
            <a:ext cx="6667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W" STAND FOR IN THE PHYSICS FORMULAS W=F⋅s  AND  W=𝜏𝜃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295280" y="4876920"/>
            <a:ext cx="6553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826920" y="763560"/>
            <a:ext cx="74901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11 FILM DOES RYAN GOSLING PLAY THE WHEEL MAN FOR A HEIST GONE WR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20720" y="762120"/>
            <a:ext cx="7702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THE SHORTCUTS CONTROL-C ON A PC AND COMMAND-C ON A MAC D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AIR,  EARTH,  FIRE,)  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511200" y="762120"/>
            <a:ext cx="8121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F THE 4 CLASSICAL ELEMENTS OF THE ANCIENT GREEKS, WHICH ONE COMES LAST ALPHABETICAL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314360" y="4876920"/>
            <a:ext cx="6515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ES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895320" y="762120"/>
            <a:ext cx="7351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FRENCH DISH CANARD À LA ROUENNAISE IS KNOWN IN ENGLISH AS WHAT SORT OF DUC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285840" y="4876920"/>
            <a:ext cx="8572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"HARD"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57320" y="761760"/>
            <a:ext cx="88293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PPROXIMATELY ONCE PER MOVIE, WHAT ITEM OF CLOTHING DOES INDIANA JONES ACCIDENTALLY DROP AND RISK HIS LIFE TO GET BAC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43120" y="762120"/>
            <a:ext cx="7457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9 PIXAR FILM WAS ONLY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NIMATED FILM TO BE NOMINATED FOR BEST PICTURE, AFTER "BEAUTY AND THE BEAS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88960" y="762120"/>
            <a:ext cx="79646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AGRAM OF "WEIRD" IS THE TITLE OF A MONTHLY TECHNOLOGY MAGAZI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STARTING QUARTERBACK FOR THE INDIANAPOLIS COLTS 2012-2016 AND 201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398600" y="761760"/>
            <a:ext cx="6346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W" STAND FOR IN THE PHYSICS FORMULAS W=F⋅s  AND  W=𝜏𝜃 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824040" y="761760"/>
            <a:ext cx="749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2011 FILM DOES RYAN GOSLING PLAY THE WHEEL MAN FOR A HEIST GONE WR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00120" y="762120"/>
            <a:ext cx="7943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F THE 4 CLASSICAL ELEMENTS OF THE ANCIENT GREEKS, WHICH ONE COMES LAST ALPHABETICALL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01T13:59:04Z</dcterms:created>
  <dc:creator>Jennifer Budzinski</dc:creator>
  <dc:description/>
  <dc:language>en-US</dc:language>
  <cp:lastModifiedBy>Erich Friedman</cp:lastModifiedBy>
  <dcterms:modified xsi:type="dcterms:W3CDTF">2021-11-08T13:47:26Z</dcterms:modified>
  <cp:revision>402</cp:revision>
  <dc:subject/>
  <dc:title>Slide 1</dc:title>
</cp:coreProperties>
</file>