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A27-502B-4E81-A24D-DDF8A1C52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9B0-42A5-4DCD-A9A4-0D2307D2C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4628-54AD-4012-A47A-AFD449DD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64AF-5E21-4C4A-AB5A-1A2185E1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1BD0-370B-4013-AFC2-596BE3D41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937-7DA8-4F1F-989E-536F3DACD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11C4-A8E1-4811-AE40-71646338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ABB-F0EE-4DCB-9F57-68EE48B18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EF7B-6E41-4A5B-ACCA-980554C09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3DF1-9333-4F41-B977-9C7699DD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4053-9F24-401D-B6D0-C75B9E391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27AD-5721-413B-9C4A-33E53E8A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9330-1600-4415-922A-FE5CCDFD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D2EA-14F7-4E76-9CF5-7D0FA2B7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3A53-197B-4334-8610-824F28F9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41E8-AAEE-4B52-8697-0854E73DE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6EB1-86AE-4DDC-83BC-5FC3C0815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C0C2-A98D-4F37-AFEB-A14B5F59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43BD-B025-4A33-8E85-FC842238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DD8D-8546-4101-BD69-946AF0131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9B40-6272-48A9-BA5E-250C087EF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FEEF-C238-4D77-BF0A-F07D3D2DF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20CA-BA3B-4D1A-8805-A1A81A164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5238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3840" y="761760"/>
            <a:ext cx="835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IN THE NAME OF THE DANCE THAT THE MOULIN ROUGE IS FAMOUS FOR INTRODU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95440" y="762120"/>
            <a:ext cx="795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PRESSURE      IS EQUAL TO .999998 MILLIMETERS OF MERC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ITED  STATES)  AIR  (FOR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14480" y="762120"/>
            <a:ext cx="711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IN "USA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(IACOCC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6240" y="77148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WHO SERVED AS PRESIDENT OF BOTH FORD (1970-1978) AND CHRYSLER (1978-199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)  CA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ARTOONIST WHO DREW "LI'L ABNER" 1934-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TTERANCE OF BILL THE CAT, A CHARACTER FROM THE COMIC "BLOOM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44440" y="762120"/>
            <a:ext cx="865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AL CONSTANT DID INDIANA ALMOST LEGISLATE TO BE EQUAL TO 3.2 IN 1897, DESPITE BEING KNOWN TO 500 DECIMAL DIGITS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66640" y="762120"/>
            <a:ext cx="80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PRESSURE      IS EQUAL TO .999998 MILLIMETERS OF MERC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45960" y="762120"/>
            <a:ext cx="8450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SWEDISH WORD FOR PAPERCLIP, NAMED AFTER THE COMPANY THAT FIRST MADE THEM IN THEIR CURRENT 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11280" y="762120"/>
            <a:ext cx="792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IN THE NAME OF THE DANCE THAT THE MOULIN ROUGE IS FAMOUS FOR INTRODU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YLLABLES  OF  ZODIAC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6400" y="761760"/>
            <a:ext cx="734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IN "USA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4400" y="762120"/>
            <a:ext cx="734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WHO SERVED AS PRESIDENT OF BOTH FORD (1970-1978) AND CHRYSLER (1978-199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4200" y="762120"/>
            <a:ext cx="817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ARTOONIST WHO DREW "LI'L ABNER" 1934-197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TTERANCE OF BILL THE CAT, A CHARACTER FROM THE COMIC "BLOOM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8120" y="761760"/>
            <a:ext cx="880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AL CONSTANT DID INDIANA ALMOST LEGISLATE TO BE EQUAL TO 3.2 IN 1897, DESPITE BEING KNOWN TO 500 DECIMAL DIGITS AT TH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9880" y="762120"/>
            <a:ext cx="854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SWEDISH WORD FOR PAPERCLIP, NAMED AFTER THE COMPANY THAT FIRST MADE THEM IN THEIR CURRENT 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47:08Z</dcterms:modified>
  <cp:revision>404</cp:revision>
  <dc:subject/>
  <dc:title>Slide 1</dc:title>
</cp:coreProperties>
</file>