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615B-1E4B-4D0D-B144-8C4D46B37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4DD2-081F-440F-923E-0A5CD048C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9A3B-7CD5-4ECB-85EE-D3CE619FA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7A3B-2C27-4921-8C3A-B2D9513AD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7C71-EC8E-4C70-B5E4-7324DACFF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436C-8BC0-40BB-96B3-1F4A09B51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2F4F-9F3E-4BAF-8847-A6BC934CD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1E19-A42A-4853-87B1-2E02255F1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829B-A913-4601-9F1C-A119089BA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992F-7359-47AE-96CE-33C9EAF64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A4CE-BFD9-4B38-8CA9-A087CF188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3479-1FCD-404A-9112-FAEDA8927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F401-8446-47C0-8CF3-60AF1EC18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B8C0-21BA-4C3E-8448-0E0DB700D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E62A-B3C7-4146-A54D-235AD88A0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F704F-8D19-4923-A4C4-AD3F6228D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423E-1312-4809-B319-DE1363AE2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1A8A-BE86-4E0A-A633-EA7AC100D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517A-EB3D-47D1-B0A6-A210FAE19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8295-FB74-42AE-B2E4-A2157AA9A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DBD3-5722-4916-8EA0-393CEBA14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53CF-9322-4E68-9E00-AD8BD87AD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A7A0-0E61-49D7-8AB3-1192DF75C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43160" y="1523880"/>
            <a:ext cx="6457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3840" y="761760"/>
            <a:ext cx="835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IN THE NAME OF THE DANCE THAT THE MOULIN ROUGE IS FAMOUS FOR INTRODUC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95440" y="762120"/>
            <a:ext cx="795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PRESSURE      IS EQUAL TO .999998 MILLIMETERS OF MERC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UNITED  STATES)  AIR  (FOR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14480" y="762120"/>
            <a:ext cx="711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A" IN "USAF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  (IACOCC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6240" y="77148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AN WHO SERVED AS PRESIDENT OF BOTH FORD (1970-1978) AND CHRYSLER (1978-199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L)  CA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ARTOONIST WHO DREW "LI'L ABNER" 1934-197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K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UTTERANCE OF BILL THE CAT, A CHARACTER FROM THE COMIC "BLOOM COUN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44440" y="762120"/>
            <a:ext cx="865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AL CONSTANT DID INDIANA ALMOST LEGISLATE TO BE EQUAL TO 3.2 IN 1897, DESPITE BEING KNOWN TO 500 DECIMAL DIGITS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66640" y="762120"/>
            <a:ext cx="801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ADEMY AWARDS ARE GIVEN FOR "BEST ORIGINAL" SONG, SCREENPLAY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PRESSURE      IS EQUAL TO .999998 MILLIMETERS OF MERC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45960" y="762120"/>
            <a:ext cx="8450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SWEDISH WORD FOR PAPERCLIP, NAMED AFTER THE COMPANY THAT FIRST MADE THEM IN THEIR CURRENT 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11280" y="762120"/>
            <a:ext cx="792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IN THE NAME OF THE DANCE THAT THE MOULIN ROUGE IS FAMOUS FOR INTRODU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YLLABLES  OF  ZODIAC 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96400" y="761760"/>
            <a:ext cx="734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A" IN "USAF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4400" y="762120"/>
            <a:ext cx="734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MAN WHO SERVED AS PRESIDENT OF BOTH FORD (1970-1978) AND CHRYSLER (1978-199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4200" y="762120"/>
            <a:ext cx="817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ARTOONIST WHO DREW "LI'L ABNER" 1934-197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UTTERANCE OF BILL THE CAT, A CHARACTER FROM THE COMIC "BLOOM COUN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8120" y="761760"/>
            <a:ext cx="880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AL CONSTANT DID INDIANA ALMOST LEGISLATE TO BE EQUAL TO 3.2 IN 1897, DESPITE BEING KNOWN TO 500 DECIMAL DIGITS AT TH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7440" y="761760"/>
            <a:ext cx="816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ADEMY AWARDS ARE GIVEN FOR "BEST ORIGINAL" SONG, SCREENPLAY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99880" y="762120"/>
            <a:ext cx="854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SWEDISH WORD FOR PAPERCLIP, NAMED AFTER THE COMPANY THAT FIRST MADE THEM IN THEIR CURRENT FO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24T23:47:08Z</dcterms:modified>
  <cp:revision>404</cp:revision>
  <dc:subject/>
  <dc:title>Slide 1</dc:title>
</cp:coreProperties>
</file>