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6323-A9DD-4DA2-9DB6-97C27C00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5B7-352E-4FBA-8074-74D6A704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BF7-6584-402E-AA48-23EE0CD7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535-5AA2-4D49-B290-1E99E232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2DF-7896-4E4C-8FD5-B8AC214B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E89-5D1F-46EA-8885-5F00CE3C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F4C9-9ACC-484A-9836-D5C877C1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A20-D4C2-4A4C-9A95-6146A27A1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7941-8033-49EA-9B73-55E42424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C5E8-596D-4DB7-B083-A4F18587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783-896A-4576-8937-1F3FA0D6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251-9918-49BA-8A09-B05594CA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A02-97A3-4360-A640-83222D96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64A-4D79-46FB-A4CD-8493AF4B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2BA-9EF6-4EBD-B37E-C84E18E7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4BA-5C49-48CE-ACC6-D5E7A148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DE5-0940-4733-A2DD-45A6DE28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C3F-8678-4B5A-AB12-12259241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E9A-D4F5-4729-B3E2-8A7AD0D3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72DA-5D42-4C34-9004-FC2FB92A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FE6-CA60-4A46-9669-118C92FB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3F6-31CA-40E6-B45F-FE2CAC53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5EC-EDCE-427D-ABB3-20496890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78080" y="761760"/>
            <a:ext cx="638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762120"/>
            <a:ext cx="8205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RITISH SHOE COMPANY, KNOWN FOR ITS DESERT BOOT SIMILAR TO THOSE WORN BY BRITISH SOLDIERS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6960" y="762120"/>
            <a:ext cx="77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KETCHUP BRAND IN THE U.S., AFTER HEI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LEVELAND)  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7640" y="762120"/>
            <a:ext cx="73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NAMED AFTER ITS FORMER OW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0480" y="762120"/>
            <a:ext cx="776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MAN EMPEROR 79-81, THE FIRST EMPEROR TO SUCCEED TO THE THRONE AFTER HIS BIOLOGICAL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ARMY FORT IS ADJACENT TO THE U.S. BULLION DEPOSI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88880" y="762120"/>
            <a:ext cx="813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AMONG THE KINGS OF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NOBEL PRIZE-WINNING ECONOMIST THAT RUSSEL CROWE PLAYED IN "A BEAUTIFUL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5120" y="762120"/>
            <a:ext cx="821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RITISH SHOE COMPANY, KNOWN FOR ITS DESERT BOOT SIMILAR TO THOSE WORN BY BRITISH SOLDIERS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PITAL)  GAINS  (TA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ING ON YOUR INCOME, THE LONG-TERM "CGT" RATE IS 0%, 15% OR 20%.  WHAT DOES THE "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68440" y="762120"/>
            <a:ext cx="620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280" y="48769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WHEN  FOLLOWED  BY  "VIL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7880" y="761760"/>
            <a:ext cx="778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KETCHUP BRAND IN THE U.S., AFTER HEIN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NAMED AFTER ITS FORMER OW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5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MAN EMPEROR 79-81, THE FIRST EMPEROR TO SUCCEED TO THE THRONE AFTER HIS BIOLOGICAL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ARMY FORT IS ADJACENT TO THE U.S. BULLION DEPOSI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AMONG THE KINGS OF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NOBEL PRIZE-WINNING ECONOMIST THAT RUSSEL CROWE PLAYED IN                 "A BEAUTIFUL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8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ING ON YOUR INCOME, THE LONG-TERM "CGT" RATE IS 0%, 15% OR 20%.  WHAT DOES THE "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54:48Z</dcterms:modified>
  <cp:revision>410</cp:revision>
  <dc:subject/>
  <dc:title>Slide 1</dc:title>
</cp:coreProperties>
</file>