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E26A-8F1C-4EAC-A5F5-103E6F324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32B4-F689-4436-B3FF-AF559E668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5864-FFE6-4A33-B228-269781987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A8FE-A124-42D7-856B-D5514BE42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BAAB-F89D-4CD1-A98E-6A9A63A85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74F1-7970-4DBC-946E-981DF8506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D9AD-B554-446E-A098-D2615F4BA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CBB0-3943-4E74-AE98-6FAB8D2A4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3C6B-5C25-4CD6-850F-198152C86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26C5-6C14-4796-A648-2C440C519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CBC5-F97F-4941-B648-D240A69BD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6223-2B27-4ECF-ABCB-A6891D9D3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9B16-B09E-46AA-AA4A-F5584B73A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075F-6839-42C6-8D3D-46F2982BE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6B05-91FC-4C32-B547-ADEA6DD37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DFC4-7924-4D3B-8AE4-1063C9B96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C92FE-4FE1-4FE8-8FB4-A36BD0C06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23EF-2DA6-43C8-B205-DADC2BC54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C240-A9F7-41FF-8C1D-7661E1C84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A1D0-4DAC-4882-9027-545124D10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1E32-B48E-4E0A-9088-F269B3BAE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7640-4223-4975-B627-BAD4732AA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FF0A-7CD7-40E0-91B9-69263DD34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43160" y="1523880"/>
            <a:ext cx="6457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378080" y="761760"/>
            <a:ext cx="638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MISSISSIPP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68360" y="762120"/>
            <a:ext cx="8205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BRITISH SHOE COMPANY, KNOWN FOR ITS DESERT BOOT SIMILAR TO THOSE WORN BY BRITISH SOLDIERS IN WW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NT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96960" y="762120"/>
            <a:ext cx="7748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GHEST SELLING KETCHUP BRAND IN THE U.S., AFTER HEIN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LEVELAND)  BROW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17640" y="762120"/>
            <a:ext cx="730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FL TEAM NAMED AFTER ITS FORMER OWN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90480" y="762120"/>
            <a:ext cx="7763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OMAN EMPEROR 79-81, THE FIRST EMPEROR TO SUCCEED TO THE THRONE AFTER HIS BIOLOGICAL FA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ARMY FORT IS ADJACENT TO THE U.S. BULLION DEPOSI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88880" y="762120"/>
            <a:ext cx="8137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IRST NAME AMONG THE KINGS OF F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HN)  N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66640" y="762120"/>
            <a:ext cx="801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NOBEL PRIZE-WINNING ECONOMIST THAT RUSSEL CROWE PLAYED IN "A BEAUTIFUL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5120" y="762120"/>
            <a:ext cx="821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BRITISH SHOE COMPANY, KNOWN FOR ITS DESERT BOOT SIMILAR TO THOSE WORN BY BRITISH SOLDIERS IN WW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APITAL)  GAINS  (TA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44680" y="762120"/>
            <a:ext cx="8054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ING ON YOUR INCOME, THE LONG-TERM "CGT" RATE IS 0%, 15% OR 20%.  WHAT DOES THE "G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468440" y="762120"/>
            <a:ext cx="6207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MISSISSIPP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52280" y="4876920"/>
            <a:ext cx="883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IES  WHEN  FOLLOWED  BY  "VILL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77880" y="761760"/>
            <a:ext cx="7788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GHEST SELLING KETCHUP BRAND IN THE U.S., AFTER HEIN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FL TEAM NAMED AFTER ITS FORMER OWN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89120" y="762120"/>
            <a:ext cx="7565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OMAN EMPEROR 79-81, THE FIRST EMPEROR TO SUCCEED TO THE THRONE AFTER HIS BIOLOGICAL FA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ARMY FORT IS ADJACENT TO THE U.S. BULLION DEPOSI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3280" y="761760"/>
            <a:ext cx="8137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IRST NAME AMONG THE KINGS OF FR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87440" y="761760"/>
            <a:ext cx="8167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NOBEL PRIZE-WINNING ECONOMIST THAT RUSSEL CROWE PLAYED IN                 "A BEAUTIFUL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7600" y="762120"/>
            <a:ext cx="8308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ING ON YOUR INCOME, THE LONG-TERM "CGT" RATE IS 0%, 15% OR 20%.  WHAT DOES THE "G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08T13:54:48Z</dcterms:modified>
  <cp:revision>410</cp:revision>
  <dc:subject/>
  <dc:title>Slide 1</dc:title>
</cp:coreProperties>
</file>