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E2AB-074E-4C10-9CBD-C7945FBF1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DAAB-9508-4C06-8312-E9D8FB82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32E9-482B-4F92-82D5-548B0FEB8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0713-CC2C-43FC-BF56-F9324D498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6470-7F8E-411B-89AE-BDC311132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0063-7424-4B96-9B94-9E2942067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41A8-8A67-4355-A3D2-E092DF2AF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A985-ECC5-41F1-BD62-7E2F9F4D3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8325-AC8C-4805-9D58-EB5D2D24E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6C42-A685-47E0-A662-7DCF16C1B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60F2-AD29-443A-8662-54F7A4411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0DAB-E899-49C6-98A2-A63C019BA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6C0F-4920-4EEE-A566-12B22FFDF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F32D-4651-4007-A746-46B8E6D28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4EF9-2979-4725-A3F9-3A253D7F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9331-F413-4676-AEBD-BC3113156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4F3B-2D08-46AF-972D-E62A011AF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2D7F-B2FB-4620-A4B6-FFF054E1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CF4B-0DE8-4571-9A35-5D84D3C5A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946B-680F-469E-BE20-0D6B53EA5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4A6A-BAFF-47BE-9F19-D0B141975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997D-7329-4679-870A-F5151D6AD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F775-5DC7-4348-A350-C0079D308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66720" y="1523880"/>
            <a:ext cx="7810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KEYS OF THE KINGDOM", "THE YEARLING", AND "TWELVE O'CLOCK HIG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H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AS GOOD AS IT GE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AT FOLSOM PRISON" IS 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S LIST OF THE TOP 100 ALBUM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2768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49160"/>
            <a:ext cx="8076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MARRIED TO 3 DIFFERENT ACTRESSES: MIMI ROGERS, NICOLE KIDMAN, AND KATIE HOL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C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LARK W. GRISWOLD IN 5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RTNE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THE LEAD SINGER OF NIRV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6240" y="762120"/>
            <a:ext cx="739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TW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LES DICKENS PROTAGONIST IS BEFRIENDED BY "THE ARTFUL DOD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AS GOOD AS IT GE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KISS OF THE SPIDER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P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90720" y="68580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KEYS OF THE KINGDOM", "THE YEARLING", AND "TWELVE O'CLOCK HI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ARE  VERBS  &amp;  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AT FOLSOM PRISON" IS 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S LIST OF THE TOP 100 ALBUM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MARRIED TO 3 DIFFERENT ACTRESSES: MIMI ROGERS, NICOLE KIDMAN, AND KATIE HOL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LARK W. GRISWOLD IN 5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THE LEAD SINGER OF NIRV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LES DICKENS PROTAGONIST IS BEFRIENDED BY "THE ARTFUL DOD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KISS OF THE SPIDER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1-11-28T03:27:48Z</dcterms:modified>
  <cp:revision>401</cp:revision>
  <dc:subject/>
  <dc:title>Slide 1</dc:title>
</cp:coreProperties>
</file>