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8AEC-8D6B-4CE8-885F-CBC7C6B2B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8F3B-B81E-4A2B-ADB7-900194987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5F05-C75D-4BE4-82EA-CC896AD5A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6CAB-BED2-4685-A50D-C7FDBF6BD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CD42-B58F-4D24-92B4-89BE54C10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5BA3-092E-426A-B0BE-47185E080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89F5-5A26-486B-BD65-89BE9B782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1029-7477-47BD-B0AD-D8B3D9367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1D53-06E2-41F7-AF73-DC21458F7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E98B-6BAB-4FDA-9D70-2D050F977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5C7F-33BC-4E49-A306-2ABD5AFD0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C7F5-8AEB-4D04-9694-85EC61F3B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1070-9B5C-450D-AA6F-3F8D8AC88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ADC0-90B9-441F-9241-3A18CD126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8613-6EAF-4133-87E3-CFA4A34E8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06D9-4535-4723-87C0-BB90DBBE0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03EB1-781A-4A89-8F5E-FAAA64455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7C8F-445C-42A0-AB87-3C892154D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4E8B-512F-47B4-BDF4-963DFB215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95D5-F517-4EBA-BFD4-6BF071A70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2DE2-857E-429A-8A96-1B3E51B5D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12A6-33A2-4319-ADBE-A22AD59B8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1502-E490-4FD0-AADE-530572DF5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66720" y="1523880"/>
            <a:ext cx="7810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"THE KEYS OF THE KINGDOM", "THE YEARLING", AND "TWELVE O'CLOCK HIG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EN  H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"AS GOOD AS IT GE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NY  C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ALBUM "AT FOLSOM PRISON" IS ON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OLLING STO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S LIST OF THE TOP 100 ALBUMS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927680"/>
            <a:ext cx="838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CRU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33520" y="749160"/>
            <a:ext cx="80769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WAS MARRIED TO 3 DIFFERENT ACTRESSES: MIMI ROGERS, NICOLE KIDMAN, AND KATIE HOL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VY  CH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LARK W. GRISWOLD IN 5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URTNEY 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WAS MARRIED TO THE LEAD SINGER OF NIRVA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PL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76240" y="762120"/>
            <a:ext cx="7391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LED ZEPPEL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IVER  TW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LES DICKENS PROTAGONIST IS BEFRIENDED BY "THE ARTFUL DODG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"AS GOOD AS IT GE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HU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KISS OF THE SPIDER WO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GORY  P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90720" y="685800"/>
            <a:ext cx="7238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"THE KEYS OF THE KINGDOM", "THE YEARLING", AND "TWELVE O'CLOCK HIG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28600" y="48769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ST  NAMES  ARE  VERBS  &amp;  NOU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ALBUM "AT FOLSOM PRISON" IS ON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OLLING STO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S LIST OF THE TOP 100 ALBUMS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WAS MARRIED TO 3 DIFFERENT ACTRESSES: MIMI ROGERS, NICOLE KIDMAN, AND KATIE HOL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LARK W. GRISWOLD IN 5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WAS MARRIED TO THE LEAD SINGER OF NIRVA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LED ZEPPEL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LES DICKENS PROTAGONIST IS BEFRIENDED BY "THE ARTFUL DODG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KISS OF THE SPIDER WO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7:38:12Z</dcterms:created>
  <dc:creator>Jennifer Budzinski</dc:creator>
  <dc:description/>
  <dc:language>en-US</dc:language>
  <cp:lastModifiedBy>Erich Friedman</cp:lastModifiedBy>
  <dcterms:modified xsi:type="dcterms:W3CDTF">2021-11-28T03:27:48Z</dcterms:modified>
  <cp:revision>401</cp:revision>
  <dc:subject/>
  <dc:title>Slide 1</dc:title>
</cp:coreProperties>
</file>