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3A2F-2773-4276-A834-D1206E82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4B45-79E6-4B6A-8AE3-7A447BF6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E23-BE14-4B57-BB03-868A7740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C47-1011-48BD-9D58-6A3D4A6B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E38B-16BF-49ED-B9CB-E7DF9E29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8344-C303-4B21-941E-4174741D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004-47ED-4B47-AC12-0D138593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FAF-A992-4EE2-B23D-71720697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C2A-C11E-48B9-8892-BD049304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E35D-33A7-4650-A42B-53DF58C2A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C947-9FF0-4E5F-A7EB-F4B539F1A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8428-B212-4611-80DB-7060396B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63DF-2BBD-4AA6-A574-A0C2B2E2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752F-D419-4734-ABA2-975BA81A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4FEA-4397-4662-BA1B-8B0EC5F2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EF07-A6BE-4BC8-AF69-911BF5E10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980E-1926-41A7-8222-B36677F08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E70E-3B7C-4682-AB52-66F71C8F0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4217-D418-4C22-9178-1D0DBF67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63D4-A2FD-4685-A641-CD8D4BF1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18F-F14C-4726-8AE4-14F11EEB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6272-E57B-48CC-A89C-193A401C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9D88-0DA3-4E46-921A-3F049569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5238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3840" y="761760"/>
            <a:ext cx="835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DID THE PILGRIMS FOUND IN 1620, WHICH SERVED AS THE SITE OF THE FIRST THANKSGIVING FE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A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90440" y="762120"/>
            <a:ext cx="69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ITARY COLLEGE OF SOUTH CAROLINA IS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6960" y="762120"/>
            <a:ext cx="77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TV MEDIA PLAYER IS NAMED FOR THE JAPANESE WORD FOR "SI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INA)  HEND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36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JOAN HOLLOWAY, THE OFFICE MANAGER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3434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EDERAL)  AVIATION  (ADMINIST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3480" y="762120"/>
            <a:ext cx="7277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A" IN "FA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, FIESTA, FUSION, AND THE F-350 ARE ALL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44440" y="762120"/>
            <a:ext cx="865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MSAY, LIGHTFOOT, BROWN, AND HAYWARD ARE ALL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M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ER NAME OF THE MOST POPULOUS CITY IN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84320" y="762120"/>
            <a:ext cx="697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ITARY COLLEGE OF SOUTH CAROLINA IS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FE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30360" y="762120"/>
            <a:ext cx="788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CEREMONIAL GUARDIAN OF THE TOWER OF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6800" y="762120"/>
            <a:ext cx="815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DID THE PILGRIMS FOUND IN 1620, WHICH SERVED AS THE SITE OF THE FIRST THANKSGIVING F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7880" y="761760"/>
            <a:ext cx="778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TV MEDIA PLAYER IS NAMED FOR THE JAPANESE WORD FOR "SI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JOAN HOLLOWAY, THE OFFICE MANAGER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66960" y="762120"/>
            <a:ext cx="72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A" IN "FA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, FIESTA, FUSION, AND THE F-350 ARE ALL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8120" y="761760"/>
            <a:ext cx="880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MSAY, LIGHTFOOT, BROWN, AND HAYWARD ARE ALL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ER NAME OF THE MOST POPULOUS CITY IN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9880" y="762120"/>
            <a:ext cx="854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CEREMONIAL GUARDIAN OF THE TOWER OF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4:00:15Z</dcterms:modified>
  <cp:revision>406</cp:revision>
  <dc:subject/>
  <dc:title>Slide 1</dc:title>
</cp:coreProperties>
</file>