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406C-6EAC-4C3C-9169-14CC3C059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D77F-511A-4C1A-99FD-217C7CAA4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0B05-EDEC-4E7E-99D2-C2ACA1212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72C8-CB43-4D61-9A2C-BC76C7F09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8BC3-0AFB-49BD-9C16-C54B51F1A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95C2-0455-457C-9C19-2E99D9CD7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489A-5019-45A1-B984-975573809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1A88-388D-4B29-99A2-A896C91A2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9D8B-5874-4E0C-A0A2-DC02E9303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629B-5C81-4092-B7D2-62111D2C2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8169-69D7-4E7A-B090-873B800D1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3F07-E9B8-4DF7-B8A1-4A6D62578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0627-6715-4D71-876D-0D572F56D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09AB-DBD1-42B8-A6E6-BA729DAA6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E1BF-E64C-4FFB-AFD3-2DFD94C06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CF80-A377-448F-B3B1-09534599E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81FC-D572-40E9-9D7F-5995D660B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9CEE-0833-4D7A-A04C-BD951C833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FFD0-0F6F-4915-A1B3-12A183461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4284-A77F-470F-A3D1-85F81BD40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FF2C6-FEE0-48EC-A2FD-7C8ECD3CF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5883-091F-4E4E-8184-25C309D27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227A-2E62-49AF-ABBF-E9C6F2C21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43160" y="1523880"/>
            <a:ext cx="6457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3840" y="761760"/>
            <a:ext cx="8356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DID THE PILGRIMS FOUND IN 1620, WHICH SERVED AS THE SITE OF THE FIRST THANKSGIVING FEA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TA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090440" y="762120"/>
            <a:ext cx="6963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ILITARY COLLEGE OF SOUTH CAROLINA IS KNOWN AS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K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96960" y="762120"/>
            <a:ext cx="7748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OF TV MEDIA PLAYER IS NAMED FOR THE JAPANESE WORD FOR "SIX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CHRISTINA)  HENDRI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3680" y="762120"/>
            <a:ext cx="8191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RESS WHO PLAYED JOAN HOLLOWAY, THE OFFICE MANAGER ON "MAD M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19040" y="434340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FEDERAL)  AVIATION  (ADMINISTR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33480" y="762120"/>
            <a:ext cx="7277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FIRST "A" IN "FAA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66640" y="762120"/>
            <a:ext cx="8010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CUS, FIESTA, FUSION, AND THE F-350 ARE ALL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RD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44440" y="762120"/>
            <a:ext cx="8655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MSAY, LIGHTFOOT, BROWN, AND HAYWARD ARE ALL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MB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66640" y="762120"/>
            <a:ext cx="8010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ORMER NAME OF THE MOST POPULOUS CITY IN IND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84320" y="762120"/>
            <a:ext cx="6975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ILITARY COLLEGE OF SOUTH CAROLINA IS KNOWN AS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EFE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30360" y="762120"/>
            <a:ext cx="788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FOR A CEREMONIAL GUARDIAN OF THE TOWER OF LOND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314360" y="4876920"/>
            <a:ext cx="651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YM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96800" y="762120"/>
            <a:ext cx="8150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DID THE PILGRIMS FOUND IN 1620, WHICH SERVED AS THE SITE OF THE FIRST THANKSGIVING FE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85840" y="4876920"/>
            <a:ext cx="8572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NDS  OF  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77880" y="761760"/>
            <a:ext cx="7788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OF TV MEDIA PLAYER IS NAMED FOR THE JAPANESE WORD FOR "SIX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RESS WHO PLAYED JOAN HOLLOWAY, THE OFFICE MANAGER ON "MAD M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66960" y="762120"/>
            <a:ext cx="72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FIRST "A" IN "FAA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6280" y="762120"/>
            <a:ext cx="8191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CUS, FIESTA, FUSION, AND THE F-350 ARE ALL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68120" y="761760"/>
            <a:ext cx="8807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MSAY, LIGHTFOOT, BROWN, AND HAYWARD ARE ALL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87440" y="761760"/>
            <a:ext cx="8167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ORMER NAME OF THE MOST POPULOUS CITY IN IND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99880" y="762120"/>
            <a:ext cx="8544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FOR A CEREMONIAL GUARDIAN OF THE TOWER OF LOND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1-08T14:00:15Z</dcterms:modified>
  <cp:revision>406</cp:revision>
  <dc:subject/>
  <dc:title>Slide 1</dc:title>
</cp:coreProperties>
</file>