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3B27-9061-43E9-A8D8-2030706B6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716D-9176-4340-B837-D9C427CC3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634D-709C-4E03-BC3A-78490AFCA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0F9F-E2C6-4A4B-960E-53E0237E5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74AD-2C41-4C1A-BB28-01E3AEC94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AE25-0B96-412E-831A-F288FD829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A052-82D1-458B-BB96-A2877ABE6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862C-C0B0-4715-9D77-B997CBF3E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DF49-11E0-434B-883E-C9B092E22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87C8-0C60-4101-A9D1-647D845E6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EB0E-7034-4AF7-B882-E33BA0DD8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F15A-9590-429B-B607-060851030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98AF-AC74-4BB3-AE0D-1467F914D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18A6-2A3D-4ED5-A2A5-F78C45557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2F0C-81E9-40DA-84A4-7C7039FC2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19B0-9D2A-45CD-894F-200A68602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D82A-930B-44A2-BEC8-13792F992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B247-8B1E-4883-837C-8B302D64A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7FFD-F0A3-476F-ABA5-2871343C4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9F75-06A2-47F5-9440-D7E21D5F7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CEA2-813F-4C4E-A0CA-95E7BB3B9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7EE1-7685-462C-9975-870C33CCE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40E9-E006-4330-99D2-4DA8B46E4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7E60-290C-4123-BA34-9CC16E209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CIOUS STONE    HAS THE HIGHEST THERMAL CONDUCTIVITY OF ANY NATURAL SUBST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US OF DUCK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0962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  MAJE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HORTEST BEATLES SONG, ONLY 23 SECOND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-LETTER TERM FOR SPIKING A VOLLEYBALL AND WINNING THE POI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IN TENNIS MAY HAVE COME FROM THE FRENCH WORD FOR "EG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N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 WHAT NAME WAS THE VOLKSWAGEN PASSAT MARKETED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NDER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RITISH LOTTERY GAME DOES A PLAYER PICK 5 NUMBERS FROM 1-39  AND 1 NUMBER FROM 1-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RET 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GOVERNMENT AGENCY WAS PART OF THE TREASURY DEPT. UNTIL 2003, SINCE IT WAS FOUNDED TO COMBAT COUNTERFEI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WAS DISQUALIFIED FROM THE 2018 AND 2020 OLYMPICS DUE TO DOP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M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CIOUS STONE    HAS THE HIGHEST THERMAL CONDUCTIVITY OF ANY NATURAL SUBST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EN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US OF DUCK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523880" y="2017800"/>
            <a:ext cx="6096240" cy="28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1257480" y="434340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IN  TITLES  OF  JAMES  BOND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HORTEST BEATLES SONG, ONLY 23 SECOND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-LETTER TERM FOR SPIKING A VOLLEYBALL AND WINNING THE POI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IN TENNIS MAY HAVE COME FROM THE FRENCH WORD FOR "EG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 WHAT NAME WAS THE VOLKSWAGEN PASSAT MARKETED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RITISH LOTTERY GAME DOES A PLAYER PICK 5 NUMBERS FROM 1-39  AND 1 NUMBER FROM 1-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GOVERNMENT AGENCY WAS PART OF THE TREASURY DEPT. UNTIL 2003, SINCE IT WAS FOUNDED TO COMBAT COUNTERFEI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47600" y="761760"/>
            <a:ext cx="7048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WAS DISQUALIFIED FROM THE 2018 AND 2020 OLYMPICS DUE TO DOP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1-12-18T13:06:08Z</dcterms:modified>
  <cp:revision>402</cp:revision>
  <dc:subject/>
  <dc:title>Slide 1</dc:title>
</cp:coreProperties>
</file>