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E7AE-8B04-4F0F-A541-C1B95B141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ED3D-DAA7-411F-872B-F1BC84A39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C8F2-C695-4795-9633-C483F03F5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F6A5-27A0-47D1-B2FD-D9CCE3D1C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C497-087B-4D78-A077-95917FFA1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AA6-60E2-4895-BF82-421BAE49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6973-162F-4603-845A-63371E1D5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256A-71BA-44A4-8D3E-9779B4BA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B82F-0DF2-4EA7-874F-9D60F0C71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51D8-83C5-4C46-8892-F003CEA8D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281-4BDE-4D47-A116-A4F073ED9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6B5B-AD52-4EFE-AB89-BEFFF5DC7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A57B-2A03-4727-B607-BD7EECD70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168B-6F45-4EA8-8752-BBEED378B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BF18-B6DC-45EA-ABC0-684EA0189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2924-3B0A-44A0-B741-5E3069A4C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50DD-2CDC-49B0-BD9F-4A87084A4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0E0A-AC00-48B7-B842-92D303240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0995-B379-4694-A883-CA7EFE168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1470-73F3-4621-B37F-991DF30CD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F4C4-CEA5-4327-8332-D2F014F8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66C9-F10A-4D3E-91AB-6BBEE7D9F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E093-ECF3-48E2-A39E-4F096403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A1A1-3A41-4351-A1E3-D24BE197E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CIOUS STONE    HAS THE HIGHEST THERMAL CONDUCTIVITY OF ANY NATURAL SUBST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US OF DUCK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0962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 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HORTEST BEATLES SONG, ONLY 23 SECOND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TERM FOR SPIKING A VOLLEYBALL AND WINNING THE PO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N TENNIS MAY HAVE COME FROM THE FRENCH WORD FOR "EG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WHAT NAME WAS THE VOLKSWAGEN PASSAT MARKETE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RITISH LOTTERY GAME DOES A PLAYER PICK 5 NUMBERS FROM 1-39  AND 1 NUMBER FROM 1-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 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GOVERNMENT AGENCY WAS PART OF THE TREASURY DEPT. UNTIL 2003, SINCE IT WAS FOUNDED TO COMBAT COUNTERFEI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WAS DISQUALIFIED FROM THE 2018 AND 2020 OLYMPICS DUE TO DOP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CIOUS STONE    HAS THE HIGHEST THERMAL CONDUCTIVITY OF ANY NATURAL SUB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US OF DUCK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523880" y="2017800"/>
            <a:ext cx="609624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2574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ITLES  OF  JAMES  BOND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HORTEST BEATLES SONG, ONLY 23 SECOND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TERM FOR SPIKING A VOLLEYBALL AND WINNING THE PO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N TENNIS MAY HAVE COME FROM THE FRENCH WORD FOR "EG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WHAT NAME WAS THE VOLKSWAGEN PASSAT MARKETE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RITISH LOTTERY GAME DOES A PLAYER PICK 5 NUMBERS FROM 1-39  AND 1 NUMBER FROM 1-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GOVERNMENT AGENCY WAS PART OF THE TREASURY DEPT. UNTIL 2003, SINCE IT WAS FOUNDED TO COMBAT COUNTERFEI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WAS DISQUALIFIED FROM THE 2018 AND 2020 OLYMPICS DUE TO DOP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1-12-18T13:06:08Z</dcterms:modified>
  <cp:revision>402</cp:revision>
  <dc:subject/>
  <dc:title>Slide 1</dc:title>
</cp:coreProperties>
</file>