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106F-0A15-4A49-9B52-4C7CCEE89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ACF5-64F4-452A-9E39-DC9BDD5C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B538-2D70-47DC-AABC-B7CD755D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F61-F461-4CDC-B5E2-96332BEC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ED6D-6991-4745-9956-DAE6411A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4561-31E2-4AC0-825B-136C0F8F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165-2D85-40EA-830C-864B0066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CFED-1A6F-4E10-8274-417CB195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C88-DCD6-44BF-BDF0-614B29EE5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3BBB-22FF-49C4-9209-F4197054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FAD0-677F-4C36-9B71-96B6616B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C158-92B9-45D1-B8A9-79AC523D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B708-B659-472B-8E41-0CE964926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309C-B1F9-4BC1-AC3A-67A87C4E1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1333-9399-4233-9144-61C99D9C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F421-4B41-4E10-9FAA-3387D994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AAF-F7B6-4BA0-A236-0D881DF9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9152-9320-4359-A283-B1EA9A495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C974-40CC-4687-863A-5EB497355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E0F-A3B7-418C-B3F7-C2A4B8A8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D15B-A0BE-4AC7-A6BC-AE5BEF6F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6B7B-42C1-4587-B8B4-98BC8F25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E363-9A2C-4A7A-AEBE-01909505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43040" y="1523880"/>
            <a:ext cx="7657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   FOR "EVITA", "JESUS CHRIST SUPERSTAR", AND "THE PHANTOM OF THE OPER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A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N ALLITERATIVE NAME WAS CALLED THE "FIRST LADY OF AMERICAN THEAT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MO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12640" y="762120"/>
            <a:ext cx="811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ERTO RICAN ACTRESS  PLAYED ANITA IN THE FILM "WEST SIDE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IELG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30080" y="75888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OUIS VII OF FRANCE IN "BECKET" AND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85800" y="4876920"/>
            <a:ext cx="7831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24040" y="762120"/>
            <a:ext cx="7494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ROMAN HOLIDAY", "SABRINA", "MY FAIR LADY", AND "WAIT UNTIL D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HAML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2560" y="762120"/>
            <a:ext cx="777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5 PULITZER PRIZE FOR DRAMA FOR "A CHORUS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3800" y="762120"/>
            <a:ext cx="8096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  GOLD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STER ACT" AND ITS SEQU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9840" y="685440"/>
            <a:ext cx="720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N ALLITERATIVE NAME WAS CALLED THE "FIRST LADY OF AMERICAN THEAT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REEN LIGHT", "ORDINARY PEOPLE", "ALL OF ME", AND "LOVE ME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79440" y="48769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LLOYD  WEB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  FOR "EVITA", "JESUS CHRIST SUPERSTAR", AND "THE PHANTOM OF THE OPERA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22160" y="4343400"/>
            <a:ext cx="7699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EGOTS  (EMMY,  GRAMMY,  OSCAR  &amp;  TONY  AWARD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2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ERTO RICAN ACTRESS  PLAYED ANITA IN THE FILM "WEST SIDE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35120" y="68580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OUIS VII OF FRANCE IN "BECKET" AND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ROMAN HOLIDAY", "SABRINA", "MY FAIR LADY", AND "WAIT UNTIL D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5  PULITZER PRIZE FOR DRAMA FOR "A CHORUS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50920" y="762120"/>
            <a:ext cx="684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STER ACT" AND ITS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REEN LIGHT", "ORDINARY PEOPLE", "ALL OF ME", AND "LOVE ME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1-12-18T13:08:49Z</dcterms:modified>
  <cp:revision>381</cp:revision>
  <dc:subject/>
  <dc:title>Slide 1</dc:title>
</cp:coreProperties>
</file>