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E63F-5FB7-4ADA-969D-154816BC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891-6D69-4E66-94BB-0E1B12EB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CB07-307B-4F2F-A4AD-AE85C92FB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3F98-A112-438C-BD75-3C540662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4579-7ACA-4E0C-A8EB-3E6928675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8A49-D785-435F-8382-2A69C328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8066-C363-47EF-8A1F-D43F89970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EB5B-84F2-4E74-9D8D-44336EEC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AD50-9D7E-4AF0-9C0F-46F4A7CA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B458-9932-4556-AD5D-5E7EB0E7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2C82-734C-43A9-B8CD-B7DA75C8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BD4A-FB72-4024-8EC5-7FD23A07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8DEA-DC32-485A-A664-FE49431F2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DEA-5EED-4766-B554-80BEEE6C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ED90-1001-4CC0-94B9-4115F4A1F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99B-05A7-495D-81F6-1E641D32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00AB-AC7A-4CDF-AF5C-BCD0DFDB4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3E55-8645-4A19-8DE8-CFDBF2EE6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0BC2-B9F6-411C-9227-11B82670A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8673-DA3A-4669-8627-4B23FC89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B0FC-D13D-4FBA-BC73-70FD4D3C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7AF-E547-405F-AFFB-646323917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82CC-D300-48E1-9F23-E4948A095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43040" y="1523880"/>
            <a:ext cx="7657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   FOR "EVITA", "JESUS CHRIST SUPERSTAR", AND "THE PHANTOM OF THE OPER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A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N ALLITERATIVE NAME WAS CALLED THE "FIRST LADY OF AMERICAN THEAT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MO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12640" y="762120"/>
            <a:ext cx="811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ERTO RICAN ACTRESS  PLAYED ANITA IN THE FILM "WEST SIDE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IELG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30080" y="75888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OUIS VII OF FRANCE IN "BECKET" AND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85800" y="4876920"/>
            <a:ext cx="7831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24040" y="762120"/>
            <a:ext cx="749448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ROMAN HOLIDAY", "SABRINA", "MY FAIR LADY", AND "WAIT UNTIL D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HAMLI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2560" y="762120"/>
            <a:ext cx="777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5 PULITZER PRIZE FOR DRAMA FOR "A CHORUS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3800" y="762120"/>
            <a:ext cx="8096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STER ACT" AND ITS SEQU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9840" y="685440"/>
            <a:ext cx="720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N ALLITERATIVE NAME WAS CALLED THE "FIRST LADY OF AMERICAN THEAT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REEN LIGHT", "ORDINARY PEOPLE", "ALL OF ME", AND "LOVE ME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79440" y="4876920"/>
            <a:ext cx="8381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LLOYD  WEB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USIC   FOR "EVITA", "JESUS CHRIST SUPERSTAR", AND "THE PHANTOM OF THE OPERA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22160" y="4343400"/>
            <a:ext cx="7699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EGOTS  (EMMY,  GRAMMY,  OSCAR  &amp;  TONY  AWARD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2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ERTO RICAN ACTRESS  PLAYED ANITA IN THE FILM "WEST SIDE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35120" y="68580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OUIS VII OF FRANCE IN "BECKET" AND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ROMAN HOLIDAY", "SABRINA", "MY FAIR LADY", AND "WAIT UNTIL D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5  PULITZER PRIZE FOR DRAMA FOR "A CHORUS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50920" y="762120"/>
            <a:ext cx="684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 AND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STER ACT" AND ITS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REEN LIGHT", "ORDINARY PEOPLE", "ALL OF ME", AND "LOVE ME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1-12-18T13:08:49Z</dcterms:modified>
  <cp:revision>381</cp:revision>
  <dc:subject/>
  <dc:title>Slide 1</dc:title>
</cp:coreProperties>
</file>