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1A40-B8C9-42AD-A3B7-D682630A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27A3-7D07-465E-B7CB-E428285A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49BB-72D8-4227-B875-8285CD6BF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4D6-3DD3-4842-92C7-9F62EB6B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27BF-5F5E-4B88-BC68-4404CC428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4EB2-6930-4588-92E3-9918DF72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4B54-7277-4130-AAAD-F22B671FC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CA0E-5468-4578-8E51-5287EAEFC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71D-12E4-4530-A0F3-C99693C02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3A92-97C0-47ED-B12A-819946206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BDFB-B954-416D-8353-4BC7FBECF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8D9-7847-429C-864D-E8FC53A1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61F0-76A1-442E-B7E7-B9A533087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8E96-B777-4E75-AD6D-67A28DE7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6A21-ECBD-4C7E-B712-DE6FF3779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DF61-709E-4944-BB6F-A6FA8BDE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7A54-5951-45F5-890E-45E61F5A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F30C-4B8E-40CF-BE5D-9A2FB4ED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F1EF-C2BC-4088-8EA6-B68F6C8F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3A1B-D2AF-4AD7-9630-6456320A7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AAB3-7298-4B14-9383-3B40120C6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E9D7-F157-42F3-B389-E6B04963B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AAB1-7B07-4BA1-A83F-E31E287C6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51 OR 54 OF IN THE VAST MAJORITY OF BASE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188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LACKJACK, IF YOU TAKE A CARD YOU "HIT".  WHAT IS IT CALLED IF YOU DON'T TAKE A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952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THE TWO MOST COMMON PENALTIES ARE FOR A FALSE START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OMOSOME DO MEN HAVE THAT WOMEN DO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WEAPON IS USED MOST FOR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47920" y="762120"/>
            <a:ext cx="6248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ZEL'S OCCUPATION ON THE TV SHOW "HAZ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9528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HAS THE MOST DEFINITIONS IN THE ENGLISH OXFORD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LACKJACK, IF YOU TAKE A CARD YOU "HIT".  WHAT IS IT CALLED IF YOU DON'T TAKE A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95288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CONSISTING OF 8 FILMS IS NAMED AFTER A COMMON T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51 OR 54 OF IN THE VAST MAJORITY OF BASE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-9360" y="4952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H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THE TWO MOST COMMON PENALTIES ARE FOR A FALSE START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OMOSOME DO MEN HAVE THAT WOMEN DO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WEAPON IS USED MOST FOR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ZEL'S OCCUPATION ON THE TV SHOW "HAZ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HAS THE MOST DEFINITIONS IN THE ENGLISH OXFORD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CONSISTING OF 8 FILMS IS NAMED AFTER A COMMON T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8:06:49Z</dcterms:created>
  <dc:creator>Jennifer Budzinski</dc:creator>
  <dc:description/>
  <dc:language>en-US</dc:language>
  <cp:lastModifiedBy>Erich Friedman</cp:lastModifiedBy>
  <dcterms:modified xsi:type="dcterms:W3CDTF">2020-08-24T23:11:56Z</dcterms:modified>
  <cp:revision>424</cp:revision>
  <dc:subject/>
  <dc:title>Slide 1</dc:title>
</cp:coreProperties>
</file>