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ECCA-B529-4D14-AB80-07F75C0F4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B9C6-2AC9-4626-ABD0-037D08FF2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2F74-3670-4CAB-BBBA-AB950E122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BBE1-AB6E-478E-B1AB-393F975D5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1DB4-FB3F-4369-B42D-5CF88D727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8840-800E-401E-BF1D-021CE6CAD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8D68-4A44-4532-B32C-CB31BA268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8200-5C4D-40CC-9634-C1ED79EB6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8DC3-4337-4592-A39F-19D060763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9B4F7-0890-48F6-8E64-8FB227033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B77D-77CE-4660-93F3-ABE778722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08D7-C017-4596-B98A-06A28CD97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1CAC-39B2-4A62-96C3-26CA6AAEA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CF30-A5C8-4046-968C-3107752A0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BCB3-ECC8-4200-8EE7-353B672E1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2AF1-3186-4EB6-80CC-AEE1ECE00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FAD8-5668-4C19-ADF1-B76422F3D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0FA0-6AB1-4E04-BBF9-7B5646ECF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BE27-4C94-4EE0-8A9D-02EA6ED4C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A3A4-69F9-4FE5-B76D-84C09300E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C84B-1BBB-4346-85B5-BEFCAB567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9605-ABD8-4707-8A23-EF6D3976E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977B-9A50-4AEA-B61B-602CC31BB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RE 51 OR 54 OF IN THE VAST MAJORITY OF BASEBALL GA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0188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LACKJACK, IF YOU TAKE A CARD YOU "HIT".  WHAT IS IT CALLED IF YOU DON'T TAKE A C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86080" y="495288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FF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04840" y="76212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OST POPULAR INSECT REPELL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L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OOTBALL, THE TWO MOST COMMON PENALTIES ARE FOR A FALSE START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ROMOSOME DO MEN HAVE THAT WOMEN DO N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S., WHAT WEAPON IS USED MOST FOR MU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447920" y="762120"/>
            <a:ext cx="62481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HAZEL'S OCCUPATION ON THE TV SHOW "HAZE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95288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LETTER WORD HAS THE MOST DEFINITIONS IN THE ENGLISH OXFORD DICTION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LACKJACK, IF YOU TAKE A CARD YOU "HIT".  WHAT IS IT CALLED IF YOU DON'T TAKE A C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09480" y="4952880"/>
            <a:ext cx="7925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RROR FILM FRANCHISE CONSISTING OF 8 FILMS IS NAMED AFTER A COMMON T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U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RE 51 OR 54 OF IN THE VAST MAJORITY OF BASEBALL G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-9360" y="49528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HAN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OST POPULAR INSECT REPELL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OOTBALL, THE TWO MOST COMMON PENALTIES ARE FOR A FALSE START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ROMOSOME DO MEN HAVE THAT WOMEN DO NO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S., WHAT WEAPON IS USED MOST FOR MU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447920" y="761760"/>
            <a:ext cx="6248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HAZEL'S OCCUPATION ON THE TV SHOW "HAZE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LETTER WORD HAS THE MOST DEFINITIONS IN THE ENGLISH OXFORD DICTION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RROR FILM FRANCHISE CONSISTING OF 8 FILMS IS NAMED AFTER A COMMON TOO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7T18:06:49Z</dcterms:created>
  <dc:creator>Jennifer Budzinski</dc:creator>
  <dc:description/>
  <dc:language>en-US</dc:language>
  <cp:lastModifiedBy>Erich Friedman</cp:lastModifiedBy>
  <dcterms:modified xsi:type="dcterms:W3CDTF">2020-08-24T23:11:56Z</dcterms:modified>
  <cp:revision>424</cp:revision>
  <dc:subject/>
  <dc:title>Slide 1</dc:title>
</cp:coreProperties>
</file>