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070-2C04-40D8-8CF1-5C82AC2D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71EC-8412-4B66-95CD-17B055EA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501C-BED7-4102-9A02-197360DD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9129-4FFE-421C-A6C8-C96B84D4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092-9FE7-4B45-AB50-EF8C633A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B29-E889-40EA-ADAA-CC8F5FD3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680-BC9C-4803-8B44-CA2D7718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521E-E7B7-4C7E-8799-83302C66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EF0-F06C-431A-B72C-1DCD1EF6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27C-BA55-4D0C-B71E-3E4186C7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9859-0877-4EFB-85F7-C1F1007A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F72F-0805-4D65-AAC2-672B3889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E39D-6FDE-4AE0-AF4F-7F875234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0E9-2D18-4D40-873D-00708FF1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7E5-B5CE-425C-B718-0D9E82A9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DDD1-B3D8-4801-8A9D-E2D89AB7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969-DBAE-470D-ACB8-6436AE10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335C-7BC9-48A9-9827-4BF29BF8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4431-4AB8-48DE-BD01-F8B7F202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817-ACEF-43AD-90F6-CFE2312D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4B6-E130-424D-83B4-D3959A80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AEFE-A609-40CF-85F0-3DA0E8E7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0A37-0B2C-4263-B545-D043E36D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47920" y="762120"/>
            <a:ext cx="6248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9528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-9360" y="4952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H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06:49Z</dcterms:created>
  <dc:creator>Jennifer Budzinski</dc:creator>
  <dc:description/>
  <dc:language>en-US</dc:language>
  <cp:lastModifiedBy>Erich Friedman</cp:lastModifiedBy>
  <dcterms:modified xsi:type="dcterms:W3CDTF">2020-08-24T23:11:56Z</dcterms:modified>
  <cp:revision>424</cp:revision>
  <dc:subject/>
  <dc:title>Slide 1</dc:title>
</cp:coreProperties>
</file>