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CEDF-1006-4D7B-B2C7-8BB943214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FA6D-6BDB-4235-BAF9-F1A02AC7E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308E-E2F7-49DE-BD85-A2E79F34A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7E94-413B-4EB3-8F9A-4656C7B45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4293-123C-4754-B2C8-AF592893E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93CD-4854-4D0F-BB2D-2A3ABEE5E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DFA2-2B22-4586-92E2-D2A9AAFB3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CBF7-3A4B-47CB-B314-5DA7B607A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8BE7-BEAB-499B-BF39-F975CDC1A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C60D-DA75-4D1C-B399-17194ABA1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0E1B-9141-4DA1-94D4-58205B24B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BD33-5D3E-4681-85D7-485A8FF63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1CCF-2430-41C3-8FDB-D346E902D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2227-477A-4014-8C12-34B30DF80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2AC8-2F57-4B8B-82DB-A98FBC79A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5C29-57DB-44BB-AF73-3737D4364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8553-85D1-40E5-8A06-F72D21578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812A-20A5-4292-AE2E-B52541D0F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3115-6119-4C1D-B2CB-D66D71E5F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8BCD-D9A5-4C08-9F8E-BE058F5C5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F657-994D-4707-B80E-56A60C1FD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FA8F-F934-4712-87B1-087363591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3BBD-F066-43C8-B98D-86AEF3483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MAN CATHOLIC PRAYER FORMS THE BASIS FOR THE HOLY ROS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OTHING COMPANY OWNS BANANA REPUBLIC AND OLD NAV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NANCIAL TERM FOR A CONTRACT WHICH GIVES ONE THE RIGHT TO BUY AN ASSET LATER FOR A GIVEN PR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TG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09480" y="762120"/>
            <a:ext cx="7925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O POTENTIAL RIDERS SAY TO CLAIM DIBS TO THE FRONT SE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URLING, WHAT DO PLAYERS DO TO THE ICE TO MAKE THE STONES CUR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5 FILM DID MELISSA MCCARTHY PLAY A SECRET AG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295280" y="4952880"/>
            <a:ext cx="6629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33520" y="990720"/>
            <a:ext cx="5486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MUSIC SYMBOL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music_flat_sign.jpg"/>
          <p:cNvPicPr/>
          <p:nvPr/>
        </p:nvPicPr>
        <p:blipFill>
          <a:blip r:embed="rId1"/>
          <a:stretch/>
        </p:blipFill>
        <p:spPr>
          <a:xfrm>
            <a:off x="6400800" y="533520"/>
            <a:ext cx="2095560" cy="406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95288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1 FILM DID JULIA ROBERTS PLAY TINKER B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OTHING COMPANY OWNS BANANA REPUBLIC AND OLD NAV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95360" y="49528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COIN PICTURES A TORCH, OLIVE BRANCH, AND OAK BRANCH ON ITS RE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L  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MAN CATHOLIC PRAYER FORMS THE BASIS FOR THE HOLY RO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0" y="4876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OTBALL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NANCIAL TERM FOR A CONTRACT WHICH GIVES ONE THE RIGHT TO BUY AN ASSET LATER FOR A GIVEN PR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O POTENTIAL RIDERS SAY TO CLAIM DIBS TO THE FRONT SE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URLING, WHAT DO PLAYERS DO TO THE ICE TO MAKE THE STONES CUR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5 FILM DID MELISSA MCCARTHY PLAY A SECRET AG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160" y="1104840"/>
            <a:ext cx="510516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IS MUSIC SYMBOL M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" descr="music_flat_sign.jpg"/>
          <p:cNvPicPr/>
          <p:nvPr/>
        </p:nvPicPr>
        <p:blipFill>
          <a:blip r:embed="rId1"/>
          <a:stretch/>
        </p:blipFill>
        <p:spPr>
          <a:xfrm>
            <a:off x="6400800" y="533520"/>
            <a:ext cx="2095560" cy="40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1 FILM DID JULIA ROBERTS PLAY TINKER B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COIN PICTURES A TORCH, OLIVE BRANCH, AND OAK BRANCH ON ITS REVE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6T13:48:41Z</dcterms:created>
  <dc:creator>Jennifer Budzinski</dc:creator>
  <dc:description/>
  <dc:language>en-US</dc:language>
  <cp:lastModifiedBy>Erich Friedman</cp:lastModifiedBy>
  <dcterms:modified xsi:type="dcterms:W3CDTF">2021-12-18T13:11:42Z</dcterms:modified>
  <cp:revision>441</cp:revision>
  <dc:subject/>
  <dc:title>Slide 1</dc:title>
</cp:coreProperties>
</file>