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FA22-B511-4923-A07B-FE19B97DE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77F1-A642-4C5E-8D28-2D3E8CBAF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2E5D-204B-43FF-8CFF-5A2D80C68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2FC0-5ADC-4FE7-9FCF-A55F91DA4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12C7-A13F-4068-A818-718F2F12C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D323-9EDB-40C3-B5FF-9C6283624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E38C-6AC8-406B-8DB1-4268260E8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570F-685C-4518-8C6B-92C861CFE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B90F-9B41-4839-8EB6-53522CD71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D5DF-4214-44E5-9027-8600D9A34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4AA2-F889-42CC-9C20-4BF6DCD63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01E7-13A7-435E-9690-E5F7569A7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3BFC-99BC-48AE-B9EA-576B5B707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2FA2-895F-41A9-ABE8-AA6D2CC79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A3B2-C603-4EEE-8846-DD782FFA8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09A3-E5A6-4E35-BFD8-0B6D68120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7EDF-D076-4D3D-8EBA-9AC039099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C35D-D722-436D-97F0-601AAA615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AC5D-ACCD-48C7-8D91-8F70E288B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6C39-58E8-4A3C-9B73-F87883F73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DFDD-016D-42F6-AA04-42AFFD3EC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8C13-83CB-4CB5-9489-299A1D1F0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400B-1B2F-4559-B89A-8443F660C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MAN CATHOLIC PRAYER FORMS THE BASIS FOR THE HOLY RO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OTHING COMPANY OWNS BANANA REPUBLIC AND OLD NAV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NANCIAL TERM FOR A CONTRACT WHICH GIVES ONE THE RIGHT TO BUY AN ASSET LATER FOR A GIVEN PR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TG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09480" y="762120"/>
            <a:ext cx="7925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POTENTIAL RIDERS SAY TO CLAIM DIBS TO THE FRONT SE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URLING, WHAT DO PLAYERS DO TO THE ICE TO MAKE THE STONES CUR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5 FILM DID MELISSA MCCARTHY PLAY A SECRET AG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295280" y="4952880"/>
            <a:ext cx="6629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33520" y="990720"/>
            <a:ext cx="5486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MUSIC SYMBOL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music_flat_sign.jpg"/>
          <p:cNvPicPr/>
          <p:nvPr/>
        </p:nvPicPr>
        <p:blipFill>
          <a:blip r:embed="rId1"/>
          <a:stretch/>
        </p:blipFill>
        <p:spPr>
          <a:xfrm>
            <a:off x="6400800" y="533520"/>
            <a:ext cx="2095560" cy="406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952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1 FILM DID JULIA ROBERTS PLAY TINKER B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OTHING COMPANY OWNS BANANA REPUBLIC AND OLD NAV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95360" y="49528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COIN PICTURES A TORCH, OLIVE BRANCH, AND OAK BRANCH ON ITS RE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L  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MAN CATHOLIC PRAYER FORMS THE BASIS FOR THE HOLY RO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0" y="4876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TBALL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NANCIAL TERM FOR A CONTRACT WHICH GIVES ONE THE RIGHT TO BUY AN ASSET LATER FOR A GIVEN PR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POTENTIAL RIDERS SAY TO CLAIM DIBS TO THE FRONT SE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URLING, WHAT DO PLAYERS DO TO THE ICE TO MAKE THE STONES CUR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5 FILM DID MELISSA MCCARTHY PLAY A SECRET AG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160" y="1104840"/>
            <a:ext cx="510516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MUSIC SYMBOL M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music_flat_sign.jpg"/>
          <p:cNvPicPr/>
          <p:nvPr/>
        </p:nvPicPr>
        <p:blipFill>
          <a:blip r:embed="rId1"/>
          <a:stretch/>
        </p:blipFill>
        <p:spPr>
          <a:xfrm>
            <a:off x="6400800" y="533520"/>
            <a:ext cx="209556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1 FILM DID JULIA ROBERTS PLAY TINKER B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COIN PICTURES A TORCH, OLIVE BRANCH, AND OAK BRANCH ON ITS RE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6T13:48:41Z</dcterms:created>
  <dc:creator>Jennifer Budzinski</dc:creator>
  <dc:description/>
  <dc:language>en-US</dc:language>
  <cp:lastModifiedBy>Erich Friedman</cp:lastModifiedBy>
  <dcterms:modified xsi:type="dcterms:W3CDTF">2021-12-18T13:11:42Z</dcterms:modified>
  <cp:revision>441</cp:revision>
  <dc:subject/>
  <dc:title>Slide 1</dc:title>
</cp:coreProperties>
</file>