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B1E-B0FC-47D2-BE74-523F07CE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BE3-A114-4736-8D8F-91DF8AD3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9FE-A7BC-41FD-B6C8-D921A889F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BA2-A426-4E49-A4DC-C09C072E1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4C1-8800-4C7E-95BF-59231AC5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9E6-AA43-488F-9587-2681EED7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2CAE-B466-4164-82D6-B4C98D9F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94C5-A100-4B00-AE9A-3EC9E263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78CF-484A-497D-977B-B0FBEB8C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07A-995A-48B5-8A03-4F15FF20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D2E-E553-4425-9C45-027B7B29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B8A2-14DF-4A73-9FC3-71A1BA9B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68D-E27C-4D79-AED2-2FF36B9D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8FA1-51C0-452D-B334-4A283230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5E6-92F8-4774-A5C6-5A68EDC9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B6B7-681C-4D2E-A6D4-470C68F9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E2EB-7485-4A42-9B79-E0539078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0C51-A3AE-4118-9F45-B8831B4D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FFC-52FB-47C8-9586-B7A8D80B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47DF-C399-4A71-8C66-86F9F220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D924-07B0-48AF-AE2E-6ECCB79C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544-4BF2-4E6F-9CBE-4A240EAA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BEBD-F948-4419-872F-F20F2537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2360" y="761760"/>
            <a:ext cx="809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GINNIFER GOODWIN PLAY ON TV'S "ONCE UPON A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PAQ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762120"/>
            <a:ext cx="7296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, MAKING HER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NGEST OSCAR WINNER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EMININE FRENCH WORD FOR "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603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YNAGOGUE IN ORANGE CITY, OR THE FONT USED IN ALL THESE 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09680" y="762120"/>
            <a:ext cx="65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IONESS IN THE FILM "BORN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RORA  BORE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OF "THE NORTHERN L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ENTED TEA IN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79040" y="76212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, MAKING HER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NGEST OSCAR WINNER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IN THE MEXICAN STATE OF YUCAT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GINNIFER GOODWIN PLAY ON TV'S "ONCE UPON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3040" y="4267080"/>
            <a:ext cx="639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ISNEY  PRIN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EMININE FRENCH WORD FOR "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YNAGOGUE IN ORANGE CITY, OR THE FONT USED IN ALL THESE 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IONESS IN THE FILM "BORN F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OF "THE NORTHERN L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ENTED TEA IN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IN THE MEXICAN STATE OF YUCAT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2-18T13:14:51Z</dcterms:modified>
  <cp:revision>438</cp:revision>
  <dc:subject/>
  <dc:title>Slide 1</dc:title>
</cp:coreProperties>
</file>