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5B24-37D9-4EED-BE4D-9BC8241CF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7B3B-B763-4C3B-A0EA-127DE5187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747A-F629-4998-B7F1-87730558A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0560-078B-4922-9F43-231C9475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648F-6F14-4722-9186-D945EC940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084C-52CC-404F-89F1-2A573457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F937-3E93-4CCB-8537-F1A4EB686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F9AE-5FA8-4751-9DE9-C20ABD119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7B42-B7A3-4A64-A5D6-375B2207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AED7-6EEF-4205-A9AA-09B6C06B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3346-8B8E-4EFD-8261-D92E19CC3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1186-9351-4909-8938-BABE8ABD8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7B2A-476F-4E69-A8E4-F8D7138E3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C390-94CB-4292-92B6-C1480E15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2A55-91CF-4214-8164-D5CB557A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74F8-AF2B-499C-83D3-37F4E442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ACBA-C131-487F-AC87-DD8478090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33B6-1FCE-46A0-AA63-11058F859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80A5-6FA9-44D8-868D-CFF92A67F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8F84-192E-4EDC-892C-6356EB949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1DBD-26CE-4F17-8C95-1D998432D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307D-58DD-4E6C-8E4D-A1321E61A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17AA-7179-42AF-B957-3E4389E07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2360" y="761760"/>
            <a:ext cx="809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GINNIFER GOODWIN PLAY ON TV'S "ONCE UPON A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PAQ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23760" y="762120"/>
            <a:ext cx="7296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, MAKING HER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UNGEST OSCAR WINNER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57520" y="4876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EMININE FRENCH WORD FOR "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603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ELIZABETH WA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YNAGOGUE IN ORANGE CITY, OR THE FONT USED IN ALL THESE 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09680" y="762120"/>
            <a:ext cx="65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IONESS IN THE FILM "BORN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RORA  BORE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OF "THE NORTHERN L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ENTED TEA IN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79040" y="762120"/>
            <a:ext cx="758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FOR "THE PIANO", MAKING HER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UNGEST OSCAR WINNER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IN THE MEXICAN STATE OF YUCAT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GINNIFER GOODWIN PLAY ON TV'S "ONCE UPON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3040" y="4267080"/>
            <a:ext cx="6396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ISNEY  PRIN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EMININE FRENCH WORD FOR "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ENSIVE NICKNAME DOES DONALD TRUMP HAVE FOR ELIZABETH WAR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YNAGOGUE IN ORANGE CITY, OR THE FONT USED IN ALL THESE 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IONESS IN THE FILM "BORN F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OF "THE NORTHERN L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CENTED TEA IN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IN THE MEXICAN STATE OF YUCAT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2-18T13:14:51Z</dcterms:modified>
  <cp:revision>438</cp:revision>
  <dc:subject/>
  <dc:title>Slide 1</dc:title>
</cp:coreProperties>
</file>