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291E-8EE4-451E-B9BC-ADEED72F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A25C-2688-4E98-B475-FA31E7873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F64-A9EB-4BDF-98D8-79DD64DAD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4A31D-7C4B-4951-A291-0D78414C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592-836A-4416-9B73-6EA7D8431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9535-9A01-45FE-A9B3-82AB44518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5DAF-9961-4045-B589-92A5D8F4E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2615-6093-4836-BA24-84E01420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E76-BEFC-4D06-AE82-7E4C280F1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AC7B-70D6-4814-ABA6-9718C44A0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0CE9-20EC-430F-9E71-7D63B00E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3AAD-5D5D-4D52-9984-A73B4B9C8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1CDC-CDA4-451F-8B47-AB1A1022B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F2A5-2A12-49BB-BA9A-DEA4EB2F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1EA5-894A-484C-9454-D7FCB433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B8E7-9AFF-4925-B28D-E75F6EFF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B845-3D6F-4FC0-A386-C1E502BEA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029F-2D01-47DB-85F9-715473E3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D33-32B9-4535-BC72-BE3B5760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3DD0-C068-44FA-9AFF-6C75B666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14D-A979-4147-A040-B15A3E01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5362-0641-4FEC-80D5-3584A728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5F7-1E35-4B7F-A8CE-710E51FB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9640" y="761760"/>
            <a:ext cx="698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0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DID ALEX TREBEK HOST 1984-20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RED ALEC BALDWIN AS A VISUALLY IMPAIRED MAN AND DEMI MOORE AS A WOMAN WHO READS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762120"/>
            <a:ext cx="70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USE A UNIVERSAL REMOTE TO CONTROL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AME FOR THE SHAPE OF A SLIN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1280" y="762120"/>
            <a:ext cx="8460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 IS ONLY 3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"STAY IN BUT DON'T B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3880" y="762120"/>
            <a:ext cx="789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VALLEY OF THE FALLEN", THE FORMER BURIAL SITE OF FRANCISCO FRANCO, FEATURES A 500 F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1640" y="762120"/>
            <a:ext cx="828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DID ALEX TREBEK HOST 1984-20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ANCE)  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30040" y="763560"/>
            <a:ext cx="8682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5 MEMBERS OF NSYNC HAS A LAST NAME THAT MATCHES HIS MUSICAL RANGE.  WHAT IS THA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ASTERN)  STANDARD  (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9240" y="762120"/>
            <a:ext cx="6905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6240" y="4876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DOUB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STARRED ALEC BALDWIN AS A VISUALLY IMPAIRED MAN AND DEMI MOORE AS A WOMAN WHO READS TO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2640" y="762120"/>
            <a:ext cx="75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FILM DOES ADAM SANDLER USE A UNIVERSAL REMOTE TO CONTROL HIS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AME FOR THE SHAPE OF A SLIN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7920" y="723960"/>
            <a:ext cx="8588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ESSAGE ON A YELLOW DIAMOND TRAFFIC SIGN IN NATIONAL USE THAT    IS ONLY 3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KER TERM FOR "STAY IN BUT DON'T 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VALLEY OF THE FALLEN", THE FORMER BURIAL SITE OF FRANCISCO FRANCO, FEATURES A 500 F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5 MEMBERS OF NSYNC HAS A LAST NAME THAT MATCHES HIS MUSICAL RANGE.  WHAT IS THAT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1-12-18T13:20:38Z</dcterms:modified>
  <cp:revision>365</cp:revision>
  <dc:subject/>
  <dc:title>Slide 1</dc:title>
</cp:coreProperties>
</file>