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6A21-CCF0-47BC-8502-0DE3F2FC2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3E66-CF3B-4E61-9CC5-AF1235D6D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1897-F464-4C23-B8C1-C32718EE6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3E4F-0F81-4985-8BAB-7F39FC864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C83B-5DCD-4048-A667-9BC1F48E7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9CC0-29D4-4EEE-893C-FF39E395E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7111-65EB-4469-9AC2-36DF91327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393D-ED4C-43A2-96E2-02821DA05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3121-2ED3-4F4E-B54B-FD13C555E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C266-19D3-4974-AC77-E5ED608FB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5819-00E2-4422-A1C4-345EABEF6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DE66-56A8-4A85-89D6-667671F5C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3608-CB77-4749-8E4A-F872988D3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576F-4246-4770-86AE-FABADC228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C08A-9510-496E-98AD-A38FA285E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CB4F-E6EE-447E-B50C-3BD628524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EB7D-A0A4-49A6-B7BE-8A9A0BFF9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BB03-C29C-4D71-B794-73F52409B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DB47-BEE6-4494-9A98-4C9156F34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C8A7-A4AA-407B-BE3A-D842814DD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6D81-2A7A-4C3D-B34E-95A720A56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77AA-C50C-4E75-9636-202FB0FF7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59E0-9947-4E8D-B660-0E556DF2B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9640" y="761760"/>
            <a:ext cx="698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E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OPARD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15880" y="762120"/>
            <a:ext cx="8110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SHOW DID ALEX TREBEK HOST 1984-20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STARRED ALEC BALDWIN AS A VISUALLY IMPAIRED MAN AND DEMI MOORE AS A WOMAN WHO READS TO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42920" y="762120"/>
            <a:ext cx="705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FILM DOES ADAM SANDLER USE A UNIVERSAL REMOTE TO CONTROL HIS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362320" y="4876920"/>
            <a:ext cx="4419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THEMATICAL NAME FOR THE SHAPE OF A SLIN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1280" y="762120"/>
            <a:ext cx="8460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ESSAGE ON A YELLOW DIAMOND TRAFFIC SIGN IN NATIONAL USE THAT    IS ONLY 3 LETTER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OKER TERM FOR "STAY IN BUT DON'T B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23880" y="762120"/>
            <a:ext cx="7894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VALLEY OF THE FALLEN", THE FORMER BURIAL SITE OF FRANCISCO FRANCO, FEATURES A 500 FT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1640" y="762120"/>
            <a:ext cx="828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SHOW DID ALEX TREBEK HOST 1984-202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ANCE)  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30040" y="763560"/>
            <a:ext cx="8682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5 MEMBERS OF NSYNC HAS A LAST NAME THAT MATCHES HIS MUSICAL RANGE.  WHAT IS THAT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ASTERN)  STANDARD  (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19240" y="762120"/>
            <a:ext cx="6905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E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76240" y="487692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DOUBL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33440" y="761760"/>
            <a:ext cx="82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STARRED ALEC BALDWIN AS A VISUALLY IMPAIRED MAN AND DEMI MOORE AS A WOMAN WHO READS TO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82640" y="762120"/>
            <a:ext cx="757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FILM DOES ADAM SANDLER USE A UNIVERSAL REMOTE TO CONTROL HIS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THEMATICAL NAME FOR THE SHAPE OF A SLINK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77920" y="723960"/>
            <a:ext cx="8588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ESSAGE ON A YELLOW DIAMOND TRAFFIC SIGN IN NATIONAL USE THAT    IS ONLY 3 LETTER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OKER TERM FOR "STAY IN BUT DON'T B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20640" y="761760"/>
            <a:ext cx="7902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VALLEY OF THE FALLEN", THE FORMER BURIAL SITE OF FRANCISCO FRANCO, FEATURES A 500 FT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84040" y="762120"/>
            <a:ext cx="857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5 MEMBERS OF NSYNC HAS A LAST NAME THAT MATCHES HIS MUSICAL RANGE.  WHAT IS THAT LA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1:16:21Z</dcterms:created>
  <dc:creator>Jennifer Budzinski</dc:creator>
  <dc:description/>
  <dc:language>en-US</dc:language>
  <cp:lastModifiedBy>Erich Friedman</cp:lastModifiedBy>
  <dcterms:modified xsi:type="dcterms:W3CDTF">2021-12-18T13:20:38Z</dcterms:modified>
  <cp:revision>365</cp:revision>
  <dc:subject/>
  <dc:title>Slide 1</dc:title>
</cp:coreProperties>
</file>