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A7A6-DC75-431F-92D9-AE3DB0F1D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C962-5CCF-4174-ADA5-F670D7693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E53F-AFF3-4A6B-8945-7F9B4CFF3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83B1-D0DF-41B2-8696-4E44C8D37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B1FB-847F-46D4-9F4C-90CDA23EC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D880-E05A-47B5-A066-C69244F3B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5E63-086C-4B8E-BD0E-58DFD0B16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7E89-C925-43AF-81FF-E5890EA3C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4036-8806-41C6-A152-E9F17238D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F78E-50C4-44F7-87AD-19597DF95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2E7E-C825-4291-940E-8A4D3782D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885C-7AA4-4B64-A04B-052509EA2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5453-ACD8-41AF-BF16-0DC5F9BFC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84CC-37C8-41F3-A87F-AE525827A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F7BF-5CEC-494A-B051-EE8175FB9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C640-6155-44C6-A168-A6F5F42FA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42EE-2DF8-4440-B638-286538F5A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7E3F-D73C-46E3-B903-9D727A539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A1EA-AE4D-4B0E-81F7-3C5F39645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DA3C-433B-4BAA-A0AA-5EB75AEA0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2159-92D8-4607-A64C-11DCC7159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5F69-1265-4A4B-888B-8497814E7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FD71-0372-4E16-BBFE-6797C796E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"SWEET HOME ALABAM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SYN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Y BAND WAS JUSTIN TIMBERLAKE A MEMBER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SY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990720" y="838080"/>
            <a:ext cx="716256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DETECTIVE TV SHOW STARRED JAMES RODAY, DULÉ HILL, AND CORBIN BERNS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Y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380880" y="68580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MYTHOLOGY, WHAT RIVER SEPARATES THE EARTH FROM THE UNDER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YN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04920" y="685800"/>
            <a:ext cx="85341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ORLANDO-AREA BUS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RR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143000" y="685800"/>
            <a:ext cx="6858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GRANT GUM RESIN WAS ONE OF THE GIFTS OF THE MAG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ZY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647640" y="685800"/>
            <a:ext cx="78487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STRONOMICAL TERM FOR AN ALIGNMENT OF 3 CELESTIAL OBJECTS (SUCH AS THE SUN, EARTH, AND ANOTHER PLANET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3236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HYN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66720" y="762120"/>
            <a:ext cx="7810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EED OF CAT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616120" y="1920960"/>
            <a:ext cx="391176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Y BAND WAS JUSTIN TIMBERLAKE A MEMBER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YMP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62120" y="762120"/>
            <a:ext cx="76197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RYADS, MERMAIDS, MUSES, SIRENS, AND PLEIADES ARE ALL EXAMPLE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YNYRD  SKYNY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"SWEET HOME ALABAM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676520" y="4419720"/>
            <a:ext cx="5790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NLY  VOWEL  THEY  CONTAIN  IS  "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4124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DETECTIVE TV SHOW STARRED JAMES RODAY, DULÉ HILL, AND CORBIN BERNS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MYTHOLOGY, WHAT RIVER SEPARATES THE EARTH FROM THE UNDER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ORLANDO-AREA BUS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GRANT GUM RESIN WAS ONE OF THE GIFTS OF THE MAG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STRONOMICAL TERM FOR AN ALIGNMENT OF 3 CELESTIAL OBJECTS (SUCH AS THE SUN, EARTH, AND ANOTHER PLANET)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EED OF CAT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616120" y="2057400"/>
            <a:ext cx="39117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RYADS, MERMAIDS, MUSES, SIRENS, AND PLEIADES ARE ALL EXAMPLES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1-12-26T16:54:20Z</dcterms:modified>
  <cp:revision>421</cp:revision>
  <dc:subject/>
  <dc:title>Slide 1</dc:title>
</cp:coreProperties>
</file>