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E539-B078-43BD-BA45-EF10041F6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F7E5-89DC-4A21-94ED-968F13BCF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5BA4-E330-4B45-8A81-ADC3E3E0C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08FD-A1F3-4756-AA72-922EE8C3C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E6A4-6795-40D0-B0BA-463AD3479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776CB-D284-4237-A93B-2DB8A8ECE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7576-EBC9-4854-9268-59EC27B5D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C8E1-1E9E-43E7-A02E-A657CEE07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6EFB-315B-47C2-873D-1766CB6A3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F2FD-9EA5-4A07-BE99-D4D15709C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BBE97-5055-4ADC-AC72-CD3C177C9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A9D3-F105-47A0-87CE-6D31D79DB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2AA9-7C4B-4DAC-B74C-26C4E02DB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C94F-C8C0-4D16-A33B-ED5BC2043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3C98-0C1A-4CED-B075-DE5BB50E5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514B-C5D3-4FCF-8045-A9D79CA9F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7A83-2882-490C-AC08-49CD4975F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4EB32-8E31-4A9F-9FDA-DFA4FEDFD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E887-C7B7-4F4C-B24C-BDA357FF6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0926-16CD-4F57-A8C9-9952C622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DCEF-7DF2-42D7-826A-3E1E57311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FB9C-8162-4FCE-90AD-40E8DC99E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174F-4115-42DB-886B-4C93CC375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SWEET HOME ALABAM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SY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Y BAND WAS JUSTIN TIMBERLAKE A MEMBER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90720" y="838080"/>
            <a:ext cx="71625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DETECTIVE TV SHOW STARRED JAMES RODAY, DULÉ HILL, AND CORBIN BERNS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Y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80880" y="68580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RIVER SEPARATES THE EARTH FROM THE UNDER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04920" y="685800"/>
            <a:ext cx="85341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RLANDO-AREA BUS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4300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RR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1143000" y="68580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GRANT GUM RESIN WAS ONE OF THE GIFTS OF THE MAG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ZY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647640" y="685800"/>
            <a:ext cx="7848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STRONOMICAL TERM FOR AN ALIGNMENT OF 3 CELESTIAL OBJECTS (SUCH AS THE SUN, EARTH, AND ANOTHER PLANET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3236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HY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66720" y="762120"/>
            <a:ext cx="781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ED OF CAT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616120" y="1920960"/>
            <a:ext cx="391176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Y BAND WAS JUSTIN TIMBERLAKE A MEMBER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YM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62120" y="762120"/>
            <a:ext cx="76197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YADS, MERMAIDS, MUSES, SIRENS, AND PLEIADES ARE ALL EXAMPL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YRD  SKYNY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"SWEET HOME ALABAM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1676520" y="4419720"/>
            <a:ext cx="5790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VOWEL  THEY  CONTAIN  IS  "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4124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DETECTIVE TV SHOW STARRED JAMES RODAY, DULÉ HILL, AND CORBIN BERNS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GREEK MYTHOLOGY, WHAT RIVER SEPARATES THE EARTH FROM THE UNDER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ORLANDO-AREA BUS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GRANT GUM RESIN WAS ONE OF THE GIFTS OF THE MAG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STRONOMICAL TERM FOR AN ALIGNMENT OF 3 CELESTIAL OBJECTS (SUCH AS THE SUN, EARTH, AND ANOTHER PLANET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EED OF CAT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616120" y="2057400"/>
            <a:ext cx="39117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YADS, MERMAIDS, MUSES, SIRENS, AND PLEIADES ARE ALL EXAMPL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12-26T16:54:20Z</dcterms:modified>
  <cp:revision>421</cp:revision>
  <dc:subject/>
  <dc:title>Slide 1</dc:title>
</cp:coreProperties>
</file>