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E70-CFD4-46FA-B3F9-EA585CE5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20DD-2269-45E1-A786-4BE3EB19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9314-437C-45C3-94F1-9542A1E3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2D5-0076-492D-8E3C-EA16AFD7B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3F9-93E7-46CC-A7BB-82F9F0C5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0693-05B9-4695-A368-BD9B11F0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B9BC-7D8F-4C97-B3B4-C5AB6C55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4E5-0DE5-4164-9998-F3E4922E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E13-7997-40AE-A013-D25DACC4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4D6A-014F-425F-935A-D1C4CD38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FED-CD8D-46CC-9005-BD3675B29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1B25-A6B4-48D6-A5BA-173EA2F3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B2E-7874-478C-A847-581613AF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92C-B452-4FE6-B378-C74BA8C4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B10-2FC9-45D9-83CA-6873E615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F8C-8657-4B7A-AA3B-27501D78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D33-78BD-4907-8E06-A0E9E680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5A1F-C877-4CF4-926A-D794B95A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D20-5787-4ED7-8EE5-A59BE2F2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5FE-85CD-491B-9320-0E437207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CF5A-359C-47F0-B85A-9F984CF7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8E5-3AC9-4A6C-AC83-9F36AFEC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155C-7F27-4D9E-8E94-3CF79E7C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NUMBE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LB GAMES ARE THERE IN THE REGULAR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POINTS  (WILT  CHAMBERLA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BA SCORING RECORD FOR ONE PLAYER IN A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HOW MANY PLAYERS FROM ONE TEAM ARE ALLOWED ON THE FIELD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609480" y="4343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(YUGOSLAVIA,  WEST  GERMANY  &amp;  SOVIET  UN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80028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VE THE OLYMPICS BEEN HOSTED BY A COUNTRY THAT NO LONGER EX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95480" y="80316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ALLS ARE ON A SNOOKER TABLE AT THE START OF A MA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3  (MICHAEL  PHELP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OLYMPIC GOLD MEDALS THAT ONE PERSON HAS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66560" y="762120"/>
            <a:ext cx="8210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IE ROBINSON'S JERSEY NUM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SEAHAWKS WIN THE SUPER BOWL, THE KINGS WIN THE STANLEY CUP, AND THE GIANTS WIN THE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BA SCORING RECORD FOR ONE PLAYER IN A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THE NEAREST MILE, HOW MANY MILES ARE THERE IN A MARATH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LB GAMES ARE THERE IN THE REGULAR SEAS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343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TAL  OF  THE  DIGITS  EQUALS  THE  QUESTION 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HOW MANY PLAYERS FROM ONE TEAM ARE ALLOWED ON THE FIELD AT ANY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VE THE OLYMPICS BEEN HOSTED BY A COUNTRY THAT NO LONGER EX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ALLS ARE ON A SNOOKER TABLE AT THE START OF A MAT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OLYMPIC GOLD MEDALS THAT ONE PERSON HAS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IE ROBINSON'S JERSEY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SEAHAWKS WIN THE SUPER BOWL, THE KINGS WIN THE STANLEY CUP, AND THE GIANTS WIN THE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THE NEAREST MILE, HOW MANY MILES ARE THERE IN A MARATH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1-12-26T16:54:12Z</dcterms:modified>
  <cp:revision>356</cp:revision>
  <dc:subject/>
  <dc:title>Slide 1</dc:title>
</cp:coreProperties>
</file>