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4819-BB22-4EA9-9E48-32CFA7EF0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2660-225A-4F62-9EF4-C95EDB8CB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C1FA-6A53-47E6-A524-CB0C6BAA3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E637-4979-4272-803D-D36AFFD82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102D-CF76-44E8-AFC3-78D7A6127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C175-1BC5-4C8B-898A-BE820DB82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6553-719E-4DAF-B88D-BB7494CC1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DE11-D0CE-470B-AC5E-70D08B88B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07F0-3877-49D1-9BB4-53DB5DABF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5B47-287A-4E4F-A75E-CAB36B30B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ED4D-1C6E-474D-A3FD-658C7A544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CECD-6483-44C7-9FC1-6EDAF1E13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D18A-FD2B-4F26-BEDF-40B41C528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605A7-C138-47ED-8228-4BAC8F2EE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DC2C-8124-46A3-9799-76D5F02BD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162C-4254-489D-94B4-DC9428608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25E2-9093-4D57-A3AE-C8BFBBC75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0F87-B19A-4E30-ADCF-4B588B15E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852A-B6B9-4EDE-812D-54B754BB3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21A6-1236-4D99-AAF6-A99B758FE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B296-BA53-4A8C-B327-A44521324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3C12-3641-465B-966E-F3844CB79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B49F-79B2-4EB2-9E59-3991E82CF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9903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ORTS NUMBER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09720" y="761760"/>
            <a:ext cx="732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LB GAMES ARE THERE IN THE REGULAR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0  POINTS  (WILT  CHAMBERLA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66680" y="762120"/>
            <a:ext cx="7010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BA SCORING RECORD FOR ONE PLAYER IN A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FL, HOW MANY PLAYERS FROM ONE TEAM ARE ALLOWED ON THE FIELD AT ANY ON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609480" y="4343400"/>
            <a:ext cx="7925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  (YUGOSLAVIA,  WEST  GERMANY  &amp;  SOVIET  UNI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52560" y="800280"/>
            <a:ext cx="7238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HAVE THE OLYMPICS BEEN HOSTED BY A COUNTRY THAT NO LONGER EXI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95480" y="803160"/>
            <a:ext cx="6953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ALLS ARE ON A SNOOKER TABLE AT THE START OF A MAT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3  (MICHAEL  PHELP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F OLYMPIC GOLD MEDALS THAT ONE PERSON HAS W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66560" y="762120"/>
            <a:ext cx="8210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ACKIE ROBINSON'S JERSEY NUMB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24000" y="762120"/>
            <a:ext cx="849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THE SEAHAWKS WIN THE SUPER BOWL, THE KINGS WIN THE STANLEY CUP, AND THE GIANTS WIN THE WORLD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98640" y="762120"/>
            <a:ext cx="7145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BA SCORING RECORD FOR ONE PLAYER IN A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34920" y="762120"/>
            <a:ext cx="727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THE NEAREST MILE, HOW MANY MILES ARE THERE IN A MARATH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LB GAMES ARE THERE IN THE REGULAR SEAS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43434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OTAL  OF  THE  DIGITS  EQUALS  THE  QUESTION  N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FL, HOW MANY PLAYERS FROM ONE TEAM ARE ALLOWED ON THE FIELD AT ANY ON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1440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HAVE THE OLYMPICS BEEN HOSTED BY A COUNTRY THAT NO LONGER EXI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ALLS ARE ON A SNOOKER TABLE AT THE START OF A MAT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F OLYMPIC GOLD MEDALS THAT ONE PERSON HAS W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9280" y="762120"/>
            <a:ext cx="82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ACKIE ROBINSON'S JERSEY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14200" y="761760"/>
            <a:ext cx="8715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THE SEAHAWKS WIN THE SUPER BOWL, THE KINGS WIN THE STANLEY CUP, AND THE GIANTS WIN THE WORLD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THE NEAREST MILE, HOW MANY MILES ARE THERE IN A MARATH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1-12-26T16:54:12Z</dcterms:modified>
  <cp:revision>356</cp:revision>
  <dc:subject/>
  <dc:title>Slide 1</dc:title>
</cp:coreProperties>
</file>