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E29A-3787-492B-AC15-67865B9A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4296-4263-49C9-AF46-41AB839FA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F34C-605E-4D34-AF27-C6E5CE380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47A9-8F64-4464-BD54-605433D55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A430-B3D9-4971-8C6F-C88C11EA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2770-69E5-4933-886F-AF4B2907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35E6-CF1D-43FA-BB18-0F8AE4CE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938B-F998-49C2-8522-A9E556905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7E5D-39CC-4F82-844C-E29AB80C9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1CC3-D39A-4648-8CE1-93EF12AA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9DEB-382E-4950-B12A-39583CA8E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5A0-FAE5-4F42-9404-150932595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639C-1797-4770-ADC1-493A0D499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0E3E-4CA2-40E5-9ABE-EDF0EB875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C774-0B54-44A1-A31B-C28998466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9481-D5CB-47A3-A8BB-C431C8EC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AA6C-EF81-435E-B938-D275A3719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21C7-C977-4FBC-B8D9-3414B875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25A9-0E3F-4E95-A968-E5E3631E7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9B7-0216-4EB1-92F3-2711C7DB8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AB2F-1034-4243-B036-2CB3BACB4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F64F-F6CF-4856-B73A-DDDFFE3E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A647-17A7-4061-9485-F7B4CACEE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5238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3840" y="761760"/>
            <a:ext cx="835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 DUTCH PAINTER THAT MICHAEL CONNELLY'S PROTAGONIST OF 21 DETECTIVE NOVELS IS NAMED F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9640" y="762120"/>
            <a:ext cx="7524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VID BOWIE SONG HAS A CHORUS THAT BEGINS "WALKS BESIDE ME, WALKS ON BY, GET ME TO THE CHURCH ON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2017 SPIDER-MA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2002, SEPT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S BEEN A NATIONAL DAY OF PRAYER AND REMEMBRANCE KNOWN AS WHAT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5 TV SERIES WAS ABOUT AN IMMORTAL MEDICAL EXAMINER HELPING THE NYPD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LLABORATED WITH BARBERA IN CREATING "TOM AND JERRY", "THE JETSONS", "THE FLINTSTONES", AND "SCOOBY-D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I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61920" y="762120"/>
            <a:ext cx="7220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RST BOOK OF SAMUEL, WHO IS DEFEATED BY DAVID IN COMB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MANO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3560"/>
            <a:ext cx="749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EIGNING ROYAL HOUSE OF RUSSIA 1613-19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5240" y="762120"/>
            <a:ext cx="755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VID BOWIE SONG HAS A CHORUS THAT BEGINS "WALKS BESIDE ME, WALKS ON BY, GET ME TO THE CHURCH ON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1520" y="762120"/>
            <a:ext cx="786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S LOOK MOST LIKE THE LETTER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IERONYMUS)  BO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11280" y="762120"/>
            <a:ext cx="792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 DUTCH PAINTER THAT MICHAEL CONNELLY'S PROTAGONIST OF 21 DETECTIVE NOVELS IS NAMED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IGINAL  AMAZON  TV  SHOW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2017 SPIDER-MA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39560" y="762120"/>
            <a:ext cx="826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2002, SEPT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S BEEN A NATIONAL DAY OF PRAYER AND REMEMBRANCE KNOWN AS WHAT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5 TV SERIES WAS ABOUT AN IMMORTAL MEDICAL EXAMINER HELPING THE NYPD SOLVE CR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LLABORATED WITH BARBERA IN CREATING "TOM AND JERRY", "THE JETSONS", "THE FLINTSTONES", AND "SCOOBY-D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7760" y="761760"/>
            <a:ext cx="718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RST BOOK OF SAMUEL, WHO IS DEFEATED BY DAVID IN COMB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EIGNING ROYAL HOUSE OF RUSSIA 1613-19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S LOOK MOST LIKE THE LETTER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2-18T13:30:14Z</dcterms:modified>
  <cp:revision>398</cp:revision>
  <dc:subject/>
  <dc:title>Slide 1</dc:title>
</cp:coreProperties>
</file>