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4D2A-EB17-474B-AB4B-1147B8A9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2E87-62E2-4ED4-8B29-3D2BFB7D8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E93D-07C0-410C-83D9-DB3791CE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9679-DBC9-457B-8D85-0B60471CE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307B-4C9A-434B-8FD0-C389E98F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1808-E86B-4BFE-A51E-690E3DAE9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1F41-7915-4D1F-A9AE-FE6DBDF00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30AF-5F57-4326-AF23-81BE35828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6BF-C174-4466-8518-3589577B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062A-1910-478B-B452-9D2074EE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D264-27E6-4B0B-9BE9-EE02B588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672A-DA2B-43E5-958D-E12CE1F9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23AA-68A7-4DFA-B887-692555F3E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CC315-D249-4769-BEF4-49980A4A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A81D-F6B8-4D93-AD9E-2D0E108B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56E6-2B47-468E-AF04-E1817E88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907A-E7C9-4844-B60C-BCAE5CC81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CE7D-63BC-41F3-BE9F-4389C86C6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102-F070-4F0F-AF6A-C42B9798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A6D9-D862-4A7A-B5A5-ECE1DBDC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AE74-2E03-44F3-AF73-CEDB0261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8E00-980D-428E-ACDE-CDF6836D0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DE86-9545-47D4-9794-0750C0B85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3840" y="761760"/>
            <a:ext cx="835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DUTCH PAINTER THAT MICHAEL CONNELLY'S PROTAGONIST OF 21 DETECTIVE NOVELS IS NAMED FO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9640" y="762120"/>
            <a:ext cx="7524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ONG HAS A CHORUS THAT BEGINS "WALKS BESIDE ME, WALKS ON BY, GET ME TO THE CHURCH ON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C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2002, SEPT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BEEN A NATIONAL DAY OF PRAYER AND REMEMBRANCE KNOWN AS WHAT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5 TV SERIES WAS ABOUT AN IMMORTAL MEDICAL EXAMINER HELPING THE NYPD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LLABORATED WITH BARBERA IN CREATING "TOM AND JERRY", "THE JETSONS", "THE FLINTSTONES", AND "SCOOBY-D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I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1920" y="762120"/>
            <a:ext cx="7220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RST BOOK OF SAMUEL, WHO IS DEFEATED BY DAVID IN COMB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MANOF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356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IGNING ROYAL HOUSE OF RUSSIA 1613-19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VID BOWIE SONG HAS A CHORUS THAT BEGINS "WALKS BESIDE ME, WALKS ON BY, GET ME TO THE CHURCH ON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1520" y="762120"/>
            <a:ext cx="786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S LOOK MOST LIKE THE LETTER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IERONYMUS)  BO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11280" y="762120"/>
            <a:ext cx="792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1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DUTCH PAINTER THAT MICHAEL CONNELLY'S PROTAGONIST OF 21 DETECTIVE NOVELS IS NAMED F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IGINAL  AMAZON  TV  SHOW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2017 SPIDER-MA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39560" y="762120"/>
            <a:ext cx="826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2002, SEPT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BEEN A NATIONAL DAY OF PRAYER AND REMEMBRANCE KNOWN AS WHAT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5 TV SERIES WAS ABOUT AN IMMORTAL MEDICAL EXAMINER HELPING THE NYPD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LLABORATED WITH BARBERA IN CREATING "TOM AND JERRY", "THE JETSONS", "THE FLINTSTONES", AND "SCOOBY-D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7760" y="761760"/>
            <a:ext cx="7188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RST BOOK OF SAMUEL, WHO IS DEFEATED BY DAVID IN COMB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EIGNING ROYAL HOUSE OF RUSSIA 1613-19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S LOOK MOST LIKE THE LETTER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2-18T13:30:14Z</dcterms:modified>
  <cp:revision>398</cp:revision>
  <dc:subject/>
  <dc:title>Slide 1</dc:title>
</cp:coreProperties>
</file>