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B15A-C3DF-4EA3-B7BC-879EE56B0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CFD1-0496-4CC9-9028-347B250EC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F788-6E5D-4E58-BB52-0B453D563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75D2-0146-4894-A1D7-D79AA9222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3264-6348-4F4B-8E48-5DD55B712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3DB4-B6DB-45F5-AC4D-B82F34D9E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C211-5AA0-420C-8253-8348176E5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8FED-B0BE-491C-B8F7-2AF8FBE68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1062-774B-4B98-8F61-E7797F7B1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2A6F-EB2F-4571-B4F7-7D3277ECD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EE1A-EE3E-48B3-BA5E-4FB51CBDA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2BF5-2130-4BB4-8D94-2C7267585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501F-7DBD-4683-A67D-65F8F24DC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68E2-9C59-4F41-8740-B9C6CA579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71DE-D876-4FAF-8ABB-5B1381ACF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52C1-FBBE-4933-947C-C35F078A9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98AE-8343-4B3D-AD7E-BC0E9FAA7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8138-D328-4C6A-988D-0D1AB048B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5A62-7DA8-4ED2-B88F-4638DE9FA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8684-4F59-4BF1-BB76-8D9B0E6DE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6256-BD07-460A-B0A4-ABA754133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EC09F-D081-4758-8D4F-E9486CA3A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C9D1-A87C-4861-A68E-672E63AAD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62040" y="761760"/>
            <a:ext cx="781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1 SAMUEL 17, GOLIATH WAS ARMED WITH ARMOR AND JAVELIN, BUT DAVID ONLY HAD A STAFF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DID JULIA ROBERTS PLAY TINKERB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765000" y="4844880"/>
            <a:ext cx="3810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33520" y="1219320"/>
            <a:ext cx="4267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TAROT C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715000" y="493560"/>
            <a:ext cx="2965320" cy="487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OLDEST CHILD IN THE COMIC STRIP "HI AND LO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66760" y="762120"/>
            <a:ext cx="8610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SHAKESPEARE'S "MACBETH", WHAT "IS SUCH SWEET SORR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3200" y="762120"/>
            <a:ext cx="8877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M HANKS FILM FEATURED A FOOT-OPERATED "WALKING PIA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00200" y="762120"/>
            <a:ext cx="774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KE VULCANS ON "STAR TREK", MANY LEECHES AND SKINKS HAVE GREEN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07880" y="762120"/>
            <a:ext cx="832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 RICE KRISPIES CARTOON MASCOTS WEARS A CHEF'S 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2520" y="762120"/>
            <a:ext cx="8238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DID JULIA ROBERTS PLAY TINKERB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THE 3 SMALLEST BONES IN THE HUMAN BODY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52280" y="762120"/>
            <a:ext cx="883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1 SAMUEL 17, GOLIATH WAS ARMED WITH ARMOR AND JAVELIN, BUT DAVID ONLY HAD A STAFF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533520" y="495288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SHO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160" y="1066320"/>
            <a:ext cx="4228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TAROT C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5715000" y="493560"/>
            <a:ext cx="2965320" cy="487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OLDEST CHILD IN THE COMIC STRIP "HI AND LO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9520" y="762120"/>
            <a:ext cx="872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SHAKESPEARE'S "MACBETH", WHAT "IS SUCH SWEET SORR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9160" y="761760"/>
            <a:ext cx="890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M HANKS FILM FEATURED A FOOT-OPERATED "WALKING PIAN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KE VULCANS ON "STAR TREK", MANY LEECHES AND SKINKS HAVE GREEN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5920" y="761760"/>
            <a:ext cx="8372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 RICE KRISPIES CARTOON MASCOTS WEARS A CHEF'S 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THE 3 SMALLEST BONES IN THE HUMAN BODY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24T17:59:31Z</dcterms:modified>
  <cp:revision>435</cp:revision>
  <dc:subject/>
  <dc:title>Slide 1</dc:title>
</cp:coreProperties>
</file>