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2017-37F6-4C33-9111-56F265576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EB9A-1DEA-4FC9-BB15-785F520BF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CA09-F6C7-4560-A453-061E4D6F7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7E36-AB32-46B1-931C-DC01C15FA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BA48-FF8A-4C72-9B6B-5F29B693D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B1EC-710A-4198-85B4-A61A35A66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63E1-D334-455D-B84D-E7A122E2F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C7D8-FC12-4295-B10F-CA4FBA981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212B-3146-426D-BEBA-6A36A2229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8B6C-FA29-45BF-B266-3E658AE57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D580-10C9-4CB0-8ABC-815059008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73DF-42BA-457F-A04C-5210EFF04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BDEE-7130-4D09-949B-1BF80CF67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269E-2156-4796-8D3C-7C97CDA2E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6272-0F7B-4B82-937B-360E1C572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8559-D071-4B5A-8E1C-ADC01C160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7E2E-766E-44A3-932E-FA332EBC7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2A14-822C-4411-BF41-2F8B3B128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890E-9B71-4F18-91DC-B8F2617E5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4EA5-7A4A-418D-866E-1898E7938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4B13-9FA0-436C-87A4-B9B38C04E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3E06-321A-4409-A9D3-CC71236B3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E604-69B9-4650-A2BE-6FD30B06F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62040" y="761760"/>
            <a:ext cx="7819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1 SAMUEL 17, GOLIATH WAS ARMED WITH ARMOR AND JAVELIN, BUT DAVID ONLY HAD A STAFF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DID JULIA ROBERTS PLAY TINKERB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765000" y="4844880"/>
            <a:ext cx="3810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533520" y="1219320"/>
            <a:ext cx="4267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TAROT C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715000" y="493560"/>
            <a:ext cx="2965320" cy="487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OLDEST CHILD IN THE COMIC STRIP "HI AND LOI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66760" y="762120"/>
            <a:ext cx="8610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SHAKESPEARE'S "MACBETH", WHAT "IS SUCH SWEET SORR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33200" y="762120"/>
            <a:ext cx="8877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M HANKS FILM FEATURED A FOOT-OPERATED "WALKING PIAN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00200" y="762120"/>
            <a:ext cx="7743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KE VULCANS ON "STAR TREK", MANY LEECHES AND SKINKS HAVE GREEN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07880" y="762120"/>
            <a:ext cx="8328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NE OF THE RICE KRISPIES CARTOON MASCOTS WEARS A CHEF'S 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2520" y="762120"/>
            <a:ext cx="8238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DID JULIA ROBERTS PLAY TINKERB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38080" y="762120"/>
            <a:ext cx="7467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ARE THE 3 SMALLEST BONES IN THE HUMAN BODY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52280" y="762120"/>
            <a:ext cx="8839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1 SAMUEL 17, GOLIATH WAS ARMED WITH ARMOR AND JAVELIN, BUT DAVID ONLY HAD A STAFF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533520" y="495288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SHO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160" y="1066320"/>
            <a:ext cx="4228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TAROT C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5715000" y="493560"/>
            <a:ext cx="2965320" cy="487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OLDEST CHILD IN THE COMIC STRIP "HI AND LOI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09520" y="762120"/>
            <a:ext cx="872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SHAKESPEARE'S "MACBETH", WHAT "IS SUCH SWEET SORR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9160" y="761760"/>
            <a:ext cx="890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M HANKS FILM FEATURED A FOOT-OPERATED "WALKING PIAN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KE VULCANS ON "STAR TREK", MANY LEECHES AND SKINKS HAVE GREEN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5920" y="761760"/>
            <a:ext cx="8372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NE OF THE RICE KRISPIES CARTOON MASCOTS WEARS A CHEF'S 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200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ARE THE 3 SMALLEST BONES IN THE HUMAN BODY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1-24T17:59:31Z</dcterms:modified>
  <cp:revision>435</cp:revision>
  <dc:subject/>
  <dc:title>Slide 1</dc:title>
</cp:coreProperties>
</file>