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2ADA-7C6D-42B4-BA08-E8E2F16B0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1AFB-514D-4CF3-A0A9-F91669D55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7293-447B-4D45-BE49-61FFD654D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9A8E-DD88-490F-9655-C4BD9FE81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A3D0-71B5-4943-87BF-F9C52F3C8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2988-8F37-464A-8B63-AC65A8FFF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000A-2AB5-43AE-A709-F39BB4645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EB83-3F35-44E0-BBE6-BD065DA02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6F7F-B389-4B63-8172-64DB89336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262F-49F0-4A68-8B64-C1275B2DC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7226-74AC-4DDA-9B85-E1F464384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8BD8-CB6C-4F64-BD0C-3757FD393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820A-26C2-4D8E-9BF1-4C2266BB1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BCA6-A121-4368-9741-9A38EE769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6E18-9BB8-4553-924B-697C88AA0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43CA-6562-4631-B716-1CC2AB14A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671D-2A45-419B-8C7C-FCBAAD87B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319E-D687-4FF9-9E35-FB91095E5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AF25-DD0A-49CE-ACF2-365F1A625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796E-1F53-4B80-96C0-EB8FA675A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41DD-301B-46D7-8091-CBB6DE4D2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CEA5-743E-4591-A1C8-AE98E16F9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FC6D-C944-4A82-A2D4-49B4500A3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2396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VERNOR LITERALLY BLOCKED BLACK STUDENTS FROM ENTERING THE UNIVERSITY OF ALABAM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J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90440" y="762120"/>
            <a:ext cx="69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CHIEF JUSTICE OF THE U.S. SUPREME COU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HAN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352520" y="762120"/>
            <a:ext cx="6438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OVERNOR OF MASSACHUSETTS, BUT BETTER KNOWN FOR HIS SIGN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ARON  BU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KILLED ALEXANDER HAMILTON IN A DU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UEL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81160" y="7747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ING FATHER HAS A POPULAR BEER NAMED AFTER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Y  C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90720" y="762120"/>
            <a:ext cx="7162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NATOR, SPEAKER OF THE HOUSE, AND SECRETARY OF STATE WAS KNOWN AS "THE GREAT COMPROMIS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RACE  GREE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38280" y="762120"/>
            <a:ext cx="78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NEW-YORK TRIBU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POPULARIZED THE SLOGAN "GO WEST, YOUNG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JENNINGS  BRY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GUED FOR THE PROSECUTION IN THE "SCOPES MONKEY TRI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CHIEF JUSTICE OF THE U.S. SUPREME COU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OM  THURM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NATOR TURNED 100 WHILE IN OF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AL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04880" y="762120"/>
            <a:ext cx="7734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VERNOR LITERALLY BLOCKED BLACK STUDENTS FROM ENTERING THE UNIVERSITY OF ALABA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19000" y="4343400"/>
            <a:ext cx="7506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N  ELECTORAL  VOTES  BUT  NEVER  BECAME  PRESID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09760" y="761760"/>
            <a:ext cx="6324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OVERNOR OF MASSACHUSETTS, BUT BETTER KNOWN FOR HIS SIGNA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KILLED ALEXANDER HAMILTON IN A DU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ING FATHER HAS A POPULAR BEER NAMED AFTER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NATOR, SPEAKER OF THE HOUSE, AND SECRETARY OF STATE WAS KNOWN AS "THE GREAT COMPROMIS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NEW-YORK TRIBU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POPULARIZED THE SLOGAN "GO WEST, YOUNG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GUED FOR THE PROSECUTION IN THE "SCOPES MONKEY TRI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NATOR TURNED 100 WHILE IN OFF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2-01-24T18:01:08Z</dcterms:modified>
  <cp:revision>467</cp:revision>
  <dc:subject/>
  <dc:title>Slide 1</dc:title>
</cp:coreProperties>
</file>