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E12D-7D86-40F9-8C28-AA8809AE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3FA6-4A90-4687-931B-E0018661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62C-78EF-4A50-89F4-44F88354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DC9-083D-4965-8C1D-921B0522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D459-8959-40EC-9EEC-59461105A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7E4B-06F6-4BAE-9171-DB7C1DD02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5FA-CDA9-49E9-BDB9-C44A2276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5C2-92C4-4213-B3D5-95D124D7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22B-01A4-4C7A-9A81-30D2B188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0E27-1089-4EA6-B7C5-3CA1DAA7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96AD-3DC4-44C5-963E-AE13A0CA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671E-0F48-449C-8CDE-0628F990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901-C92C-4EE4-8235-9235A221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343-A6FE-4026-9EA6-384AB1B1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816-22D7-4A34-B8CD-6C0B9DA8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344-0626-411E-A06F-D96B3E5C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9A07-A7F9-4DE9-B4B9-80C6FDA5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C9AC-A5E3-4778-A7F6-F00303C2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1F6B-8472-424B-AE22-698AAD92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ACA-BC7B-4DA3-8287-B3980CC2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B3DF-E64B-43CC-B1CE-9A477892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BE2F-B1B9-47F6-AF0E-93DD7564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D4D-DF49-46B3-B51A-7AC6C599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VERNOR LITERALLY BLOCKED BLACK STUDENTS FROM ENTERING THE UNIVERSITY OF ALA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52520" y="762120"/>
            <a:ext cx="64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VERNOR OF MASSACHUSETTS, BUT BETTER KNOWN FOR HIS SIG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KILLED ALEXANDER HAMILTON IN A D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81160" y="7747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HAS A POPULAR BE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, SPEAKER OF THE HOUSE, AND SECRETARY OF STATE WAS KNOWN AS "THE GREAT COMPROMI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ACE  GREE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-YORK TRIBU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POPULARIZED THE SLOGAN "GO WEST, YOUNG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JENNINGS  B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GUED FOR THE PROSECUTION IN THE "SCOPES MONKEY 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M  THUR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TURNED 100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VERNOR LITERALLY BLOCKED BLACK STUDENTS FROM ENTERING THE UNIVERSITY OF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19000" y="4343400"/>
            <a:ext cx="750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ELECTORAL  VOTES  BUT  NEVER  BECAME 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VERNOR OF MASSACHUSETTS, BUT BETTER KNOWN FOR HIS SIGN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KILLED ALEXANDER HAMILTON IN A D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HAS A POPULAR BE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, SPEAKER OF THE HOUSE, AND SECRETARY OF STATE WAS KNOWN AS "THE GREAT COMPROMI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-YORK TRIBU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POPULARIZED THE SLOGAN "GO WEST, YOUNG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GUED FOR THE PROSECUTION IN THE "SCOPES MONKEY 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TURNED 100 WHILE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1-24T18:01:08Z</dcterms:modified>
  <cp:revision>467</cp:revision>
  <dc:subject/>
  <dc:title>Slide 1</dc:title>
</cp:coreProperties>
</file>