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C3D-7155-4C7A-A16C-4CB90441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7EE0-4E52-49FD-A77B-3FE6F052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C8B-0A49-40E8-8E73-3F3529A9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7D6-BED8-46BB-B35F-1135C672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891D-3908-46EC-9083-BFCF2D15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742A-76C0-45DD-B74D-0B0F8FD9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8F7-330C-495C-99E3-FC77CE1A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5872-51BA-4324-AEEE-14E7F71A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018-B348-4A2B-8577-BBE9C77A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8544-7B5F-43F4-B49B-FEB39CCA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BAD1-5D51-43A1-80CE-14DEE1D3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E1D6-966A-449B-8B02-640E779D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427D-F5AE-4400-9BEB-C962F26C7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01EB-3740-4530-B3AE-3EB35109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3C6-A2A1-4E77-833B-D954D353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30B3-EEF2-40FD-9601-2EDCEFBF6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0DE-3F04-46A8-A9FD-67F4D3738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F986-D12D-46D9-B562-8D2E9FC8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2C1-D7BD-4710-92B2-F4BDCB0CF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4DD5-910B-4FDA-8E2A-84C23072A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E774-94E7-4BBC-8C5A-A19ECF9F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6483-BDCE-4F0B-853E-62A7C1DF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3D26-284E-4441-B472-44B12ABF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IHOP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MAJ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SIX MILLION DOLL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FAIR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ILENT FILMS "ROBIN HOOD", "THE THIEF OF BAGDAD", AND "THE MARK OF ZOR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61800" y="76824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BETWEEN "BIRDIE" AND "BOGIE" IN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T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LARGEST ENDOWMENT PER CAPITA, MORE THAN $1.5 MILLION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R WALTER SCOTT NOVEL SET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NGLAND BECAME A FILM STARRING ROBERT TAYLOR AND ELIZABETH TAYL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33640" y="762120"/>
            <a:ext cx="68767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GEORGE WASHINGTON UNIVERSITY IN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WAS THE FIRST TO FLY SOLO AROUND THE MOON, AND THE FIRST TO COMMAND A SPACE SHUTTLE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SIX MILLION DOLL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CON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THE PRINCE OF TIDES", "THE GREAT SANTINI", AND "THE LORDS OF DISCIPLINE", ALL OF WHICH BECAME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90680" y="4343400"/>
            <a:ext cx="6362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ATIONAL  HOUSE  OF  PANC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IHOP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62080" y="4343400"/>
            <a:ext cx="681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EXITS  OF  I-4  IN  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ILENT FILMS "ROBIN HOOD", "THE THIEF OF BAGDAD", AND "THE MARK OF ZOR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BETWEEN "BIRDIE" AND "BOGIE" IN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LARGEST ENDOWMENT PER CAPITA, MORE THAN $1.5 MILLION PER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R WALTER SCOTT NOVEL SET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NGLAND BECAME A FILM STARRING ROBERT TAYLOR AND ELIZABETH TAYL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GEORGE WASHINGTON UNIVERSITY IN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WAS THE FIRST TO FLY SOLO AROUND THE MOON, AND THE FIRST TO COMMAND A SPACE SHUTTLE M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THE PRINCE OF TIDES", "THE GREAT SANTINI", AND "THE LORDS OF DISCIPLINE", ALL OF WHICH BECAME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1-24T18:05:23Z</dcterms:modified>
  <cp:revision>369</cp:revision>
  <dc:subject/>
  <dc:title>Slide 1</dc:title>
</cp:coreProperties>
</file>