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E4D3-D5A2-4334-B72D-16D167A1D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C40A-818D-4940-BE3B-9C3E5A8AE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A5AC-130B-4A94-A63D-EB072E66F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8E82B-D80A-41B4-953B-7DBC16684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C617C-E9CE-4934-AF51-616200BAE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2CAB-3063-4A38-B22C-B2764C0AB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4625-0414-4464-B6DE-B0B39072B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FB10-6D53-428C-A6A8-5E84ECD23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99D7-A5DB-4BEE-AE4F-88C10E5A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2975-2B8D-437F-86FB-F15757FA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C09D-0B25-4F0F-BFB9-BD9A5186F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D3F5-F4FF-4697-9D4C-F38618088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F2B6-4366-4446-89A4-D77CEAF09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4F9A-980A-4A23-A0F8-27CCAA80D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0645-5584-4C71-B207-D3657272E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8979-8C04-430B-A335-DE4AA7DD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967D-0190-45B4-8FDF-E5BB058A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EA11-47A1-438D-AA1C-3AB1C0BD2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C25D-9DAF-47BB-828D-F9A18E2A8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5191-7928-4DFD-90EB-781E5E2AD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D96E-98ED-43CE-A230-EF59E807D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F329-35CD-485B-9D7B-F37EB6975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7875-8965-4E8E-90A4-47DA15883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"IHOP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E  MAJ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THE SIX MILLION DOLLA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FAIRB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5160" y="762120"/>
            <a:ext cx="7753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SILENT FILMS "ROBIN HOOD", "THE THIEF OF BAGDAD", AND "THE MARK OF ZORR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61800" y="76824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S BETWEEN "BIRDIE" AND "BOGIE" IN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TO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HAS THE LARGEST ENDOWMENT PER CAPITA, MORE THAN $1.5 MILLION P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VANH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R WALTER SCOTT NOVEL SET IN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NGLAND BECAME A FILM STARRING ROBERT TAYLOR AND ELIZABETH TAYLO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33640" y="762120"/>
            <a:ext cx="687672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THLETIC TEAMS OF GEORGE WASHINGTON UNIVERSITY IN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AUT WAS THE FIRST TO FLY SOLO AROUND THE MOON, AND THE FIRST TO COMMAND A SPACE SHUTTLE MIS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THE SIX MILLION DOLLA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  CON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S "THE PRINCE OF TIDES", "THE GREAT SANTINI", AND "THE LORDS OF DISCIPLINE", ALL OF WHICH BECAME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90680" y="4343400"/>
            <a:ext cx="6362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RNATIONAL  HOUSE  OF  PANC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ACRONYM "IHOP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62080" y="4343400"/>
            <a:ext cx="6819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EXITS  OF  I-4  IN  ORL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SILENT FILMS "ROBIN HOOD", "THE THIEF OF BAGDAD", AND "THE MARK OF ZORR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1800" y="762120"/>
            <a:ext cx="842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S BETWEEN "BIRDIE" AND "BOGIE" IN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HAS THE LARGEST ENDOWMENT PER CAPITA, MORE THAN $1.5 MILLION PER STU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R WALTER SCOTT NOVEL SET IN 1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ENGLAND BECAME A FILM STARRING ROBERT TAYLOR AND ELIZABETH TAYLO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THLETIC TEAMS OF GEORGE WASHINGTON UNIVERSITY IN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AUT WAS THE FIRST TO FLY SOLO AROUND THE MOON, AND THE FIRST TO COMMAND A SPACE SHUTTLE MIS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S "THE PRINCE OF TIDES", "THE GREAT SANTINI", AND "THE LORDS OF DISCIPLINE", ALL OF WHICH BECAME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1-24T18:05:23Z</dcterms:modified>
  <cp:revision>369</cp:revision>
  <dc:subject/>
  <dc:title>Slide 1</dc:title>
</cp:coreProperties>
</file>