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63B8-A3DD-4BBC-BE3C-6FC23F154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0DDA-2C58-4D6C-8B6B-B1D670E06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0AAB-3E70-413F-A0FF-C1ECA4BE0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8AB5-B3AF-4477-A475-4440D1501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1C0E-3425-4D57-9D88-27DF9D85C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D7EC-CFAB-433E-96A0-4283E6F42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D2C0-34A4-4D5B-9011-D5C9407E6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23DB-E0A2-4C25-AD9C-3EA6014BB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14EC-35FE-49BC-9A20-F8FD4D9CA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B607-A0C0-4158-87CA-39039648D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86C9-D4EC-4323-97EF-BA540C7DD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3F76-2454-447E-B0DD-6F99F6D7C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FAC8-2C7E-4B44-AE24-F66A0C6BC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28D6-899E-4472-AD9B-E9E920BAF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6CF6-7395-4ABE-BFD6-BCB89AA67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04CF-B547-4679-A267-A0381344B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C837-754A-403A-9E47-C3CD39581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40BE-97AC-4BCE-9E4B-89A8A024A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4D88-7011-4EA9-8CBA-E1E297253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FA96-CCED-43CD-A74F-FCECEF290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B6CA-CF84-4A73-8F7E-A1B1E0789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93EE-17FF-47E2-8BD8-8B813AC5E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43C7-F031-42EF-AA97-C0677EC95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IR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86920" y="761760"/>
            <a:ext cx="8567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UGLAS MACARTHUR, MARK TWAIN, POPEYE, AND FROSTY THE SNOWMAN ALL SMOKED A PIPE WHOSE NAME CONSISTED OF WHAT 2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S  AND  STR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12920" y="762120"/>
            <a:ext cx="651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AILY NEWSPAPER REPORTING ON THE U.S. ARMED FO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MPKIN  &amp;  PE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88800" y="762120"/>
            <a:ext cx="8366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FLAVORS OF PIE, TOGETHER WITH APPLE,     ARE THE 3 MOST COMMON DESSERTS AT THANKSGI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SCUITS  &amp;  GR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1280" y="762120"/>
            <a:ext cx="900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COMMON CHEAP BREAKFAST IN THE SOUTH IN THE EARLY 1900'S, TRACED BACK TO THE REVOLUTIONARY WAR, WHAT DISH FIRST APPEARED IN   "THE JOY OF COOKING" IN 200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0" y="488952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S  &amp;  CARR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6720" y="774720"/>
            <a:ext cx="781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PAIR OF VEGETABLES SOLD IN CANS TOGE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  &amp; 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61800" y="762120"/>
            <a:ext cx="842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THE SHIP THAT BROUGHT PILGRIMS TO THE U.S. IN 1620 IS COMPRISED OF WHAT TWO SHORTER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  &amp;  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84040" y="762120"/>
            <a:ext cx="857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R OF FOODS IS NOW USED AS AN IDIOM FOR ANYTHING BASIC, ESPECIALLY IN REGARDS TO INC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NUT  BUTTER  &amp;  J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5280" y="762120"/>
            <a:ext cx="889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VORITE SANDWICH OF KI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11400" y="762120"/>
            <a:ext cx="6721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AILY NEWSPAPER REPORTING ON THE U.S. ARMED FOR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  &amp;  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57120" y="762120"/>
            <a:ext cx="8427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OPRAH'S FILM "BELOVED" FLOPPED, SHE REPORTEDLY BECAME DEPRESSED AND CONSUMED 30 POUNDS OF WHAT COMFORT F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  &amp;  C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44520" y="762120"/>
            <a:ext cx="8453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UGLAS MACARTHUR, MARK TWAIN, POPEYE, AND FROSTY THE SNOWMAN ALL SMOKED A PIPE WHOSE NAME CONSISTED OF WHAT 2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343400"/>
            <a:ext cx="8305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PARDONED  THANKSGIVING  TURK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0360" y="761760"/>
            <a:ext cx="842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FLAVORS OF PIE, TOGETHER WITH APPLE,     ARE THE 3 MOST COMMON DESSERTS AT THANKSGIV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762120"/>
            <a:ext cx="9107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COMMON CHEAP BREAKFAST IN THE SOUTH IN THE EARLY 1900'S, TRACED BACK TO THE REVOLUTIONARY WAR, WHAT DISH FIRST APPEARED IN   "THE JOY OF COOKING" IN 200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PAIR OF VEGETABLES SOLD IN CANS TOGE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3680" y="762120"/>
            <a:ext cx="857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THE SHIP THAT BROUGHT PILGRIMS TO THE U.S. IN 1620 IS COMPRISED OF WHAT TWO SHORTER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49120" y="761760"/>
            <a:ext cx="864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R OF FOODS IS NOW USED AS AN IDIOM FOR ANYTHING BASIC, ESPECIALLY IN REGARDS TO INCO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5000" y="761760"/>
            <a:ext cx="887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VORITE SANDWICH OF KI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66840" y="762120"/>
            <a:ext cx="840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OPRAH'S FILM "BELOVED" FLOPPED, SHE REPORTEDLY BECAME DEPRESSED AND CONSUMED 30 POUNDS OF WHAT COMFORT F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1-24T18:07:18Z</dcterms:modified>
  <cp:revision>515</cp:revision>
  <dc:subject/>
  <dc:title>Slide 1</dc:title>
</cp:coreProperties>
</file>