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AA7C-444B-4361-A3F1-D0D4D10A7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D1ED-4B53-47DD-880E-6AE35CAE2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0B2B-9DBF-4BD4-93C0-73CAFD83A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4D2C-EBF4-419B-AD0E-E7A2DD7BD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102B-5223-4E53-AFF1-02E33694D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96F3-8925-4745-AA50-7ABBA926A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AC89-6CD8-4986-AFE3-3E9401CF9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EE81-FF2A-450F-9ACF-36B1E60B7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7948-23E9-4093-B2DE-4FAAB7C27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353B-CAC9-46D1-B5FA-F9514D83A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08F3-FE68-4DA8-9582-87697FFDD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93DF-E703-4C6A-839A-CBD872D40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D578-E3A5-49DD-88FB-674DCC0F1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507F-EC26-4B22-AEE2-0E4C58A04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9152-3DA2-4F53-8218-6E2201625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B995-6215-4E54-85D1-BC99D51CC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25DA-146C-44A7-9319-76271ACA6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08C8-6C3D-46ED-BFD3-AC84373B9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43D5-0DD0-4B1C-A0EE-7E0923A1B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231C-4B1F-4D0B-8638-9E740CE52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8C8F-9199-496C-97B9-393ED57D2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9232-EDD6-4C7F-B45F-321DB3165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9CF7-0CEE-4C36-909C-EA6001E8E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IR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86920" y="761760"/>
            <a:ext cx="8567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UGLAS MACARTHUR, MARK TWAIN, POPEYE, AND FROSTY THE SNOWMAN ALL SMOKED A PIPE WHOSE NAME CONSISTED OF WHAT 2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S  AND  STR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12920" y="762120"/>
            <a:ext cx="651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AILY NEWSPAPER REPORTING ON THE U.S. ARMED FO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MPKIN  &amp;  PE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88800" y="762120"/>
            <a:ext cx="8366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FLAVORS OF PIE, TOGETHER WITH APPLE,     ARE THE 3 MOST COMMON DESSERTS AT THANKSGI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SCUITS  &amp;  GR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1280" y="762120"/>
            <a:ext cx="900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COMMON CHEAP BREAKFAST IN THE SOUTH IN THE EARLY 1900'S, TRACED BACK TO THE REVOLUTIONARY WAR, WHAT DISH FIRST APPEARED IN   "THE JOY OF COOKING" IN 200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0" y="488952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S  &amp;  CARR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6720" y="774720"/>
            <a:ext cx="781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PAIR OF VEGETABLES SOLD IN CANS TOGE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  &amp; 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61800" y="762120"/>
            <a:ext cx="842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THE SHIP THAT BROUGHT PILGRIMS TO THE U.S. IN 1620 IS COMPRISED OF WHAT TWO SHORTER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  &amp;  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84040" y="762120"/>
            <a:ext cx="857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R OF FOODS IS NOW USED AS AN IDIOM FOR ANYTHING BASIC, ESPECIALLY IN REGARDS TO INC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NUT  BUTTER  &amp;  J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5280" y="762120"/>
            <a:ext cx="889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VORITE SANDWICH OF KI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11400" y="762120"/>
            <a:ext cx="6721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AILY NEWSPAPER REPORTING ON THE U.S. ARMED FOR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  &amp;  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57120" y="762120"/>
            <a:ext cx="8427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OPRAH'S FILM "BELOVED" FLOPPED, SHE REPORTEDLY BECAME DEPRESSED AND CONSUMED 30 POUNDS OF WHAT COMFORT F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  &amp;  C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44520" y="762120"/>
            <a:ext cx="8453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UGLAS MACARTHUR, MARK TWAIN, POPEYE, AND FROSTY THE SNOWMAN ALL SMOKED A PIPE WHOSE NAME CONSISTED OF WHAT 2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343400"/>
            <a:ext cx="8305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PARDONED  THANKSGIVING  TURK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0360" y="761760"/>
            <a:ext cx="842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FLAVORS OF PIE, TOGETHER WITH APPLE,     ARE THE 3 MOST COMMON DESSERTS AT THANKSGIV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762120"/>
            <a:ext cx="91076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COMMON CHEAP BREAKFAST IN THE SOUTH IN THE EARLY 1900'S, TRACED BACK TO THE REVOLUTIONARY WAR, WHAT DISH FIRST APPEARED IN   "THE JOY OF COOKING" IN 2006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PAIR OF VEGETABLES SOLD IN CANS TOGE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3680" y="762120"/>
            <a:ext cx="857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THE SHIP THAT BROUGHT PILGRIMS TO THE U.S. IN 1620 IS COMPRISED OF WHAT TWO SHORTER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49120" y="761760"/>
            <a:ext cx="864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R OF FOODS IS NOW USED AS AN IDIOM FOR ANYTHING BASIC, ESPECIALLY IN REGARDS TO INCO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5000" y="761760"/>
            <a:ext cx="887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VORITE SANDWICH OF KI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66840" y="762120"/>
            <a:ext cx="840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OPRAH'S FILM "BELOVED" FLOPPED, SHE REPORTEDLY BECAME DEPRESSED AND CONSUMED 30 POUNDS OF WHAT COMFORT F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1-24T18:07:18Z</dcterms:modified>
  <cp:revision>515</cp:revision>
  <dc:subject/>
  <dc:title>Slide 1</dc:title>
</cp:coreProperties>
</file>